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20ED-CC3F-4CEF-88E5-28AAAE18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3217-40D6-4F8E-94C2-D388D0F3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E072-8CA5-4C06-8F1E-B768E811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6FD3-6E07-4283-9811-A85A6063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2915-DC2B-4390-B92A-65AF1780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91CD-379A-4FBD-AD1C-2382AFE3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F155-7908-4C9E-B9E8-A4DB63F2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AEB-EE9F-4993-BA42-E4DBBDE9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DCFD-7825-42BB-8238-11CADDA5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8024-7DD7-463D-BC2E-F33FDC23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1229-A12F-44A0-B2D3-D880C28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F23B-BD3B-4BA3-A54C-865A8976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8FD8-8CF8-4C6B-9206-A986A26B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2764-8103-4BF8-9B0F-DD75BCC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6293-8D07-44A3-8204-441C2C3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3302-4631-4C48-9C2D-C4BE3A50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754-7A96-4B79-BBD3-F31F15D7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207F-1B2E-4098-ADA9-F83DB0F2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6DE7-6EDE-4917-8441-EDBF980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BD5D-4764-4DD5-B04C-008182BE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91B9-198B-421D-864C-3BABFFFD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B2DB-117C-4C9B-9D00-21F0B09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0B53-B31E-48F3-AB7A-3A0DBCDF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7E2A-B9BC-4DAD-95FA-1A6FD8D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6237-AD3D-439E-801E-9B0C495F28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6605-E199-4A69-B54A-78CB834BA6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Tuesday, January 20th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uguration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C = 120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15 and B = 45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677880" y="1490760"/>
            <a:ext cx="1814400" cy="1724040"/>
          </a:xfrm>
          <a:custGeom>
            <a:avLst/>
            <a:gdLst/>
            <a:ahLst/>
            <a:rect l="l" t="t" r="r" b="b"/>
            <a:pathLst>
              <a:path w="5037" h="4789">
                <a:moveTo>
                  <a:pt x="2257" y="5953"/>
                </a:moveTo>
                <a:cubicBezTo>
                  <a:pt x="2254" y="5990"/>
                  <a:pt x="2235" y="6027"/>
                  <a:pt x="2232" y="6052"/>
                </a:cubicBezTo>
                <a:cubicBezTo>
                  <a:pt x="2219" y="6149"/>
                  <a:pt x="2217" y="6255"/>
                  <a:pt x="2208" y="6350"/>
                </a:cubicBezTo>
                <a:cubicBezTo>
                  <a:pt x="2197" y="6464"/>
                  <a:pt x="2191" y="6585"/>
                  <a:pt x="2183" y="6697"/>
                </a:cubicBezTo>
                <a:cubicBezTo>
                  <a:pt x="2171" y="6861"/>
                  <a:pt x="2176" y="7029"/>
                  <a:pt x="2158" y="7193"/>
                </a:cubicBezTo>
                <a:cubicBezTo>
                  <a:pt x="2133" y="7423"/>
                  <a:pt x="2089" y="7658"/>
                  <a:pt x="2059" y="7888"/>
                </a:cubicBezTo>
                <a:cubicBezTo>
                  <a:pt x="2037" y="8059"/>
                  <a:pt x="2012" y="8241"/>
                  <a:pt x="1984" y="8409"/>
                </a:cubicBezTo>
                <a:cubicBezTo>
                  <a:pt x="1964" y="8531"/>
                  <a:pt x="1943" y="8663"/>
                  <a:pt x="1910" y="8781"/>
                </a:cubicBezTo>
                <a:cubicBezTo>
                  <a:pt x="1896" y="8831"/>
                  <a:pt x="1897" y="8980"/>
                  <a:pt x="1885" y="8930"/>
                </a:cubicBezTo>
                <a:cubicBezTo>
                  <a:pt x="1870" y="8868"/>
                  <a:pt x="1897" y="8762"/>
                  <a:pt x="1910" y="8706"/>
                </a:cubicBezTo>
                <a:cubicBezTo>
                  <a:pt x="1918" y="8681"/>
                  <a:pt x="1927" y="8657"/>
                  <a:pt x="1935" y="8632"/>
                </a:cubicBezTo>
              </a:path>
              <a:path w="5037" h="4789">
                <a:moveTo>
                  <a:pt x="2208" y="5978"/>
                </a:moveTo>
                <a:cubicBezTo>
                  <a:pt x="2219" y="5971"/>
                  <a:pt x="2257" y="5943"/>
                  <a:pt x="2282" y="5928"/>
                </a:cubicBezTo>
                <a:cubicBezTo>
                  <a:pt x="2338" y="5895"/>
                  <a:pt x="2402" y="5866"/>
                  <a:pt x="2456" y="5829"/>
                </a:cubicBezTo>
                <a:cubicBezTo>
                  <a:pt x="2556" y="5760"/>
                  <a:pt x="2644" y="5714"/>
                  <a:pt x="2753" y="5655"/>
                </a:cubicBezTo>
                <a:cubicBezTo>
                  <a:pt x="2949" y="5549"/>
                  <a:pt x="3145" y="5450"/>
                  <a:pt x="3349" y="5358"/>
                </a:cubicBezTo>
                <a:cubicBezTo>
                  <a:pt x="3548" y="5269"/>
                  <a:pt x="3743" y="5168"/>
                  <a:pt x="3944" y="5085"/>
                </a:cubicBezTo>
                <a:cubicBezTo>
                  <a:pt x="4210" y="4974"/>
                  <a:pt x="4490" y="4882"/>
                  <a:pt x="4762" y="4787"/>
                </a:cubicBezTo>
                <a:cubicBezTo>
                  <a:pt x="4993" y="4707"/>
                  <a:pt x="5225" y="4639"/>
                  <a:pt x="5457" y="4564"/>
                </a:cubicBezTo>
                <a:cubicBezTo>
                  <a:pt x="5716" y="4480"/>
                  <a:pt x="5987" y="4433"/>
                  <a:pt x="6251" y="4366"/>
                </a:cubicBezTo>
                <a:cubicBezTo>
                  <a:pt x="6420" y="4323"/>
                  <a:pt x="6583" y="4271"/>
                  <a:pt x="6747" y="4217"/>
                </a:cubicBezTo>
                <a:cubicBezTo>
                  <a:pt x="6795" y="4201"/>
                  <a:pt x="6850" y="4180"/>
                  <a:pt x="6896" y="4167"/>
                </a:cubicBezTo>
                <a:cubicBezTo>
                  <a:pt x="6904" y="4167"/>
                  <a:pt x="6913" y="4167"/>
                  <a:pt x="6921" y="4167"/>
                </a:cubicBezTo>
                <a:cubicBezTo>
                  <a:pt x="6903" y="4199"/>
                  <a:pt x="6915" y="4185"/>
                  <a:pt x="6896" y="4217"/>
                </a:cubicBezTo>
                <a:cubicBezTo>
                  <a:pt x="6873" y="4257"/>
                  <a:pt x="6849" y="4301"/>
                  <a:pt x="6821" y="4341"/>
                </a:cubicBezTo>
                <a:cubicBezTo>
                  <a:pt x="6809" y="4358"/>
                  <a:pt x="6775" y="4408"/>
                  <a:pt x="6747" y="4440"/>
                </a:cubicBezTo>
                <a:cubicBezTo>
                  <a:pt x="6706" y="4487"/>
                  <a:pt x="6663" y="4523"/>
                  <a:pt x="6623" y="4564"/>
                </a:cubicBezTo>
                <a:cubicBezTo>
                  <a:pt x="6572" y="4617"/>
                  <a:pt x="6527" y="4690"/>
                  <a:pt x="6474" y="4738"/>
                </a:cubicBezTo>
                <a:cubicBezTo>
                  <a:pt x="6392" y="4812"/>
                  <a:pt x="6326" y="4883"/>
                  <a:pt x="6251" y="4961"/>
                </a:cubicBezTo>
                <a:cubicBezTo>
                  <a:pt x="6148" y="5069"/>
                  <a:pt x="6022" y="5162"/>
                  <a:pt x="5904" y="5259"/>
                </a:cubicBezTo>
                <a:cubicBezTo>
                  <a:pt x="5772" y="5367"/>
                  <a:pt x="5657" y="5490"/>
                  <a:pt x="5531" y="5606"/>
                </a:cubicBezTo>
                <a:cubicBezTo>
                  <a:pt x="5419" y="5709"/>
                  <a:pt x="5295" y="5800"/>
                  <a:pt x="5184" y="5904"/>
                </a:cubicBezTo>
                <a:cubicBezTo>
                  <a:pt x="5060" y="6020"/>
                  <a:pt x="4935" y="6134"/>
                  <a:pt x="4812" y="6251"/>
                </a:cubicBezTo>
                <a:cubicBezTo>
                  <a:pt x="4689" y="6368"/>
                  <a:pt x="4568" y="6484"/>
                  <a:pt x="4440" y="6598"/>
                </a:cubicBezTo>
                <a:cubicBezTo>
                  <a:pt x="4304" y="6719"/>
                  <a:pt x="4177" y="6847"/>
                  <a:pt x="4043" y="6970"/>
                </a:cubicBezTo>
                <a:cubicBezTo>
                  <a:pt x="3883" y="7117"/>
                  <a:pt x="3724" y="7265"/>
                  <a:pt x="3572" y="7417"/>
                </a:cubicBezTo>
                <a:cubicBezTo>
                  <a:pt x="3445" y="7544"/>
                  <a:pt x="3306" y="7645"/>
                  <a:pt x="3175" y="7764"/>
                </a:cubicBezTo>
                <a:cubicBezTo>
                  <a:pt x="3028" y="7898"/>
                  <a:pt x="2906" y="8052"/>
                  <a:pt x="2753" y="8186"/>
                </a:cubicBezTo>
                <a:cubicBezTo>
                  <a:pt x="2638" y="8286"/>
                  <a:pt x="2483" y="8374"/>
                  <a:pt x="2381" y="8483"/>
                </a:cubicBezTo>
                <a:cubicBezTo>
                  <a:pt x="2308" y="8561"/>
                  <a:pt x="2263" y="8634"/>
                  <a:pt x="2183" y="8706"/>
                </a:cubicBezTo>
                <a:cubicBezTo>
                  <a:pt x="2138" y="8746"/>
                  <a:pt x="2103" y="8770"/>
                  <a:pt x="2059" y="8806"/>
                </a:cubicBezTo>
                <a:cubicBezTo>
                  <a:pt x="2027" y="8832"/>
                  <a:pt x="2004" y="8864"/>
                  <a:pt x="1984" y="8880"/>
                </a:cubicBezTo>
                <a:cubicBezTo>
                  <a:pt x="1955" y="8903"/>
                  <a:pt x="1936" y="8907"/>
                  <a:pt x="1910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5080" y="4697280"/>
            <a:ext cx="2170080" cy="758880"/>
          </a:xfrm>
          <a:custGeom>
            <a:avLst/>
            <a:gdLst/>
            <a:ahLst/>
            <a:rect l="l" t="t" r="r" b="b"/>
            <a:pathLst>
              <a:path w="6028" h="2110">
                <a:moveTo>
                  <a:pt x="9748" y="13097"/>
                </a:moveTo>
                <a:cubicBezTo>
                  <a:pt x="9848" y="13067"/>
                  <a:pt x="9892" y="13050"/>
                  <a:pt x="9996" y="13047"/>
                </a:cubicBezTo>
                <a:cubicBezTo>
                  <a:pt x="10199" y="13041"/>
                  <a:pt x="10393" y="13063"/>
                  <a:pt x="10592" y="13072"/>
                </a:cubicBezTo>
                <a:cubicBezTo>
                  <a:pt x="10751" y="13079"/>
                  <a:pt x="10906" y="13080"/>
                  <a:pt x="11063" y="13097"/>
                </a:cubicBezTo>
                <a:cubicBezTo>
                  <a:pt x="11236" y="13115"/>
                  <a:pt x="11412" y="13126"/>
                  <a:pt x="11584" y="13146"/>
                </a:cubicBezTo>
                <a:cubicBezTo>
                  <a:pt x="11832" y="13175"/>
                  <a:pt x="12080" y="13149"/>
                  <a:pt x="12328" y="13171"/>
                </a:cubicBezTo>
                <a:cubicBezTo>
                  <a:pt x="12520" y="13188"/>
                  <a:pt x="12704" y="13196"/>
                  <a:pt x="12898" y="13196"/>
                </a:cubicBezTo>
                <a:cubicBezTo>
                  <a:pt x="13066" y="13196"/>
                  <a:pt x="13228" y="13213"/>
                  <a:pt x="13395" y="13221"/>
                </a:cubicBezTo>
                <a:cubicBezTo>
                  <a:pt x="13543" y="13228"/>
                  <a:pt x="13696" y="13239"/>
                  <a:pt x="13841" y="13246"/>
                </a:cubicBezTo>
                <a:cubicBezTo>
                  <a:pt x="13982" y="13253"/>
                  <a:pt x="14127" y="13264"/>
                  <a:pt x="14263" y="13271"/>
                </a:cubicBezTo>
                <a:cubicBezTo>
                  <a:pt x="14343" y="13275"/>
                  <a:pt x="14419" y="13282"/>
                  <a:pt x="14486" y="13295"/>
                </a:cubicBezTo>
                <a:cubicBezTo>
                  <a:pt x="14539" y="13305"/>
                  <a:pt x="14532" y="13298"/>
                  <a:pt x="14560" y="13320"/>
                </a:cubicBezTo>
                <a:cubicBezTo>
                  <a:pt x="14592" y="13345"/>
                  <a:pt x="14614" y="13350"/>
                  <a:pt x="14635" y="13395"/>
                </a:cubicBezTo>
                <a:cubicBezTo>
                  <a:pt x="14653" y="13434"/>
                  <a:pt x="14652" y="13501"/>
                  <a:pt x="14660" y="13543"/>
                </a:cubicBezTo>
                <a:cubicBezTo>
                  <a:pt x="14676" y="13623"/>
                  <a:pt x="14672" y="13711"/>
                  <a:pt x="14684" y="13791"/>
                </a:cubicBezTo>
                <a:cubicBezTo>
                  <a:pt x="14700" y="13903"/>
                  <a:pt x="14712" y="14029"/>
                  <a:pt x="14734" y="14139"/>
                </a:cubicBezTo>
                <a:cubicBezTo>
                  <a:pt x="14759" y="14265"/>
                  <a:pt x="14781" y="14388"/>
                  <a:pt x="14808" y="14511"/>
                </a:cubicBezTo>
                <a:cubicBezTo>
                  <a:pt x="14833" y="14628"/>
                  <a:pt x="14864" y="14742"/>
                  <a:pt x="14883" y="14858"/>
                </a:cubicBezTo>
                <a:cubicBezTo>
                  <a:pt x="14896" y="14939"/>
                  <a:pt x="14919" y="15035"/>
                  <a:pt x="14932" y="15106"/>
                </a:cubicBezTo>
                <a:cubicBezTo>
                  <a:pt x="14932" y="15131"/>
                  <a:pt x="14932" y="15139"/>
                  <a:pt x="14932" y="15156"/>
                </a:cubicBezTo>
                <a:cubicBezTo>
                  <a:pt x="14916" y="15148"/>
                  <a:pt x="14888" y="15108"/>
                  <a:pt x="14883" y="15106"/>
                </a:cubicBezTo>
                <a:cubicBezTo>
                  <a:pt x="14853" y="15097"/>
                  <a:pt x="14783" y="15081"/>
                  <a:pt x="14759" y="15081"/>
                </a:cubicBezTo>
                <a:cubicBezTo>
                  <a:pt x="14734" y="15081"/>
                  <a:pt x="14684" y="15098"/>
                  <a:pt x="14635" y="15106"/>
                </a:cubicBezTo>
                <a:cubicBezTo>
                  <a:pt x="14591" y="15113"/>
                  <a:pt x="14557" y="15127"/>
                  <a:pt x="14511" y="15131"/>
                </a:cubicBezTo>
                <a:cubicBezTo>
                  <a:pt x="14307" y="15148"/>
                  <a:pt x="14112" y="15109"/>
                  <a:pt x="13915" y="15081"/>
                </a:cubicBezTo>
                <a:cubicBezTo>
                  <a:pt x="13774" y="15061"/>
                  <a:pt x="13636" y="15026"/>
                  <a:pt x="13494" y="15007"/>
                </a:cubicBezTo>
                <a:cubicBezTo>
                  <a:pt x="13264" y="14976"/>
                  <a:pt x="13031" y="14943"/>
                  <a:pt x="12799" y="14908"/>
                </a:cubicBezTo>
                <a:cubicBezTo>
                  <a:pt x="12527" y="14867"/>
                  <a:pt x="12269" y="14784"/>
                  <a:pt x="12005" y="14709"/>
                </a:cubicBezTo>
                <a:cubicBezTo>
                  <a:pt x="11628" y="14601"/>
                  <a:pt x="11230" y="14526"/>
                  <a:pt x="10840" y="14486"/>
                </a:cubicBezTo>
                <a:cubicBezTo>
                  <a:pt x="10325" y="14433"/>
                  <a:pt x="9817" y="14435"/>
                  <a:pt x="9302" y="14486"/>
                </a:cubicBezTo>
                <a:cubicBezTo>
                  <a:pt x="9170" y="14503"/>
                  <a:pt x="9037" y="14519"/>
                  <a:pt x="8905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84240" y="1625760"/>
            <a:ext cx="295560" cy="285480"/>
          </a:xfrm>
          <a:custGeom>
            <a:avLst/>
            <a:gdLst/>
            <a:ahLst/>
            <a:rect l="l" t="t" r="r" b="b"/>
            <a:pathLst>
              <a:path w="819" h="795">
                <a:moveTo>
                  <a:pt x="5259" y="4862"/>
                </a:moveTo>
                <a:cubicBezTo>
                  <a:pt x="5251" y="4862"/>
                  <a:pt x="5242" y="4862"/>
                  <a:pt x="5234" y="4862"/>
                </a:cubicBezTo>
                <a:cubicBezTo>
                  <a:pt x="5234" y="4938"/>
                  <a:pt x="5240" y="4996"/>
                  <a:pt x="5259" y="5060"/>
                </a:cubicBezTo>
                <a:cubicBezTo>
                  <a:pt x="5274" y="5108"/>
                  <a:pt x="5248" y="5120"/>
                  <a:pt x="5308" y="5135"/>
                </a:cubicBezTo>
                <a:cubicBezTo>
                  <a:pt x="5321" y="5095"/>
                  <a:pt x="5345" y="5120"/>
                  <a:pt x="5383" y="5085"/>
                </a:cubicBezTo>
                <a:cubicBezTo>
                  <a:pt x="5418" y="5053"/>
                  <a:pt x="5436" y="5060"/>
                  <a:pt x="5482" y="5060"/>
                </a:cubicBezTo>
                <a:cubicBezTo>
                  <a:pt x="5530" y="5060"/>
                  <a:pt x="5543" y="5064"/>
                  <a:pt x="5581" y="5035"/>
                </a:cubicBezTo>
              </a:path>
              <a:path w="819" h="795">
                <a:moveTo>
                  <a:pt x="5457" y="4762"/>
                </a:moveTo>
                <a:cubicBezTo>
                  <a:pt x="5457" y="4813"/>
                  <a:pt x="5468" y="4821"/>
                  <a:pt x="5482" y="4862"/>
                </a:cubicBezTo>
                <a:cubicBezTo>
                  <a:pt x="5497" y="4907"/>
                  <a:pt x="5499" y="4997"/>
                  <a:pt x="5507" y="5035"/>
                </a:cubicBezTo>
                <a:cubicBezTo>
                  <a:pt x="5523" y="5115"/>
                  <a:pt x="5507" y="5187"/>
                  <a:pt x="5531" y="5259"/>
                </a:cubicBezTo>
                <a:cubicBezTo>
                  <a:pt x="5531" y="5287"/>
                  <a:pt x="5534" y="5297"/>
                  <a:pt x="5556" y="5308"/>
                </a:cubicBezTo>
                <a:cubicBezTo>
                  <a:pt x="5569" y="5269"/>
                  <a:pt x="5568" y="5298"/>
                  <a:pt x="5581" y="5259"/>
                </a:cubicBezTo>
              </a:path>
              <a:path w="819" h="795">
                <a:moveTo>
                  <a:pt x="5655" y="4738"/>
                </a:moveTo>
                <a:cubicBezTo>
                  <a:pt x="5647" y="4730"/>
                  <a:pt x="5639" y="4721"/>
                  <a:pt x="5631" y="4713"/>
                </a:cubicBezTo>
                <a:cubicBezTo>
                  <a:pt x="5631" y="4782"/>
                  <a:pt x="5636" y="4829"/>
                  <a:pt x="5655" y="4887"/>
                </a:cubicBezTo>
                <a:cubicBezTo>
                  <a:pt x="5655" y="4895"/>
                  <a:pt x="5655" y="4903"/>
                  <a:pt x="5655" y="4911"/>
                </a:cubicBezTo>
                <a:cubicBezTo>
                  <a:pt x="5689" y="4900"/>
                  <a:pt x="5685" y="4872"/>
                  <a:pt x="5705" y="4862"/>
                </a:cubicBezTo>
                <a:cubicBezTo>
                  <a:pt x="5730" y="4850"/>
                  <a:pt x="5771" y="4816"/>
                  <a:pt x="5779" y="4812"/>
                </a:cubicBezTo>
                <a:cubicBezTo>
                  <a:pt x="5813" y="4795"/>
                  <a:pt x="5857" y="4817"/>
                  <a:pt x="5879" y="4837"/>
                </a:cubicBezTo>
                <a:cubicBezTo>
                  <a:pt x="5901" y="4857"/>
                  <a:pt x="5901" y="4866"/>
                  <a:pt x="5904" y="4911"/>
                </a:cubicBezTo>
                <a:cubicBezTo>
                  <a:pt x="5908" y="4961"/>
                  <a:pt x="5885" y="5000"/>
                  <a:pt x="5854" y="5035"/>
                </a:cubicBezTo>
                <a:cubicBezTo>
                  <a:pt x="5831" y="5061"/>
                  <a:pt x="5802" y="5082"/>
                  <a:pt x="5779" y="5085"/>
                </a:cubicBezTo>
                <a:cubicBezTo>
                  <a:pt x="5742" y="5090"/>
                  <a:pt x="5708" y="5097"/>
                  <a:pt x="5705" y="5060"/>
                </a:cubicBezTo>
                <a:cubicBezTo>
                  <a:pt x="5705" y="5044"/>
                  <a:pt x="5705" y="5027"/>
                  <a:pt x="5705" y="5011"/>
                </a:cubicBezTo>
              </a:path>
              <a:path w="819" h="795">
                <a:moveTo>
                  <a:pt x="5655" y="4663"/>
                </a:moveTo>
                <a:cubicBezTo>
                  <a:pt x="5663" y="4663"/>
                  <a:pt x="5672" y="4663"/>
                  <a:pt x="5680" y="4663"/>
                </a:cubicBezTo>
                <a:cubicBezTo>
                  <a:pt x="5693" y="4625"/>
                  <a:pt x="5710" y="4638"/>
                  <a:pt x="5755" y="4638"/>
                </a:cubicBezTo>
                <a:cubicBezTo>
                  <a:pt x="5783" y="4638"/>
                  <a:pt x="5793" y="4636"/>
                  <a:pt x="5804" y="4614"/>
                </a:cubicBezTo>
              </a:path>
              <a:path w="819" h="795">
                <a:moveTo>
                  <a:pt x="5953" y="4539"/>
                </a:moveTo>
                <a:cubicBezTo>
                  <a:pt x="5953" y="4514"/>
                  <a:pt x="5953" y="4506"/>
                  <a:pt x="5928" y="4514"/>
                </a:cubicBezTo>
              </a:path>
              <a:path w="819" h="795">
                <a:moveTo>
                  <a:pt x="5928" y="4663"/>
                </a:moveTo>
                <a:cubicBezTo>
                  <a:pt x="5953" y="4663"/>
                  <a:pt x="5978" y="4663"/>
                  <a:pt x="6003" y="4663"/>
                </a:cubicBezTo>
                <a:cubicBezTo>
                  <a:pt x="6013" y="4624"/>
                  <a:pt x="6040" y="4601"/>
                  <a:pt x="6052" y="4564"/>
                </a:cubicBezTo>
                <a:cubicBezTo>
                  <a:pt x="6068" y="4513"/>
                  <a:pt x="6042" y="4514"/>
                  <a:pt x="6003" y="45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320" y="1758960"/>
            <a:ext cx="1285920" cy="1000080"/>
          </a:xfrm>
          <a:custGeom>
            <a:avLst/>
            <a:gdLst/>
            <a:ahLst/>
            <a:rect l="l" t="t" r="r" b="b"/>
            <a:pathLst>
              <a:path w="3573" h="2779">
                <a:moveTo>
                  <a:pt x="1960" y="4911"/>
                </a:moveTo>
                <a:cubicBezTo>
                  <a:pt x="1965" y="4928"/>
                  <a:pt x="1982" y="4972"/>
                  <a:pt x="2009" y="4986"/>
                </a:cubicBezTo>
                <a:cubicBezTo>
                  <a:pt x="2017" y="4986"/>
                  <a:pt x="2026" y="4986"/>
                  <a:pt x="2034" y="4986"/>
                </a:cubicBezTo>
                <a:cubicBezTo>
                  <a:pt x="2015" y="4967"/>
                  <a:pt x="1966" y="4914"/>
                  <a:pt x="1960" y="4911"/>
                </a:cubicBezTo>
                <a:cubicBezTo>
                  <a:pt x="1941" y="4901"/>
                  <a:pt x="1887" y="4872"/>
                  <a:pt x="1860" y="4887"/>
                </a:cubicBezTo>
                <a:cubicBezTo>
                  <a:pt x="1804" y="4918"/>
                  <a:pt x="1800" y="4961"/>
                  <a:pt x="1786" y="5011"/>
                </a:cubicBezTo>
                <a:cubicBezTo>
                  <a:pt x="1757" y="5115"/>
                  <a:pt x="1736" y="5172"/>
                  <a:pt x="1736" y="5283"/>
                </a:cubicBezTo>
                <a:cubicBezTo>
                  <a:pt x="1736" y="5390"/>
                  <a:pt x="1717" y="5508"/>
                  <a:pt x="1761" y="5606"/>
                </a:cubicBezTo>
                <a:cubicBezTo>
                  <a:pt x="1774" y="5635"/>
                  <a:pt x="1824" y="5720"/>
                  <a:pt x="1860" y="5730"/>
                </a:cubicBezTo>
                <a:cubicBezTo>
                  <a:pt x="1921" y="5748"/>
                  <a:pt x="1987" y="5685"/>
                  <a:pt x="2034" y="5655"/>
                </a:cubicBezTo>
                <a:cubicBezTo>
                  <a:pt x="2099" y="5614"/>
                  <a:pt x="2176" y="5581"/>
                  <a:pt x="2232" y="5531"/>
                </a:cubicBezTo>
                <a:cubicBezTo>
                  <a:pt x="2254" y="5511"/>
                  <a:pt x="2296" y="5440"/>
                  <a:pt x="2307" y="5432"/>
                </a:cubicBezTo>
                <a:cubicBezTo>
                  <a:pt x="2340" y="5410"/>
                  <a:pt x="2322" y="5417"/>
                  <a:pt x="2282" y="5407"/>
                </a:cubicBezTo>
              </a:path>
              <a:path w="3573" h="2779">
                <a:moveTo>
                  <a:pt x="2480" y="6028"/>
                </a:moveTo>
                <a:cubicBezTo>
                  <a:pt x="2490" y="6067"/>
                  <a:pt x="2505" y="6082"/>
                  <a:pt x="2505" y="6127"/>
                </a:cubicBezTo>
                <a:cubicBezTo>
                  <a:pt x="2505" y="6198"/>
                  <a:pt x="2526" y="6236"/>
                  <a:pt x="2530" y="6300"/>
                </a:cubicBezTo>
                <a:cubicBezTo>
                  <a:pt x="2533" y="6356"/>
                  <a:pt x="2550" y="6377"/>
                  <a:pt x="2555" y="6424"/>
                </a:cubicBezTo>
                <a:cubicBezTo>
                  <a:pt x="2555" y="6449"/>
                  <a:pt x="2555" y="6457"/>
                  <a:pt x="2555" y="6474"/>
                </a:cubicBezTo>
              </a:path>
              <a:path w="3573" h="2779">
                <a:moveTo>
                  <a:pt x="3150" y="6325"/>
                </a:moveTo>
                <a:cubicBezTo>
                  <a:pt x="3117" y="6325"/>
                  <a:pt x="3084" y="6325"/>
                  <a:pt x="3051" y="6325"/>
                </a:cubicBezTo>
              </a:path>
              <a:path w="3573" h="2779">
                <a:moveTo>
                  <a:pt x="2927" y="6424"/>
                </a:moveTo>
                <a:cubicBezTo>
                  <a:pt x="2904" y="6447"/>
                  <a:pt x="2896" y="6451"/>
                  <a:pt x="2902" y="6474"/>
                </a:cubicBezTo>
                <a:cubicBezTo>
                  <a:pt x="2953" y="6474"/>
                  <a:pt x="2984" y="6486"/>
                  <a:pt x="3001" y="6449"/>
                </a:cubicBezTo>
                <a:cubicBezTo>
                  <a:pt x="3032" y="6381"/>
                  <a:pt x="3073" y="6355"/>
                  <a:pt x="3076" y="6276"/>
                </a:cubicBezTo>
                <a:cubicBezTo>
                  <a:pt x="3079" y="6201"/>
                  <a:pt x="3074" y="6120"/>
                  <a:pt x="3051" y="6052"/>
                </a:cubicBezTo>
                <a:cubicBezTo>
                  <a:pt x="3033" y="6000"/>
                  <a:pt x="2976" y="5948"/>
                  <a:pt x="2927" y="5928"/>
                </a:cubicBezTo>
                <a:cubicBezTo>
                  <a:pt x="2893" y="5914"/>
                  <a:pt x="2869" y="5904"/>
                  <a:pt x="2828" y="5904"/>
                </a:cubicBezTo>
                <a:cubicBezTo>
                  <a:pt x="2801" y="5904"/>
                  <a:pt x="2781" y="5928"/>
                  <a:pt x="2778" y="5953"/>
                </a:cubicBezTo>
                <a:cubicBezTo>
                  <a:pt x="2778" y="5986"/>
                  <a:pt x="2786" y="5995"/>
                  <a:pt x="2828" y="5978"/>
                </a:cubicBezTo>
              </a:path>
              <a:path w="3573" h="2779">
                <a:moveTo>
                  <a:pt x="3497" y="6176"/>
                </a:moveTo>
                <a:cubicBezTo>
                  <a:pt x="3563" y="6261"/>
                  <a:pt x="3618" y="6337"/>
                  <a:pt x="3696" y="6400"/>
                </a:cubicBezTo>
                <a:cubicBezTo>
                  <a:pt x="3765" y="6457"/>
                  <a:pt x="3818" y="6417"/>
                  <a:pt x="3870" y="6350"/>
                </a:cubicBezTo>
                <a:cubicBezTo>
                  <a:pt x="3914" y="6293"/>
                  <a:pt x="3916" y="6170"/>
                  <a:pt x="3919" y="6102"/>
                </a:cubicBezTo>
                <a:cubicBezTo>
                  <a:pt x="3923" y="6006"/>
                  <a:pt x="3887" y="5937"/>
                  <a:pt x="3845" y="5854"/>
                </a:cubicBezTo>
                <a:cubicBezTo>
                  <a:pt x="3804" y="5771"/>
                  <a:pt x="3750" y="5745"/>
                  <a:pt x="3671" y="5705"/>
                </a:cubicBezTo>
                <a:cubicBezTo>
                  <a:pt x="3586" y="5662"/>
                  <a:pt x="3581" y="5668"/>
                  <a:pt x="3497" y="5680"/>
                </a:cubicBezTo>
              </a:path>
              <a:path w="3573" h="2779">
                <a:moveTo>
                  <a:pt x="3423" y="5779"/>
                </a:moveTo>
                <a:cubicBezTo>
                  <a:pt x="3394" y="5817"/>
                  <a:pt x="3398" y="5830"/>
                  <a:pt x="3398" y="5879"/>
                </a:cubicBezTo>
                <a:cubicBezTo>
                  <a:pt x="3398" y="5970"/>
                  <a:pt x="3400" y="6049"/>
                  <a:pt x="3423" y="6127"/>
                </a:cubicBezTo>
                <a:cubicBezTo>
                  <a:pt x="3437" y="6175"/>
                  <a:pt x="3446" y="6176"/>
                  <a:pt x="3497" y="6176"/>
                </a:cubicBezTo>
              </a:path>
              <a:path w="3573" h="2779">
                <a:moveTo>
                  <a:pt x="4341" y="7193"/>
                </a:moveTo>
                <a:cubicBezTo>
                  <a:pt x="4367" y="7228"/>
                  <a:pt x="4374" y="7255"/>
                  <a:pt x="4390" y="7293"/>
                </a:cubicBezTo>
                <a:cubicBezTo>
                  <a:pt x="4417" y="7355"/>
                  <a:pt x="4413" y="7433"/>
                  <a:pt x="4440" y="7491"/>
                </a:cubicBezTo>
                <a:cubicBezTo>
                  <a:pt x="4458" y="7529"/>
                  <a:pt x="4468" y="7581"/>
                  <a:pt x="4490" y="7615"/>
                </a:cubicBezTo>
                <a:cubicBezTo>
                  <a:pt x="4512" y="7638"/>
                  <a:pt x="4520" y="7643"/>
                  <a:pt x="4514" y="7665"/>
                </a:cubicBezTo>
              </a:path>
              <a:path w="3573" h="2779">
                <a:moveTo>
                  <a:pt x="4837" y="6896"/>
                </a:moveTo>
                <a:cubicBezTo>
                  <a:pt x="4743" y="6909"/>
                  <a:pt x="4799" y="6928"/>
                  <a:pt x="4738" y="6970"/>
                </a:cubicBezTo>
                <a:cubicBezTo>
                  <a:pt x="4664" y="7022"/>
                  <a:pt x="4683" y="7049"/>
                  <a:pt x="4638" y="7119"/>
                </a:cubicBezTo>
                <a:cubicBezTo>
                  <a:pt x="4611" y="7147"/>
                  <a:pt x="4603" y="7161"/>
                  <a:pt x="4614" y="7193"/>
                </a:cubicBezTo>
                <a:cubicBezTo>
                  <a:pt x="4673" y="7193"/>
                  <a:pt x="4709" y="7170"/>
                  <a:pt x="4762" y="7144"/>
                </a:cubicBezTo>
                <a:cubicBezTo>
                  <a:pt x="4815" y="7118"/>
                  <a:pt x="4903" y="7082"/>
                  <a:pt x="4961" y="7069"/>
                </a:cubicBezTo>
                <a:cubicBezTo>
                  <a:pt x="5026" y="7055"/>
                  <a:pt x="5136" y="7068"/>
                  <a:pt x="5159" y="7119"/>
                </a:cubicBezTo>
                <a:cubicBezTo>
                  <a:pt x="5190" y="7189"/>
                  <a:pt x="5141" y="7242"/>
                  <a:pt x="5110" y="7293"/>
                </a:cubicBezTo>
                <a:cubicBezTo>
                  <a:pt x="5075" y="7351"/>
                  <a:pt x="5049" y="7393"/>
                  <a:pt x="5011" y="7441"/>
                </a:cubicBezTo>
                <a:cubicBezTo>
                  <a:pt x="4988" y="7464"/>
                  <a:pt x="4984" y="7472"/>
                  <a:pt x="4961" y="7466"/>
                </a:cubicBezTo>
              </a:path>
              <a:path w="3573" h="2779">
                <a:moveTo>
                  <a:pt x="4787" y="6970"/>
                </a:moveTo>
                <a:cubicBezTo>
                  <a:pt x="4806" y="6927"/>
                  <a:pt x="4826" y="6853"/>
                  <a:pt x="4862" y="6821"/>
                </a:cubicBezTo>
                <a:cubicBezTo>
                  <a:pt x="4906" y="6783"/>
                  <a:pt x="4993" y="6697"/>
                  <a:pt x="5035" y="6672"/>
                </a:cubicBezTo>
                <a:cubicBezTo>
                  <a:pt x="5095" y="6636"/>
                  <a:pt x="5187" y="6564"/>
                  <a:pt x="5259" y="6548"/>
                </a:cubicBezTo>
                <a:cubicBezTo>
                  <a:pt x="5275" y="6548"/>
                  <a:pt x="5292" y="6548"/>
                  <a:pt x="5308" y="6548"/>
                </a:cubicBezTo>
              </a:path>
              <a:path w="3573" h="2779">
                <a:moveTo>
                  <a:pt x="3770" y="5432"/>
                </a:moveTo>
                <a:cubicBezTo>
                  <a:pt x="3753" y="5436"/>
                  <a:pt x="3683" y="5476"/>
                  <a:pt x="3721" y="5507"/>
                </a:cubicBezTo>
                <a:cubicBezTo>
                  <a:pt x="3740" y="5522"/>
                  <a:pt x="3745" y="5523"/>
                  <a:pt x="3770" y="5531"/>
                </a:cubicBezTo>
                <a:cubicBezTo>
                  <a:pt x="3800" y="5521"/>
                  <a:pt x="3812" y="5511"/>
                  <a:pt x="3845" y="5482"/>
                </a:cubicBezTo>
                <a:cubicBezTo>
                  <a:pt x="3882" y="5449"/>
                  <a:pt x="3868" y="5417"/>
                  <a:pt x="3845" y="5383"/>
                </a:cubicBezTo>
                <a:cubicBezTo>
                  <a:pt x="3809" y="5329"/>
                  <a:pt x="3780" y="5367"/>
                  <a:pt x="3770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0000" y="2081160"/>
            <a:ext cx="1884240" cy="830160"/>
          </a:xfrm>
          <a:custGeom>
            <a:avLst/>
            <a:gdLst/>
            <a:ahLst/>
            <a:rect l="l" t="t" r="r" b="b"/>
            <a:pathLst>
              <a:path w="5235" h="2308">
                <a:moveTo>
                  <a:pt x="10096" y="6350"/>
                </a:moveTo>
                <a:cubicBezTo>
                  <a:pt x="10096" y="6307"/>
                  <a:pt x="10091" y="6290"/>
                  <a:pt x="10046" y="6276"/>
                </a:cubicBezTo>
                <a:cubicBezTo>
                  <a:pt x="10004" y="6262"/>
                  <a:pt x="9984" y="6296"/>
                  <a:pt x="9947" y="6300"/>
                </a:cubicBezTo>
                <a:cubicBezTo>
                  <a:pt x="9919" y="6303"/>
                  <a:pt x="9876" y="6315"/>
                  <a:pt x="9847" y="6325"/>
                </a:cubicBezTo>
                <a:cubicBezTo>
                  <a:pt x="9818" y="6336"/>
                  <a:pt x="9754" y="6362"/>
                  <a:pt x="9748" y="6375"/>
                </a:cubicBezTo>
                <a:cubicBezTo>
                  <a:pt x="9748" y="6383"/>
                  <a:pt x="9748" y="6392"/>
                  <a:pt x="9748" y="6400"/>
                </a:cubicBezTo>
                <a:cubicBezTo>
                  <a:pt x="9786" y="6427"/>
                  <a:pt x="9800" y="6424"/>
                  <a:pt x="9847" y="6424"/>
                </a:cubicBezTo>
                <a:cubicBezTo>
                  <a:pt x="9904" y="6424"/>
                  <a:pt x="9969" y="6471"/>
                  <a:pt x="10021" y="6499"/>
                </a:cubicBezTo>
                <a:cubicBezTo>
                  <a:pt x="10107" y="6544"/>
                  <a:pt x="10085" y="6552"/>
                  <a:pt x="10120" y="6623"/>
                </a:cubicBezTo>
                <a:cubicBezTo>
                  <a:pt x="10142" y="6667"/>
                  <a:pt x="10150" y="6676"/>
                  <a:pt x="10120" y="6722"/>
                </a:cubicBezTo>
                <a:cubicBezTo>
                  <a:pt x="10091" y="6768"/>
                  <a:pt x="10083" y="6800"/>
                  <a:pt x="10021" y="6821"/>
                </a:cubicBezTo>
                <a:cubicBezTo>
                  <a:pt x="9979" y="6835"/>
                  <a:pt x="9771" y="6842"/>
                  <a:pt x="9748" y="6796"/>
                </a:cubicBezTo>
                <a:cubicBezTo>
                  <a:pt x="9748" y="6768"/>
                  <a:pt x="9751" y="6758"/>
                  <a:pt x="9773" y="6747"/>
                </a:cubicBezTo>
              </a:path>
              <a:path w="5235" h="2308">
                <a:moveTo>
                  <a:pt x="10418" y="6375"/>
                </a:moveTo>
                <a:cubicBezTo>
                  <a:pt x="10401" y="6468"/>
                  <a:pt x="10375" y="6558"/>
                  <a:pt x="10368" y="6648"/>
                </a:cubicBezTo>
                <a:cubicBezTo>
                  <a:pt x="10364" y="6696"/>
                  <a:pt x="10365" y="6695"/>
                  <a:pt x="10344" y="6747"/>
                </a:cubicBezTo>
                <a:cubicBezTo>
                  <a:pt x="10344" y="6706"/>
                  <a:pt x="10344" y="6664"/>
                  <a:pt x="10344" y="6623"/>
                </a:cubicBezTo>
              </a:path>
              <a:path w="5235" h="2308">
                <a:moveTo>
                  <a:pt x="10443" y="6152"/>
                </a:moveTo>
                <a:cubicBezTo>
                  <a:pt x="10451" y="6144"/>
                  <a:pt x="10460" y="6135"/>
                  <a:pt x="10468" y="6127"/>
                </a:cubicBezTo>
              </a:path>
              <a:path w="5235" h="2308">
                <a:moveTo>
                  <a:pt x="10641" y="6573"/>
                </a:moveTo>
                <a:cubicBezTo>
                  <a:pt x="10625" y="6644"/>
                  <a:pt x="10616" y="6662"/>
                  <a:pt x="10616" y="6722"/>
                </a:cubicBezTo>
                <a:cubicBezTo>
                  <a:pt x="10616" y="6671"/>
                  <a:pt x="10627" y="6664"/>
                  <a:pt x="10641" y="6623"/>
                </a:cubicBezTo>
                <a:cubicBezTo>
                  <a:pt x="10667" y="6547"/>
                  <a:pt x="10690" y="6456"/>
                  <a:pt x="10716" y="6375"/>
                </a:cubicBezTo>
                <a:cubicBezTo>
                  <a:pt x="10737" y="6309"/>
                  <a:pt x="10741" y="6294"/>
                  <a:pt x="10815" y="6276"/>
                </a:cubicBezTo>
                <a:cubicBezTo>
                  <a:pt x="10875" y="6262"/>
                  <a:pt x="10890" y="6304"/>
                  <a:pt x="10914" y="6350"/>
                </a:cubicBezTo>
                <a:cubicBezTo>
                  <a:pt x="10958" y="6434"/>
                  <a:pt x="10964" y="6478"/>
                  <a:pt x="10964" y="6573"/>
                </a:cubicBezTo>
                <a:cubicBezTo>
                  <a:pt x="10964" y="6596"/>
                  <a:pt x="10964" y="6752"/>
                  <a:pt x="10964" y="6697"/>
                </a:cubicBezTo>
                <a:cubicBezTo>
                  <a:pt x="10964" y="6689"/>
                  <a:pt x="10964" y="6680"/>
                  <a:pt x="10964" y="6672"/>
                </a:cubicBezTo>
              </a:path>
              <a:path w="5235" h="2308">
                <a:moveTo>
                  <a:pt x="11410" y="6077"/>
                </a:moveTo>
                <a:cubicBezTo>
                  <a:pt x="11361" y="6195"/>
                  <a:pt x="11333" y="6313"/>
                  <a:pt x="11286" y="6424"/>
                </a:cubicBezTo>
                <a:cubicBezTo>
                  <a:pt x="11253" y="6501"/>
                  <a:pt x="11251" y="6570"/>
                  <a:pt x="11212" y="6648"/>
                </a:cubicBezTo>
                <a:cubicBezTo>
                  <a:pt x="11201" y="6670"/>
                  <a:pt x="11193" y="6696"/>
                  <a:pt x="11187" y="6722"/>
                </a:cubicBezTo>
                <a:cubicBezTo>
                  <a:pt x="11199" y="6687"/>
                  <a:pt x="11212" y="6677"/>
                  <a:pt x="11237" y="6623"/>
                </a:cubicBezTo>
                <a:cubicBezTo>
                  <a:pt x="11271" y="6549"/>
                  <a:pt x="11307" y="6476"/>
                  <a:pt x="11336" y="6400"/>
                </a:cubicBezTo>
                <a:cubicBezTo>
                  <a:pt x="11374" y="6300"/>
                  <a:pt x="11371" y="6216"/>
                  <a:pt x="11435" y="6127"/>
                </a:cubicBezTo>
                <a:cubicBezTo>
                  <a:pt x="11486" y="6056"/>
                  <a:pt x="11508" y="5976"/>
                  <a:pt x="11559" y="5904"/>
                </a:cubicBezTo>
                <a:cubicBezTo>
                  <a:pt x="11590" y="5859"/>
                  <a:pt x="11633" y="5839"/>
                  <a:pt x="11683" y="5829"/>
                </a:cubicBezTo>
                <a:cubicBezTo>
                  <a:pt x="11724" y="5884"/>
                  <a:pt x="11697" y="5905"/>
                  <a:pt x="11708" y="5978"/>
                </a:cubicBezTo>
                <a:cubicBezTo>
                  <a:pt x="11725" y="6099"/>
                  <a:pt x="11733" y="6203"/>
                  <a:pt x="11733" y="6325"/>
                </a:cubicBezTo>
                <a:cubicBezTo>
                  <a:pt x="11733" y="6411"/>
                  <a:pt x="11756" y="6517"/>
                  <a:pt x="11782" y="6598"/>
                </a:cubicBezTo>
                <a:cubicBezTo>
                  <a:pt x="11799" y="6650"/>
                  <a:pt x="11836" y="6729"/>
                  <a:pt x="11857" y="6772"/>
                </a:cubicBezTo>
                <a:cubicBezTo>
                  <a:pt x="11890" y="6839"/>
                  <a:pt x="11856" y="6727"/>
                  <a:pt x="11832" y="6697"/>
                </a:cubicBezTo>
              </a:path>
              <a:path w="5235" h="2308">
                <a:moveTo>
                  <a:pt x="11311" y="6424"/>
                </a:moveTo>
                <a:cubicBezTo>
                  <a:pt x="11501" y="6424"/>
                  <a:pt x="11691" y="6424"/>
                  <a:pt x="11881" y="6424"/>
                </a:cubicBezTo>
              </a:path>
              <a:path w="5235" h="2308">
                <a:moveTo>
                  <a:pt x="9748" y="6970"/>
                </a:moveTo>
                <a:cubicBezTo>
                  <a:pt x="9861" y="6960"/>
                  <a:pt x="9905" y="6958"/>
                  <a:pt x="10021" y="6970"/>
                </a:cubicBezTo>
                <a:cubicBezTo>
                  <a:pt x="10338" y="7003"/>
                  <a:pt x="10671" y="6974"/>
                  <a:pt x="10988" y="6995"/>
                </a:cubicBezTo>
                <a:cubicBezTo>
                  <a:pt x="11131" y="7005"/>
                  <a:pt x="11271" y="7005"/>
                  <a:pt x="11410" y="7020"/>
                </a:cubicBezTo>
                <a:cubicBezTo>
                  <a:pt x="11466" y="7026"/>
                  <a:pt x="11527" y="7020"/>
                  <a:pt x="11584" y="7020"/>
                </a:cubicBezTo>
                <a:cubicBezTo>
                  <a:pt x="11530" y="7047"/>
                  <a:pt x="11555" y="7036"/>
                  <a:pt x="11485" y="7045"/>
                </a:cubicBezTo>
              </a:path>
              <a:path w="5235" h="2308">
                <a:moveTo>
                  <a:pt x="10790" y="7640"/>
                </a:moveTo>
                <a:cubicBezTo>
                  <a:pt x="10761" y="7630"/>
                  <a:pt x="10745" y="7606"/>
                  <a:pt x="10740" y="7565"/>
                </a:cubicBezTo>
                <a:cubicBezTo>
                  <a:pt x="10736" y="7528"/>
                  <a:pt x="10700" y="7502"/>
                  <a:pt x="10666" y="7491"/>
                </a:cubicBezTo>
                <a:cubicBezTo>
                  <a:pt x="10613" y="7473"/>
                  <a:pt x="10554" y="7537"/>
                  <a:pt x="10517" y="7565"/>
                </a:cubicBezTo>
                <a:cubicBezTo>
                  <a:pt x="10479" y="7594"/>
                  <a:pt x="10405" y="7716"/>
                  <a:pt x="10393" y="7764"/>
                </a:cubicBezTo>
                <a:cubicBezTo>
                  <a:pt x="10376" y="7835"/>
                  <a:pt x="10374" y="7830"/>
                  <a:pt x="10393" y="7888"/>
                </a:cubicBezTo>
                <a:cubicBezTo>
                  <a:pt x="10409" y="7936"/>
                  <a:pt x="10415" y="7938"/>
                  <a:pt x="10468" y="7938"/>
                </a:cubicBezTo>
                <a:cubicBezTo>
                  <a:pt x="10495" y="7938"/>
                  <a:pt x="10579" y="7905"/>
                  <a:pt x="10592" y="7888"/>
                </a:cubicBezTo>
                <a:cubicBezTo>
                  <a:pt x="10613" y="7861"/>
                  <a:pt x="10656" y="7794"/>
                  <a:pt x="10666" y="7764"/>
                </a:cubicBezTo>
                <a:cubicBezTo>
                  <a:pt x="10673" y="7743"/>
                  <a:pt x="10691" y="7696"/>
                  <a:pt x="10691" y="7739"/>
                </a:cubicBezTo>
                <a:cubicBezTo>
                  <a:pt x="10691" y="7779"/>
                  <a:pt x="10722" y="7805"/>
                  <a:pt x="10740" y="7838"/>
                </a:cubicBezTo>
                <a:cubicBezTo>
                  <a:pt x="10768" y="7888"/>
                  <a:pt x="10808" y="7907"/>
                  <a:pt x="10864" y="7913"/>
                </a:cubicBezTo>
                <a:cubicBezTo>
                  <a:pt x="10910" y="7918"/>
                  <a:pt x="10945" y="7897"/>
                  <a:pt x="10988" y="7888"/>
                </a:cubicBezTo>
              </a:path>
              <a:path w="5235" h="2308">
                <a:moveTo>
                  <a:pt x="12055" y="6995"/>
                </a:moveTo>
                <a:cubicBezTo>
                  <a:pt x="12108" y="6972"/>
                  <a:pt x="12125" y="6970"/>
                  <a:pt x="12179" y="6970"/>
                </a:cubicBezTo>
                <a:cubicBezTo>
                  <a:pt x="12221" y="6970"/>
                  <a:pt x="12229" y="6970"/>
                  <a:pt x="12254" y="6970"/>
                </a:cubicBezTo>
              </a:path>
              <a:path w="5235" h="2308">
                <a:moveTo>
                  <a:pt x="11956" y="7144"/>
                </a:moveTo>
                <a:cubicBezTo>
                  <a:pt x="12022" y="7144"/>
                  <a:pt x="12088" y="7144"/>
                  <a:pt x="12154" y="7144"/>
                </a:cubicBezTo>
              </a:path>
              <a:path w="5235" h="2308">
                <a:moveTo>
                  <a:pt x="13271" y="6400"/>
                </a:moveTo>
                <a:cubicBezTo>
                  <a:pt x="13266" y="6384"/>
                  <a:pt x="13248" y="6338"/>
                  <a:pt x="13221" y="6325"/>
                </a:cubicBezTo>
                <a:cubicBezTo>
                  <a:pt x="13189" y="6309"/>
                  <a:pt x="13161" y="6300"/>
                  <a:pt x="13122" y="6300"/>
                </a:cubicBezTo>
                <a:cubicBezTo>
                  <a:pt x="13086" y="6300"/>
                  <a:pt x="12991" y="6371"/>
                  <a:pt x="12973" y="6400"/>
                </a:cubicBezTo>
                <a:cubicBezTo>
                  <a:pt x="12973" y="6408"/>
                  <a:pt x="12973" y="6416"/>
                  <a:pt x="12973" y="6424"/>
                </a:cubicBezTo>
                <a:cubicBezTo>
                  <a:pt x="12990" y="6475"/>
                  <a:pt x="13023" y="6450"/>
                  <a:pt x="13072" y="6474"/>
                </a:cubicBezTo>
                <a:cubicBezTo>
                  <a:pt x="13130" y="6503"/>
                  <a:pt x="13169" y="6561"/>
                  <a:pt x="13221" y="6598"/>
                </a:cubicBezTo>
                <a:cubicBezTo>
                  <a:pt x="13280" y="6640"/>
                  <a:pt x="13347" y="6679"/>
                  <a:pt x="13320" y="6772"/>
                </a:cubicBezTo>
                <a:cubicBezTo>
                  <a:pt x="13310" y="6805"/>
                  <a:pt x="13255" y="6862"/>
                  <a:pt x="13221" y="6871"/>
                </a:cubicBezTo>
                <a:cubicBezTo>
                  <a:pt x="13147" y="6891"/>
                  <a:pt x="12986" y="6888"/>
                  <a:pt x="12923" y="6846"/>
                </a:cubicBezTo>
                <a:cubicBezTo>
                  <a:pt x="12876" y="6815"/>
                  <a:pt x="12899" y="6779"/>
                  <a:pt x="12923" y="6747"/>
                </a:cubicBezTo>
              </a:path>
              <a:path w="5235" h="2308">
                <a:moveTo>
                  <a:pt x="13444" y="6424"/>
                </a:moveTo>
                <a:cubicBezTo>
                  <a:pt x="13444" y="6513"/>
                  <a:pt x="13434" y="6576"/>
                  <a:pt x="13419" y="6648"/>
                </a:cubicBezTo>
                <a:cubicBezTo>
                  <a:pt x="13408" y="6703"/>
                  <a:pt x="13408" y="6746"/>
                  <a:pt x="13395" y="6772"/>
                </a:cubicBezTo>
                <a:cubicBezTo>
                  <a:pt x="13373" y="6817"/>
                  <a:pt x="13373" y="6682"/>
                  <a:pt x="13370" y="6648"/>
                </a:cubicBezTo>
              </a:path>
              <a:path w="5235" h="2308">
                <a:moveTo>
                  <a:pt x="13419" y="6152"/>
                </a:moveTo>
                <a:cubicBezTo>
                  <a:pt x="13428" y="6092"/>
                  <a:pt x="13413" y="6091"/>
                  <a:pt x="13469" y="6077"/>
                </a:cubicBezTo>
              </a:path>
              <a:path w="5235" h="2308">
                <a:moveTo>
                  <a:pt x="13593" y="6573"/>
                </a:moveTo>
                <a:cubicBezTo>
                  <a:pt x="13586" y="6647"/>
                  <a:pt x="13568" y="6674"/>
                  <a:pt x="13568" y="6747"/>
                </a:cubicBezTo>
                <a:cubicBezTo>
                  <a:pt x="13586" y="6716"/>
                  <a:pt x="13611" y="6657"/>
                  <a:pt x="13618" y="6623"/>
                </a:cubicBezTo>
                <a:cubicBezTo>
                  <a:pt x="13631" y="6561"/>
                  <a:pt x="13639" y="6508"/>
                  <a:pt x="13667" y="6449"/>
                </a:cubicBezTo>
                <a:cubicBezTo>
                  <a:pt x="13682" y="6416"/>
                  <a:pt x="13698" y="6338"/>
                  <a:pt x="13742" y="6325"/>
                </a:cubicBezTo>
                <a:cubicBezTo>
                  <a:pt x="13793" y="6310"/>
                  <a:pt x="13861" y="6333"/>
                  <a:pt x="13891" y="6375"/>
                </a:cubicBezTo>
                <a:cubicBezTo>
                  <a:pt x="13931" y="6432"/>
                  <a:pt x="13961" y="6506"/>
                  <a:pt x="13965" y="6573"/>
                </a:cubicBezTo>
                <a:cubicBezTo>
                  <a:pt x="13969" y="6646"/>
                  <a:pt x="13944" y="6682"/>
                  <a:pt x="13940" y="6747"/>
                </a:cubicBezTo>
                <a:cubicBezTo>
                  <a:pt x="13934" y="6854"/>
                  <a:pt x="13940" y="6770"/>
                  <a:pt x="13940" y="6747"/>
                </a:cubicBezTo>
              </a:path>
              <a:path w="5235" h="2308">
                <a:moveTo>
                  <a:pt x="14734" y="5953"/>
                </a:moveTo>
                <a:cubicBezTo>
                  <a:pt x="14745" y="5927"/>
                  <a:pt x="14778" y="5863"/>
                  <a:pt x="14759" y="5829"/>
                </a:cubicBezTo>
                <a:cubicBezTo>
                  <a:pt x="14729" y="5775"/>
                  <a:pt x="14689" y="5779"/>
                  <a:pt x="14635" y="5779"/>
                </a:cubicBezTo>
                <a:cubicBezTo>
                  <a:pt x="14579" y="5779"/>
                  <a:pt x="14518" y="5842"/>
                  <a:pt x="14486" y="5879"/>
                </a:cubicBezTo>
                <a:cubicBezTo>
                  <a:pt x="14417" y="5960"/>
                  <a:pt x="14355" y="6055"/>
                  <a:pt x="14312" y="6152"/>
                </a:cubicBezTo>
                <a:cubicBezTo>
                  <a:pt x="14282" y="6219"/>
                  <a:pt x="14242" y="6324"/>
                  <a:pt x="14263" y="6400"/>
                </a:cubicBezTo>
                <a:cubicBezTo>
                  <a:pt x="14284" y="6474"/>
                  <a:pt x="14294" y="6508"/>
                  <a:pt x="14362" y="6548"/>
                </a:cubicBezTo>
                <a:cubicBezTo>
                  <a:pt x="14450" y="6600"/>
                  <a:pt x="14560" y="6634"/>
                  <a:pt x="14660" y="6648"/>
                </a:cubicBezTo>
                <a:cubicBezTo>
                  <a:pt x="14760" y="6662"/>
                  <a:pt x="14872" y="6648"/>
                  <a:pt x="14957" y="6623"/>
                </a:cubicBezTo>
                <a:cubicBezTo>
                  <a:pt x="14982" y="6623"/>
                  <a:pt x="14990" y="6623"/>
                  <a:pt x="14982" y="6598"/>
                </a:cubicBezTo>
                <a:cubicBezTo>
                  <a:pt x="14941" y="6573"/>
                  <a:pt x="14907" y="6567"/>
                  <a:pt x="14858" y="6548"/>
                </a:cubicBezTo>
              </a:path>
              <a:path w="5235" h="2308">
                <a:moveTo>
                  <a:pt x="13122" y="7045"/>
                </a:moveTo>
                <a:cubicBezTo>
                  <a:pt x="13209" y="7068"/>
                  <a:pt x="13284" y="7054"/>
                  <a:pt x="13370" y="7069"/>
                </a:cubicBezTo>
                <a:cubicBezTo>
                  <a:pt x="13507" y="7093"/>
                  <a:pt x="13648" y="7091"/>
                  <a:pt x="13791" y="7094"/>
                </a:cubicBezTo>
                <a:cubicBezTo>
                  <a:pt x="14014" y="7099"/>
                  <a:pt x="14635" y="7094"/>
                  <a:pt x="14412" y="7094"/>
                </a:cubicBezTo>
                <a:cubicBezTo>
                  <a:pt x="14395" y="7094"/>
                  <a:pt x="14379" y="7094"/>
                  <a:pt x="14362" y="7094"/>
                </a:cubicBezTo>
              </a:path>
              <a:path w="5235" h="2308">
                <a:moveTo>
                  <a:pt x="13643" y="7491"/>
                </a:moveTo>
                <a:cubicBezTo>
                  <a:pt x="13656" y="7543"/>
                  <a:pt x="13683" y="7547"/>
                  <a:pt x="13667" y="7541"/>
                </a:cubicBezTo>
                <a:cubicBezTo>
                  <a:pt x="13636" y="7529"/>
                  <a:pt x="13635" y="7505"/>
                  <a:pt x="13593" y="7491"/>
                </a:cubicBezTo>
                <a:cubicBezTo>
                  <a:pt x="13537" y="7472"/>
                  <a:pt x="13486" y="7507"/>
                  <a:pt x="13444" y="7516"/>
                </a:cubicBezTo>
                <a:cubicBezTo>
                  <a:pt x="13369" y="7532"/>
                  <a:pt x="13295" y="7596"/>
                  <a:pt x="13246" y="7665"/>
                </a:cubicBezTo>
                <a:cubicBezTo>
                  <a:pt x="13205" y="7723"/>
                  <a:pt x="13175" y="7795"/>
                  <a:pt x="13171" y="7863"/>
                </a:cubicBezTo>
                <a:cubicBezTo>
                  <a:pt x="13167" y="7940"/>
                  <a:pt x="13171" y="7993"/>
                  <a:pt x="13246" y="8037"/>
                </a:cubicBezTo>
                <a:cubicBezTo>
                  <a:pt x="13301" y="8069"/>
                  <a:pt x="13379" y="8083"/>
                  <a:pt x="13444" y="8086"/>
                </a:cubicBezTo>
                <a:cubicBezTo>
                  <a:pt x="13518" y="8089"/>
                  <a:pt x="13582" y="8078"/>
                  <a:pt x="13643" y="8062"/>
                </a:cubicBezTo>
                <a:cubicBezTo>
                  <a:pt x="13664" y="8056"/>
                  <a:pt x="13696" y="8062"/>
                  <a:pt x="13717" y="8062"/>
                </a:cubicBezTo>
                <a:cubicBezTo>
                  <a:pt x="13717" y="8031"/>
                  <a:pt x="13709" y="7995"/>
                  <a:pt x="13692" y="7987"/>
                </a:cubicBezTo>
                <a:cubicBezTo>
                  <a:pt x="13664" y="7987"/>
                  <a:pt x="13653" y="7985"/>
                  <a:pt x="13643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3040" y="1938240"/>
            <a:ext cx="1803240" cy="946080"/>
          </a:xfrm>
          <a:custGeom>
            <a:avLst/>
            <a:gdLst/>
            <a:ahLst/>
            <a:rect l="l" t="t" r="r" b="b"/>
            <a:pathLst>
              <a:path w="5011" h="2630">
                <a:moveTo>
                  <a:pt x="17959" y="6028"/>
                </a:moveTo>
                <a:cubicBezTo>
                  <a:pt x="17949" y="5987"/>
                  <a:pt x="17930" y="5958"/>
                  <a:pt x="17884" y="5953"/>
                </a:cubicBezTo>
                <a:cubicBezTo>
                  <a:pt x="17860" y="5950"/>
                  <a:pt x="17782" y="5989"/>
                  <a:pt x="17760" y="6003"/>
                </a:cubicBezTo>
                <a:cubicBezTo>
                  <a:pt x="17705" y="6040"/>
                  <a:pt x="17666" y="6091"/>
                  <a:pt x="17661" y="6152"/>
                </a:cubicBezTo>
                <a:cubicBezTo>
                  <a:pt x="17658" y="6193"/>
                  <a:pt x="17727" y="6188"/>
                  <a:pt x="17760" y="6201"/>
                </a:cubicBezTo>
                <a:cubicBezTo>
                  <a:pt x="17811" y="6221"/>
                  <a:pt x="17878" y="6252"/>
                  <a:pt x="17909" y="6300"/>
                </a:cubicBezTo>
                <a:cubicBezTo>
                  <a:pt x="17943" y="6352"/>
                  <a:pt x="17944" y="6397"/>
                  <a:pt x="17909" y="6449"/>
                </a:cubicBezTo>
                <a:cubicBezTo>
                  <a:pt x="17884" y="6486"/>
                  <a:pt x="17828" y="6538"/>
                  <a:pt x="17785" y="6548"/>
                </a:cubicBezTo>
                <a:cubicBezTo>
                  <a:pt x="17749" y="6556"/>
                  <a:pt x="17675" y="6587"/>
                  <a:pt x="17636" y="6573"/>
                </a:cubicBezTo>
                <a:cubicBezTo>
                  <a:pt x="17603" y="6561"/>
                  <a:pt x="17536" y="6549"/>
                  <a:pt x="17562" y="6499"/>
                </a:cubicBezTo>
                <a:cubicBezTo>
                  <a:pt x="17578" y="6474"/>
                  <a:pt x="17595" y="6449"/>
                  <a:pt x="17611" y="6424"/>
                </a:cubicBezTo>
              </a:path>
              <a:path w="5011" h="2630">
                <a:moveTo>
                  <a:pt x="18132" y="6152"/>
                </a:moveTo>
                <a:cubicBezTo>
                  <a:pt x="18150" y="6258"/>
                  <a:pt x="18157" y="6343"/>
                  <a:pt x="18157" y="6449"/>
                </a:cubicBezTo>
                <a:cubicBezTo>
                  <a:pt x="18157" y="6514"/>
                  <a:pt x="18172" y="6491"/>
                  <a:pt x="18157" y="6449"/>
                </a:cubicBezTo>
                <a:cubicBezTo>
                  <a:pt x="18149" y="6433"/>
                  <a:pt x="18140" y="6416"/>
                  <a:pt x="18132" y="6400"/>
                </a:cubicBezTo>
              </a:path>
              <a:path w="5011" h="2630">
                <a:moveTo>
                  <a:pt x="18182" y="5829"/>
                </a:moveTo>
                <a:cubicBezTo>
                  <a:pt x="18202" y="5789"/>
                  <a:pt x="18200" y="5772"/>
                  <a:pt x="18231" y="5779"/>
                </a:cubicBezTo>
              </a:path>
              <a:path w="5011" h="2630">
                <a:moveTo>
                  <a:pt x="18331" y="6176"/>
                </a:moveTo>
                <a:cubicBezTo>
                  <a:pt x="18318" y="6274"/>
                  <a:pt x="18306" y="6336"/>
                  <a:pt x="18306" y="6424"/>
                </a:cubicBezTo>
                <a:cubicBezTo>
                  <a:pt x="18306" y="6336"/>
                  <a:pt x="18318" y="6258"/>
                  <a:pt x="18331" y="6176"/>
                </a:cubicBezTo>
                <a:cubicBezTo>
                  <a:pt x="18342" y="6110"/>
                  <a:pt x="18351" y="6019"/>
                  <a:pt x="18430" y="6003"/>
                </a:cubicBezTo>
                <a:cubicBezTo>
                  <a:pt x="18493" y="5990"/>
                  <a:pt x="18503" y="6007"/>
                  <a:pt x="18529" y="6052"/>
                </a:cubicBezTo>
                <a:cubicBezTo>
                  <a:pt x="18570" y="6124"/>
                  <a:pt x="18579" y="6170"/>
                  <a:pt x="18579" y="6251"/>
                </a:cubicBezTo>
                <a:cubicBezTo>
                  <a:pt x="18579" y="6317"/>
                  <a:pt x="18598" y="6363"/>
                  <a:pt x="18604" y="6424"/>
                </a:cubicBezTo>
                <a:cubicBezTo>
                  <a:pt x="18608" y="6460"/>
                  <a:pt x="18593" y="6436"/>
                  <a:pt x="18628" y="6424"/>
                </a:cubicBezTo>
              </a:path>
              <a:path w="5011" h="2630">
                <a:moveTo>
                  <a:pt x="18876" y="5804"/>
                </a:moveTo>
                <a:cubicBezTo>
                  <a:pt x="18889" y="5935"/>
                  <a:pt x="18876" y="6024"/>
                  <a:pt x="18876" y="6152"/>
                </a:cubicBezTo>
                <a:cubicBezTo>
                  <a:pt x="18876" y="6221"/>
                  <a:pt x="18852" y="6278"/>
                  <a:pt x="18852" y="6350"/>
                </a:cubicBezTo>
                <a:cubicBezTo>
                  <a:pt x="18852" y="6392"/>
                  <a:pt x="18860" y="6408"/>
                  <a:pt x="18827" y="6400"/>
                </a:cubicBezTo>
                <a:cubicBezTo>
                  <a:pt x="18827" y="6367"/>
                  <a:pt x="18827" y="6383"/>
                  <a:pt x="18827" y="6350"/>
                </a:cubicBezTo>
                <a:cubicBezTo>
                  <a:pt x="18827" y="6236"/>
                  <a:pt x="18842" y="6142"/>
                  <a:pt x="18852" y="6028"/>
                </a:cubicBezTo>
                <a:cubicBezTo>
                  <a:pt x="18862" y="5916"/>
                  <a:pt x="18865" y="5839"/>
                  <a:pt x="18901" y="5730"/>
                </a:cubicBezTo>
                <a:cubicBezTo>
                  <a:pt x="18940" y="5614"/>
                  <a:pt x="18982" y="5576"/>
                  <a:pt x="19050" y="5482"/>
                </a:cubicBezTo>
                <a:cubicBezTo>
                  <a:pt x="19072" y="5452"/>
                  <a:pt x="19130" y="5379"/>
                  <a:pt x="19174" y="5383"/>
                </a:cubicBezTo>
                <a:cubicBezTo>
                  <a:pt x="19182" y="5391"/>
                  <a:pt x="19191" y="5399"/>
                  <a:pt x="19199" y="5407"/>
                </a:cubicBezTo>
                <a:cubicBezTo>
                  <a:pt x="19270" y="5479"/>
                  <a:pt x="19233" y="5545"/>
                  <a:pt x="19174" y="5631"/>
                </a:cubicBezTo>
                <a:cubicBezTo>
                  <a:pt x="19137" y="5685"/>
                  <a:pt x="19081" y="5766"/>
                  <a:pt x="19025" y="5804"/>
                </a:cubicBezTo>
                <a:cubicBezTo>
                  <a:pt x="18984" y="5831"/>
                  <a:pt x="18960" y="5845"/>
                  <a:pt x="18926" y="5879"/>
                </a:cubicBezTo>
                <a:cubicBezTo>
                  <a:pt x="18999" y="5901"/>
                  <a:pt x="19060" y="5917"/>
                  <a:pt x="19124" y="5953"/>
                </a:cubicBezTo>
                <a:cubicBezTo>
                  <a:pt x="19188" y="5989"/>
                  <a:pt x="19255" y="6012"/>
                  <a:pt x="19298" y="6077"/>
                </a:cubicBezTo>
                <a:cubicBezTo>
                  <a:pt x="19328" y="6122"/>
                  <a:pt x="19364" y="6206"/>
                  <a:pt x="19323" y="6251"/>
                </a:cubicBezTo>
                <a:cubicBezTo>
                  <a:pt x="19276" y="6303"/>
                  <a:pt x="19161" y="6321"/>
                  <a:pt x="19100" y="6350"/>
                </a:cubicBezTo>
                <a:cubicBezTo>
                  <a:pt x="19020" y="6388"/>
                  <a:pt x="18916" y="6397"/>
                  <a:pt x="18827" y="6400"/>
                </a:cubicBezTo>
                <a:cubicBezTo>
                  <a:pt x="18759" y="6400"/>
                  <a:pt x="18740" y="6397"/>
                  <a:pt x="18703" y="6424"/>
                </a:cubicBezTo>
              </a:path>
              <a:path w="5011" h="2630">
                <a:moveTo>
                  <a:pt x="17587" y="6747"/>
                </a:moveTo>
                <a:cubicBezTo>
                  <a:pt x="17675" y="6747"/>
                  <a:pt x="17747" y="6769"/>
                  <a:pt x="17835" y="6772"/>
                </a:cubicBezTo>
                <a:cubicBezTo>
                  <a:pt x="17978" y="6777"/>
                  <a:pt x="18114" y="6793"/>
                  <a:pt x="18256" y="6796"/>
                </a:cubicBezTo>
                <a:cubicBezTo>
                  <a:pt x="18529" y="6802"/>
                  <a:pt x="18808" y="6804"/>
                  <a:pt x="19075" y="6772"/>
                </a:cubicBezTo>
                <a:cubicBezTo>
                  <a:pt x="19094" y="6770"/>
                  <a:pt x="19240" y="6754"/>
                  <a:pt x="19149" y="6747"/>
                </a:cubicBezTo>
                <a:cubicBezTo>
                  <a:pt x="19133" y="6747"/>
                  <a:pt x="19116" y="6747"/>
                  <a:pt x="19100" y="6747"/>
                </a:cubicBezTo>
              </a:path>
              <a:path w="5011" h="2630">
                <a:moveTo>
                  <a:pt x="18306" y="7094"/>
                </a:moveTo>
                <a:cubicBezTo>
                  <a:pt x="18299" y="7198"/>
                  <a:pt x="18281" y="7286"/>
                  <a:pt x="18281" y="7392"/>
                </a:cubicBezTo>
                <a:cubicBezTo>
                  <a:pt x="18281" y="7494"/>
                  <a:pt x="18256" y="7586"/>
                  <a:pt x="18256" y="7689"/>
                </a:cubicBezTo>
                <a:cubicBezTo>
                  <a:pt x="18256" y="7755"/>
                  <a:pt x="18237" y="7802"/>
                  <a:pt x="18231" y="7863"/>
                </a:cubicBezTo>
                <a:cubicBezTo>
                  <a:pt x="18231" y="7888"/>
                  <a:pt x="18231" y="7896"/>
                  <a:pt x="18231" y="7913"/>
                </a:cubicBezTo>
                <a:cubicBezTo>
                  <a:pt x="18231" y="7823"/>
                  <a:pt x="18241" y="7749"/>
                  <a:pt x="18256" y="7665"/>
                </a:cubicBezTo>
                <a:cubicBezTo>
                  <a:pt x="18272" y="7575"/>
                  <a:pt x="18312" y="7546"/>
                  <a:pt x="18405" y="7541"/>
                </a:cubicBezTo>
                <a:cubicBezTo>
                  <a:pt x="18465" y="7538"/>
                  <a:pt x="18520" y="7563"/>
                  <a:pt x="18554" y="7615"/>
                </a:cubicBezTo>
                <a:cubicBezTo>
                  <a:pt x="18599" y="7685"/>
                  <a:pt x="18614" y="7716"/>
                  <a:pt x="18579" y="7789"/>
                </a:cubicBezTo>
                <a:cubicBezTo>
                  <a:pt x="18543" y="7866"/>
                  <a:pt x="18457" y="7909"/>
                  <a:pt x="18380" y="7938"/>
                </a:cubicBezTo>
                <a:cubicBezTo>
                  <a:pt x="18289" y="7973"/>
                  <a:pt x="18202" y="8007"/>
                  <a:pt x="18107" y="8012"/>
                </a:cubicBezTo>
                <a:cubicBezTo>
                  <a:pt x="18053" y="8015"/>
                  <a:pt x="18015" y="8022"/>
                  <a:pt x="18008" y="7962"/>
                </a:cubicBezTo>
                <a:cubicBezTo>
                  <a:pt x="18008" y="7954"/>
                  <a:pt x="18008" y="7946"/>
                  <a:pt x="18008" y="7938"/>
                </a:cubicBezTo>
              </a:path>
              <a:path w="5011" h="2630">
                <a:moveTo>
                  <a:pt x="19397" y="6648"/>
                </a:moveTo>
                <a:cubicBezTo>
                  <a:pt x="19463" y="6648"/>
                  <a:pt x="19530" y="6648"/>
                  <a:pt x="19596" y="6648"/>
                </a:cubicBezTo>
              </a:path>
              <a:path w="5011" h="2630">
                <a:moveTo>
                  <a:pt x="19348" y="6846"/>
                </a:moveTo>
                <a:cubicBezTo>
                  <a:pt x="19420" y="6873"/>
                  <a:pt x="19473" y="6870"/>
                  <a:pt x="19546" y="6846"/>
                </a:cubicBezTo>
                <a:cubicBezTo>
                  <a:pt x="19563" y="6838"/>
                  <a:pt x="19579" y="6829"/>
                  <a:pt x="19596" y="6821"/>
                </a:cubicBezTo>
              </a:path>
              <a:path w="5011" h="2630">
                <a:moveTo>
                  <a:pt x="20588" y="6052"/>
                </a:moveTo>
                <a:cubicBezTo>
                  <a:pt x="20509" y="6039"/>
                  <a:pt x="20430" y="6024"/>
                  <a:pt x="20365" y="6077"/>
                </a:cubicBezTo>
                <a:cubicBezTo>
                  <a:pt x="20342" y="6100"/>
                  <a:pt x="20338" y="6108"/>
                  <a:pt x="20315" y="6102"/>
                </a:cubicBezTo>
                <a:cubicBezTo>
                  <a:pt x="20339" y="6150"/>
                  <a:pt x="20435" y="6214"/>
                  <a:pt x="20489" y="6251"/>
                </a:cubicBezTo>
                <a:cubicBezTo>
                  <a:pt x="20540" y="6286"/>
                  <a:pt x="20600" y="6338"/>
                  <a:pt x="20613" y="6400"/>
                </a:cubicBezTo>
                <a:cubicBezTo>
                  <a:pt x="20623" y="6448"/>
                  <a:pt x="20580" y="6488"/>
                  <a:pt x="20538" y="6499"/>
                </a:cubicBezTo>
                <a:cubicBezTo>
                  <a:pt x="20461" y="6520"/>
                  <a:pt x="20444" y="6512"/>
                  <a:pt x="20365" y="6499"/>
                </a:cubicBezTo>
                <a:cubicBezTo>
                  <a:pt x="20277" y="6484"/>
                  <a:pt x="20300" y="6498"/>
                  <a:pt x="20290" y="6400"/>
                </a:cubicBezTo>
              </a:path>
              <a:path w="5011" h="2630">
                <a:moveTo>
                  <a:pt x="20786" y="6102"/>
                </a:moveTo>
                <a:cubicBezTo>
                  <a:pt x="20786" y="6238"/>
                  <a:pt x="20779" y="6318"/>
                  <a:pt x="20811" y="6424"/>
                </a:cubicBezTo>
                <a:cubicBezTo>
                  <a:pt x="20811" y="6449"/>
                  <a:pt x="20811" y="6457"/>
                  <a:pt x="20811" y="6424"/>
                </a:cubicBezTo>
              </a:path>
              <a:path w="5011" h="2630">
                <a:moveTo>
                  <a:pt x="20811" y="5804"/>
                </a:moveTo>
                <a:cubicBezTo>
                  <a:pt x="20836" y="5779"/>
                  <a:pt x="20861" y="5755"/>
                  <a:pt x="20886" y="5730"/>
                </a:cubicBezTo>
              </a:path>
              <a:path w="5011" h="2630">
                <a:moveTo>
                  <a:pt x="21059" y="6276"/>
                </a:moveTo>
                <a:cubicBezTo>
                  <a:pt x="21041" y="6367"/>
                  <a:pt x="21032" y="6374"/>
                  <a:pt x="21034" y="6424"/>
                </a:cubicBezTo>
                <a:cubicBezTo>
                  <a:pt x="21047" y="6362"/>
                  <a:pt x="21044" y="6288"/>
                  <a:pt x="21059" y="6226"/>
                </a:cubicBezTo>
                <a:cubicBezTo>
                  <a:pt x="21074" y="6161"/>
                  <a:pt x="21095" y="6086"/>
                  <a:pt x="21134" y="6028"/>
                </a:cubicBezTo>
                <a:cubicBezTo>
                  <a:pt x="21164" y="5984"/>
                  <a:pt x="21244" y="5969"/>
                  <a:pt x="21282" y="6003"/>
                </a:cubicBezTo>
                <a:cubicBezTo>
                  <a:pt x="21356" y="6071"/>
                  <a:pt x="21358" y="6140"/>
                  <a:pt x="21382" y="6226"/>
                </a:cubicBezTo>
                <a:cubicBezTo>
                  <a:pt x="21401" y="6294"/>
                  <a:pt x="21425" y="6353"/>
                  <a:pt x="21431" y="6424"/>
                </a:cubicBezTo>
                <a:cubicBezTo>
                  <a:pt x="21435" y="6471"/>
                  <a:pt x="21446" y="6476"/>
                  <a:pt x="21406" y="6449"/>
                </a:cubicBezTo>
              </a:path>
              <a:path w="5011" h="2630">
                <a:moveTo>
                  <a:pt x="22299" y="5631"/>
                </a:moveTo>
                <a:cubicBezTo>
                  <a:pt x="22339" y="5578"/>
                  <a:pt x="22313" y="5564"/>
                  <a:pt x="22299" y="5531"/>
                </a:cubicBezTo>
                <a:cubicBezTo>
                  <a:pt x="22281" y="5491"/>
                  <a:pt x="22307" y="5476"/>
                  <a:pt x="22250" y="5457"/>
                </a:cubicBezTo>
                <a:cubicBezTo>
                  <a:pt x="22218" y="5446"/>
                  <a:pt x="22149" y="5510"/>
                  <a:pt x="22126" y="5531"/>
                </a:cubicBezTo>
                <a:cubicBezTo>
                  <a:pt x="22047" y="5604"/>
                  <a:pt x="21982" y="5686"/>
                  <a:pt x="21927" y="5779"/>
                </a:cubicBezTo>
                <a:cubicBezTo>
                  <a:pt x="21879" y="5861"/>
                  <a:pt x="21878" y="5936"/>
                  <a:pt x="21878" y="6028"/>
                </a:cubicBezTo>
                <a:cubicBezTo>
                  <a:pt x="21878" y="6122"/>
                  <a:pt x="21921" y="6142"/>
                  <a:pt x="22002" y="6176"/>
                </a:cubicBezTo>
                <a:cubicBezTo>
                  <a:pt x="22114" y="6224"/>
                  <a:pt x="22230" y="6263"/>
                  <a:pt x="22349" y="6276"/>
                </a:cubicBezTo>
                <a:cubicBezTo>
                  <a:pt x="22388" y="6280"/>
                  <a:pt x="22586" y="6276"/>
                  <a:pt x="22547" y="6276"/>
                </a:cubicBezTo>
                <a:cubicBezTo>
                  <a:pt x="22539" y="6276"/>
                  <a:pt x="22531" y="6276"/>
                  <a:pt x="22523" y="6276"/>
                </a:cubicBezTo>
              </a:path>
              <a:path w="5011" h="2630">
                <a:moveTo>
                  <a:pt x="20340" y="6697"/>
                </a:moveTo>
                <a:cubicBezTo>
                  <a:pt x="20474" y="6717"/>
                  <a:pt x="20603" y="6743"/>
                  <a:pt x="20737" y="6747"/>
                </a:cubicBezTo>
                <a:cubicBezTo>
                  <a:pt x="21092" y="6757"/>
                  <a:pt x="21452" y="6751"/>
                  <a:pt x="21803" y="6722"/>
                </a:cubicBezTo>
                <a:cubicBezTo>
                  <a:pt x="21896" y="6714"/>
                  <a:pt x="21988" y="6732"/>
                  <a:pt x="22076" y="6697"/>
                </a:cubicBezTo>
                <a:cubicBezTo>
                  <a:pt x="22125" y="6677"/>
                  <a:pt x="22030" y="6676"/>
                  <a:pt x="21977" y="6672"/>
                </a:cubicBezTo>
              </a:path>
              <a:path w="5011" h="2630">
                <a:moveTo>
                  <a:pt x="21183" y="7392"/>
                </a:moveTo>
                <a:cubicBezTo>
                  <a:pt x="21230" y="7438"/>
                  <a:pt x="21244" y="7450"/>
                  <a:pt x="21258" y="7491"/>
                </a:cubicBezTo>
                <a:cubicBezTo>
                  <a:pt x="21224" y="7480"/>
                  <a:pt x="21227" y="7456"/>
                  <a:pt x="21183" y="7441"/>
                </a:cubicBezTo>
                <a:cubicBezTo>
                  <a:pt x="21154" y="7431"/>
                  <a:pt x="21099" y="7437"/>
                  <a:pt x="21084" y="7466"/>
                </a:cubicBezTo>
                <a:cubicBezTo>
                  <a:pt x="21059" y="7515"/>
                  <a:pt x="21014" y="7560"/>
                  <a:pt x="20985" y="7615"/>
                </a:cubicBezTo>
                <a:cubicBezTo>
                  <a:pt x="20946" y="7689"/>
                  <a:pt x="20935" y="7731"/>
                  <a:pt x="20935" y="7813"/>
                </a:cubicBezTo>
                <a:cubicBezTo>
                  <a:pt x="20935" y="7861"/>
                  <a:pt x="20969" y="7912"/>
                  <a:pt x="21010" y="7938"/>
                </a:cubicBezTo>
                <a:cubicBezTo>
                  <a:pt x="21081" y="7983"/>
                  <a:pt x="21200" y="7984"/>
                  <a:pt x="21282" y="7987"/>
                </a:cubicBezTo>
                <a:cubicBezTo>
                  <a:pt x="21369" y="7990"/>
                  <a:pt x="21427" y="7981"/>
                  <a:pt x="21506" y="7962"/>
                </a:cubicBezTo>
                <a:cubicBezTo>
                  <a:pt x="21554" y="7951"/>
                  <a:pt x="21565" y="7962"/>
                  <a:pt x="21506" y="7962"/>
                </a:cubicBezTo>
                <a:cubicBezTo>
                  <a:pt x="21498" y="7962"/>
                  <a:pt x="21489" y="7962"/>
                  <a:pt x="21481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9760" y="3295800"/>
            <a:ext cx="187200" cy="32040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1463" y="9500"/>
                </a:moveTo>
                <a:cubicBezTo>
                  <a:pt x="1463" y="9637"/>
                  <a:pt x="1452" y="9758"/>
                  <a:pt x="1439" y="9897"/>
                </a:cubicBezTo>
                <a:cubicBezTo>
                  <a:pt x="1434" y="9945"/>
                  <a:pt x="1439" y="9997"/>
                  <a:pt x="1439" y="10046"/>
                </a:cubicBezTo>
                <a:cubicBezTo>
                  <a:pt x="1403" y="10022"/>
                  <a:pt x="1414" y="9979"/>
                  <a:pt x="1414" y="9922"/>
                </a:cubicBezTo>
                <a:cubicBezTo>
                  <a:pt x="1414" y="9793"/>
                  <a:pt x="1424" y="9671"/>
                  <a:pt x="1439" y="9550"/>
                </a:cubicBezTo>
                <a:cubicBezTo>
                  <a:pt x="1450" y="9464"/>
                  <a:pt x="1476" y="9392"/>
                  <a:pt x="1488" y="9302"/>
                </a:cubicBezTo>
                <a:cubicBezTo>
                  <a:pt x="1494" y="9255"/>
                  <a:pt x="1512" y="9181"/>
                  <a:pt x="1563" y="9153"/>
                </a:cubicBezTo>
                <a:cubicBezTo>
                  <a:pt x="1593" y="9136"/>
                  <a:pt x="1669" y="9153"/>
                  <a:pt x="1687" y="9178"/>
                </a:cubicBezTo>
                <a:cubicBezTo>
                  <a:pt x="1724" y="9230"/>
                  <a:pt x="1735" y="9313"/>
                  <a:pt x="1761" y="9376"/>
                </a:cubicBezTo>
                <a:cubicBezTo>
                  <a:pt x="1795" y="9459"/>
                  <a:pt x="1800" y="9540"/>
                  <a:pt x="1836" y="9624"/>
                </a:cubicBezTo>
                <a:cubicBezTo>
                  <a:pt x="1862" y="9686"/>
                  <a:pt x="1873" y="9768"/>
                  <a:pt x="1910" y="9823"/>
                </a:cubicBezTo>
                <a:cubicBezTo>
                  <a:pt x="1939" y="9851"/>
                  <a:pt x="1947" y="9864"/>
                  <a:pt x="1935" y="9897"/>
                </a:cubicBezTo>
                <a:cubicBezTo>
                  <a:pt x="1924" y="9830"/>
                  <a:pt x="1927" y="9834"/>
                  <a:pt x="1860" y="9823"/>
                </a:cubicBezTo>
              </a:path>
              <a:path w="522" h="894">
                <a:moveTo>
                  <a:pt x="1463" y="9699"/>
                </a:moveTo>
                <a:cubicBezTo>
                  <a:pt x="1517" y="9699"/>
                  <a:pt x="1533" y="9677"/>
                  <a:pt x="1588" y="9674"/>
                </a:cubicBezTo>
                <a:cubicBezTo>
                  <a:pt x="1625" y="9672"/>
                  <a:pt x="1724" y="9621"/>
                  <a:pt x="1761" y="9599"/>
                </a:cubicBezTo>
                <a:cubicBezTo>
                  <a:pt x="1802" y="9574"/>
                  <a:pt x="1812" y="9591"/>
                  <a:pt x="1836" y="9550"/>
                </a:cubicBezTo>
                <a:cubicBezTo>
                  <a:pt x="1858" y="9527"/>
                  <a:pt x="1863" y="9519"/>
                  <a:pt x="1885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5880" y="2687760"/>
            <a:ext cx="206280" cy="31248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2183" y="8062"/>
                </a:moveTo>
                <a:cubicBezTo>
                  <a:pt x="2228" y="8127"/>
                  <a:pt x="2263" y="8196"/>
                  <a:pt x="2307" y="8260"/>
                </a:cubicBezTo>
                <a:cubicBezTo>
                  <a:pt x="2318" y="8275"/>
                  <a:pt x="2371" y="8347"/>
                  <a:pt x="2381" y="8334"/>
                </a:cubicBezTo>
                <a:cubicBezTo>
                  <a:pt x="2381" y="8306"/>
                  <a:pt x="2378" y="8296"/>
                  <a:pt x="2356" y="8285"/>
                </a:cubicBezTo>
              </a:path>
              <a:path w="571" h="869">
                <a:moveTo>
                  <a:pt x="2356" y="7838"/>
                </a:moveTo>
                <a:cubicBezTo>
                  <a:pt x="2384" y="7811"/>
                  <a:pt x="2463" y="7753"/>
                  <a:pt x="2480" y="7714"/>
                </a:cubicBezTo>
                <a:cubicBezTo>
                  <a:pt x="2480" y="7689"/>
                  <a:pt x="2480" y="7681"/>
                  <a:pt x="2505" y="7689"/>
                </a:cubicBezTo>
              </a:path>
              <a:path w="571" h="869">
                <a:moveTo>
                  <a:pt x="2381" y="7863"/>
                </a:moveTo>
                <a:cubicBezTo>
                  <a:pt x="2390" y="7927"/>
                  <a:pt x="2416" y="7933"/>
                  <a:pt x="2431" y="7962"/>
                </a:cubicBezTo>
                <a:cubicBezTo>
                  <a:pt x="2431" y="7970"/>
                  <a:pt x="2431" y="7979"/>
                  <a:pt x="2431" y="7987"/>
                </a:cubicBezTo>
                <a:cubicBezTo>
                  <a:pt x="2460" y="7949"/>
                  <a:pt x="2452" y="7887"/>
                  <a:pt x="2505" y="7863"/>
                </a:cubicBezTo>
                <a:cubicBezTo>
                  <a:pt x="2528" y="7853"/>
                  <a:pt x="2611" y="7898"/>
                  <a:pt x="2629" y="7913"/>
                </a:cubicBezTo>
                <a:cubicBezTo>
                  <a:pt x="2676" y="7951"/>
                  <a:pt x="2678" y="7994"/>
                  <a:pt x="2704" y="8037"/>
                </a:cubicBezTo>
                <a:cubicBezTo>
                  <a:pt x="2729" y="8078"/>
                  <a:pt x="2733" y="8093"/>
                  <a:pt x="2704" y="8136"/>
                </a:cubicBezTo>
                <a:cubicBezTo>
                  <a:pt x="2693" y="8153"/>
                  <a:pt x="2624" y="8195"/>
                  <a:pt x="2604" y="8186"/>
                </a:cubicBezTo>
                <a:cubicBezTo>
                  <a:pt x="2582" y="8163"/>
                  <a:pt x="2577" y="8155"/>
                  <a:pt x="2555" y="8161"/>
                </a:cubicBezTo>
              </a:path>
              <a:path w="571" h="869">
                <a:moveTo>
                  <a:pt x="2679" y="7541"/>
                </a:moveTo>
                <a:cubicBezTo>
                  <a:pt x="2719" y="7570"/>
                  <a:pt x="2746" y="7577"/>
                  <a:pt x="2753" y="7516"/>
                </a:cubicBezTo>
                <a:cubicBezTo>
                  <a:pt x="2759" y="7463"/>
                  <a:pt x="2720" y="7487"/>
                  <a:pt x="2704" y="7491"/>
                </a:cubicBezTo>
                <a:cubicBezTo>
                  <a:pt x="2696" y="7491"/>
                  <a:pt x="2687" y="7491"/>
                  <a:pt x="2679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94080" y="3081240"/>
            <a:ext cx="2035080" cy="650880"/>
          </a:xfrm>
          <a:custGeom>
            <a:avLst/>
            <a:gdLst/>
            <a:ahLst/>
            <a:rect l="l" t="t" r="r" b="b"/>
            <a:pathLst>
              <a:path w="5656" h="1811">
                <a:moveTo>
                  <a:pt x="9847" y="8855"/>
                </a:moveTo>
                <a:cubicBezTo>
                  <a:pt x="9837" y="8791"/>
                  <a:pt x="9822" y="8787"/>
                  <a:pt x="9748" y="8781"/>
                </a:cubicBezTo>
                <a:cubicBezTo>
                  <a:pt x="9711" y="8778"/>
                  <a:pt x="9673" y="8772"/>
                  <a:pt x="9649" y="8806"/>
                </a:cubicBezTo>
                <a:cubicBezTo>
                  <a:pt x="9629" y="8835"/>
                  <a:pt x="9549" y="8882"/>
                  <a:pt x="9575" y="8930"/>
                </a:cubicBezTo>
                <a:cubicBezTo>
                  <a:pt x="9611" y="8996"/>
                  <a:pt x="9749" y="8980"/>
                  <a:pt x="9798" y="9029"/>
                </a:cubicBezTo>
                <a:cubicBezTo>
                  <a:pt x="9829" y="9060"/>
                  <a:pt x="9869" y="9136"/>
                  <a:pt x="9872" y="9178"/>
                </a:cubicBezTo>
                <a:cubicBezTo>
                  <a:pt x="9876" y="9243"/>
                  <a:pt x="9834" y="9247"/>
                  <a:pt x="9773" y="9252"/>
                </a:cubicBezTo>
                <a:cubicBezTo>
                  <a:pt x="9700" y="9258"/>
                  <a:pt x="9664" y="9244"/>
                  <a:pt x="9599" y="9227"/>
                </a:cubicBezTo>
                <a:cubicBezTo>
                  <a:pt x="9494" y="9200"/>
                  <a:pt x="9556" y="9233"/>
                  <a:pt x="9500" y="9178"/>
                </a:cubicBezTo>
                <a:cubicBezTo>
                  <a:pt x="9471" y="9150"/>
                  <a:pt x="9495" y="9161"/>
                  <a:pt x="9550" y="9153"/>
                </a:cubicBezTo>
              </a:path>
              <a:path w="5656" h="1811">
                <a:moveTo>
                  <a:pt x="10071" y="8855"/>
                </a:moveTo>
                <a:cubicBezTo>
                  <a:pt x="10071" y="8983"/>
                  <a:pt x="10068" y="9037"/>
                  <a:pt x="10046" y="9153"/>
                </a:cubicBezTo>
                <a:cubicBezTo>
                  <a:pt x="10040" y="9186"/>
                  <a:pt x="10053" y="9259"/>
                  <a:pt x="10046" y="9227"/>
                </a:cubicBezTo>
                <a:cubicBezTo>
                  <a:pt x="10039" y="9195"/>
                  <a:pt x="10046" y="9136"/>
                  <a:pt x="10046" y="9103"/>
                </a:cubicBezTo>
              </a:path>
              <a:path w="5656" h="1811">
                <a:moveTo>
                  <a:pt x="10120" y="8582"/>
                </a:moveTo>
                <a:cubicBezTo>
                  <a:pt x="10128" y="8574"/>
                  <a:pt x="10137" y="8566"/>
                  <a:pt x="10145" y="8558"/>
                </a:cubicBezTo>
              </a:path>
              <a:path w="5656" h="1811">
                <a:moveTo>
                  <a:pt x="10269" y="9004"/>
                </a:moveTo>
                <a:cubicBezTo>
                  <a:pt x="10259" y="9186"/>
                  <a:pt x="10244" y="9106"/>
                  <a:pt x="10244" y="9227"/>
                </a:cubicBezTo>
                <a:cubicBezTo>
                  <a:pt x="10244" y="9148"/>
                  <a:pt x="10260" y="9080"/>
                  <a:pt x="10269" y="9004"/>
                </a:cubicBezTo>
                <a:cubicBezTo>
                  <a:pt x="10279" y="8919"/>
                  <a:pt x="10302" y="8917"/>
                  <a:pt x="10344" y="8855"/>
                </a:cubicBezTo>
                <a:cubicBezTo>
                  <a:pt x="10391" y="8787"/>
                  <a:pt x="10381" y="8781"/>
                  <a:pt x="10468" y="8781"/>
                </a:cubicBezTo>
                <a:cubicBezTo>
                  <a:pt x="10489" y="8781"/>
                  <a:pt x="10535" y="8852"/>
                  <a:pt x="10542" y="8880"/>
                </a:cubicBezTo>
                <a:cubicBezTo>
                  <a:pt x="10561" y="8952"/>
                  <a:pt x="10507" y="9267"/>
                  <a:pt x="10567" y="9227"/>
                </a:cubicBezTo>
              </a:path>
              <a:path w="5656" h="1811">
                <a:moveTo>
                  <a:pt x="10889" y="8632"/>
                </a:moveTo>
                <a:cubicBezTo>
                  <a:pt x="10889" y="8717"/>
                  <a:pt x="10867" y="8772"/>
                  <a:pt x="10864" y="8855"/>
                </a:cubicBezTo>
                <a:cubicBezTo>
                  <a:pt x="10860" y="8962"/>
                  <a:pt x="10828" y="9161"/>
                  <a:pt x="10840" y="9252"/>
                </a:cubicBezTo>
                <a:cubicBezTo>
                  <a:pt x="10848" y="9269"/>
                  <a:pt x="10856" y="9285"/>
                  <a:pt x="10864" y="9302"/>
                </a:cubicBezTo>
                <a:cubicBezTo>
                  <a:pt x="10888" y="9247"/>
                  <a:pt x="10885" y="9200"/>
                  <a:pt x="10914" y="9153"/>
                </a:cubicBezTo>
              </a:path>
              <a:path w="5656" h="1811">
                <a:moveTo>
                  <a:pt x="11237" y="8632"/>
                </a:moveTo>
                <a:cubicBezTo>
                  <a:pt x="11327" y="8616"/>
                  <a:pt x="11364" y="8582"/>
                  <a:pt x="11460" y="8582"/>
                </a:cubicBezTo>
                <a:cubicBezTo>
                  <a:pt x="11520" y="8582"/>
                  <a:pt x="11563" y="8591"/>
                  <a:pt x="11609" y="8558"/>
                </a:cubicBezTo>
              </a:path>
              <a:path w="5656" h="1811">
                <a:moveTo>
                  <a:pt x="11237" y="8582"/>
                </a:moveTo>
                <a:cubicBezTo>
                  <a:pt x="11200" y="8640"/>
                  <a:pt x="11134" y="8714"/>
                  <a:pt x="11112" y="8781"/>
                </a:cubicBezTo>
                <a:cubicBezTo>
                  <a:pt x="11112" y="8814"/>
                  <a:pt x="11112" y="8830"/>
                  <a:pt x="11112" y="8855"/>
                </a:cubicBezTo>
                <a:cubicBezTo>
                  <a:pt x="11191" y="8855"/>
                  <a:pt x="11162" y="8844"/>
                  <a:pt x="11237" y="8806"/>
                </a:cubicBezTo>
                <a:cubicBezTo>
                  <a:pt x="11305" y="8772"/>
                  <a:pt x="11327" y="8840"/>
                  <a:pt x="11361" y="8855"/>
                </a:cubicBezTo>
                <a:cubicBezTo>
                  <a:pt x="11405" y="8874"/>
                  <a:pt x="11472" y="8933"/>
                  <a:pt x="11485" y="9004"/>
                </a:cubicBezTo>
                <a:cubicBezTo>
                  <a:pt x="11498" y="9073"/>
                  <a:pt x="11515" y="9166"/>
                  <a:pt x="11485" y="9227"/>
                </a:cubicBezTo>
                <a:cubicBezTo>
                  <a:pt x="11462" y="9272"/>
                  <a:pt x="11380" y="9357"/>
                  <a:pt x="11336" y="9376"/>
                </a:cubicBezTo>
                <a:cubicBezTo>
                  <a:pt x="11252" y="9413"/>
                  <a:pt x="11172" y="9346"/>
                  <a:pt x="11112" y="9327"/>
                </a:cubicBezTo>
                <a:cubicBezTo>
                  <a:pt x="11059" y="9310"/>
                  <a:pt x="10970" y="9327"/>
                  <a:pt x="10914" y="9327"/>
                </a:cubicBezTo>
              </a:path>
              <a:path w="5656" h="1811">
                <a:moveTo>
                  <a:pt x="9426" y="9401"/>
                </a:moveTo>
                <a:cubicBezTo>
                  <a:pt x="9540" y="9454"/>
                  <a:pt x="9620" y="9451"/>
                  <a:pt x="9748" y="9451"/>
                </a:cubicBezTo>
                <a:cubicBezTo>
                  <a:pt x="10302" y="9451"/>
                  <a:pt x="11915" y="9451"/>
                  <a:pt x="11361" y="9451"/>
                </a:cubicBezTo>
                <a:cubicBezTo>
                  <a:pt x="11336" y="9451"/>
                  <a:pt x="11328" y="9451"/>
                  <a:pt x="11311" y="9451"/>
                </a:cubicBezTo>
              </a:path>
              <a:path w="5656" h="1811">
                <a:moveTo>
                  <a:pt x="10567" y="10120"/>
                </a:moveTo>
                <a:cubicBezTo>
                  <a:pt x="10567" y="10068"/>
                  <a:pt x="10572" y="10002"/>
                  <a:pt x="10517" y="9971"/>
                </a:cubicBezTo>
                <a:cubicBezTo>
                  <a:pt x="10453" y="9935"/>
                  <a:pt x="10506" y="10016"/>
                  <a:pt x="10443" y="9922"/>
                </a:cubicBezTo>
                <a:cubicBezTo>
                  <a:pt x="10395" y="9992"/>
                  <a:pt x="10365" y="9937"/>
                  <a:pt x="10319" y="9996"/>
                </a:cubicBezTo>
                <a:cubicBezTo>
                  <a:pt x="10272" y="10058"/>
                  <a:pt x="10257" y="10128"/>
                  <a:pt x="10220" y="10195"/>
                </a:cubicBezTo>
                <a:cubicBezTo>
                  <a:pt x="10185" y="10258"/>
                  <a:pt x="10210" y="10275"/>
                  <a:pt x="10220" y="10344"/>
                </a:cubicBezTo>
                <a:cubicBezTo>
                  <a:pt x="10317" y="10344"/>
                  <a:pt x="10385" y="10365"/>
                  <a:pt x="10443" y="10294"/>
                </a:cubicBezTo>
                <a:cubicBezTo>
                  <a:pt x="10481" y="10247"/>
                  <a:pt x="10512" y="10198"/>
                  <a:pt x="10542" y="10145"/>
                </a:cubicBezTo>
                <a:cubicBezTo>
                  <a:pt x="10542" y="10199"/>
                  <a:pt x="10531" y="10255"/>
                  <a:pt x="10592" y="10269"/>
                </a:cubicBezTo>
                <a:cubicBezTo>
                  <a:pt x="10648" y="10281"/>
                  <a:pt x="10692" y="10324"/>
                  <a:pt x="10765" y="10344"/>
                </a:cubicBezTo>
                <a:cubicBezTo>
                  <a:pt x="10824" y="10360"/>
                  <a:pt x="10850" y="10368"/>
                  <a:pt x="10914" y="10368"/>
                </a:cubicBezTo>
                <a:cubicBezTo>
                  <a:pt x="10958" y="10368"/>
                  <a:pt x="10974" y="10353"/>
                  <a:pt x="11013" y="10344"/>
                </a:cubicBezTo>
              </a:path>
              <a:path w="5656" h="1811">
                <a:moveTo>
                  <a:pt x="11807" y="9376"/>
                </a:moveTo>
                <a:cubicBezTo>
                  <a:pt x="11931" y="9376"/>
                  <a:pt x="12055" y="9376"/>
                  <a:pt x="12179" y="9376"/>
                </a:cubicBezTo>
              </a:path>
              <a:path w="5656" h="1811">
                <a:moveTo>
                  <a:pt x="11832" y="9500"/>
                </a:moveTo>
                <a:cubicBezTo>
                  <a:pt x="11881" y="9549"/>
                  <a:pt x="11886" y="9550"/>
                  <a:pt x="11956" y="9550"/>
                </a:cubicBezTo>
                <a:cubicBezTo>
                  <a:pt x="12006" y="9550"/>
                  <a:pt x="12055" y="9550"/>
                  <a:pt x="12105" y="9550"/>
                </a:cubicBezTo>
              </a:path>
              <a:path w="5656" h="1811">
                <a:moveTo>
                  <a:pt x="12874" y="8855"/>
                </a:moveTo>
                <a:cubicBezTo>
                  <a:pt x="12811" y="8855"/>
                  <a:pt x="12826" y="8818"/>
                  <a:pt x="12774" y="8806"/>
                </a:cubicBezTo>
                <a:cubicBezTo>
                  <a:pt x="12702" y="8790"/>
                  <a:pt x="12722" y="8825"/>
                  <a:pt x="12675" y="8855"/>
                </a:cubicBezTo>
                <a:cubicBezTo>
                  <a:pt x="12620" y="8891"/>
                  <a:pt x="12623" y="8849"/>
                  <a:pt x="12576" y="8930"/>
                </a:cubicBezTo>
                <a:cubicBezTo>
                  <a:pt x="12622" y="8941"/>
                  <a:pt x="12664" y="8983"/>
                  <a:pt x="12700" y="9004"/>
                </a:cubicBezTo>
                <a:cubicBezTo>
                  <a:pt x="12758" y="9038"/>
                  <a:pt x="12825" y="9107"/>
                  <a:pt x="12874" y="9153"/>
                </a:cubicBezTo>
                <a:cubicBezTo>
                  <a:pt x="12923" y="9199"/>
                  <a:pt x="12971" y="9241"/>
                  <a:pt x="12923" y="9302"/>
                </a:cubicBezTo>
                <a:cubicBezTo>
                  <a:pt x="12899" y="9333"/>
                  <a:pt x="12814" y="9327"/>
                  <a:pt x="12774" y="9327"/>
                </a:cubicBezTo>
                <a:cubicBezTo>
                  <a:pt x="12731" y="9327"/>
                  <a:pt x="12629" y="9330"/>
                  <a:pt x="12601" y="9302"/>
                </a:cubicBezTo>
                <a:cubicBezTo>
                  <a:pt x="12546" y="9247"/>
                  <a:pt x="12593" y="9218"/>
                  <a:pt x="12626" y="9178"/>
                </a:cubicBezTo>
                <a:cubicBezTo>
                  <a:pt x="12634" y="9170"/>
                  <a:pt x="12642" y="9161"/>
                  <a:pt x="12650" y="9153"/>
                </a:cubicBezTo>
              </a:path>
              <a:path w="5656" h="1811">
                <a:moveTo>
                  <a:pt x="13097" y="8954"/>
                </a:moveTo>
                <a:cubicBezTo>
                  <a:pt x="13097" y="9008"/>
                  <a:pt x="13097" y="9326"/>
                  <a:pt x="13097" y="9302"/>
                </a:cubicBezTo>
                <a:cubicBezTo>
                  <a:pt x="13097" y="9285"/>
                  <a:pt x="13097" y="9269"/>
                  <a:pt x="13097" y="9252"/>
                </a:cubicBezTo>
              </a:path>
              <a:path w="5656" h="1811">
                <a:moveTo>
                  <a:pt x="13221" y="8657"/>
                </a:moveTo>
                <a:cubicBezTo>
                  <a:pt x="13221" y="8632"/>
                  <a:pt x="13221" y="8624"/>
                  <a:pt x="13246" y="8632"/>
                </a:cubicBezTo>
              </a:path>
              <a:path w="5656" h="1811">
                <a:moveTo>
                  <a:pt x="13320" y="9103"/>
                </a:moveTo>
                <a:cubicBezTo>
                  <a:pt x="13320" y="9178"/>
                  <a:pt x="13320" y="9252"/>
                  <a:pt x="13320" y="9327"/>
                </a:cubicBezTo>
                <a:cubicBezTo>
                  <a:pt x="13362" y="9313"/>
                  <a:pt x="13345" y="9278"/>
                  <a:pt x="13345" y="9227"/>
                </a:cubicBezTo>
                <a:cubicBezTo>
                  <a:pt x="13345" y="9145"/>
                  <a:pt x="13382" y="9073"/>
                  <a:pt x="13395" y="9004"/>
                </a:cubicBezTo>
                <a:cubicBezTo>
                  <a:pt x="13404" y="8957"/>
                  <a:pt x="13417" y="8884"/>
                  <a:pt x="13469" y="8855"/>
                </a:cubicBezTo>
                <a:cubicBezTo>
                  <a:pt x="13493" y="8842"/>
                  <a:pt x="13584" y="8850"/>
                  <a:pt x="13593" y="8880"/>
                </a:cubicBezTo>
                <a:cubicBezTo>
                  <a:pt x="13610" y="8935"/>
                  <a:pt x="13615" y="9024"/>
                  <a:pt x="13618" y="9079"/>
                </a:cubicBezTo>
                <a:cubicBezTo>
                  <a:pt x="13622" y="9165"/>
                  <a:pt x="13621" y="9251"/>
                  <a:pt x="13643" y="9302"/>
                </a:cubicBezTo>
                <a:cubicBezTo>
                  <a:pt x="13666" y="9355"/>
                  <a:pt x="13678" y="9262"/>
                  <a:pt x="13692" y="9227"/>
                </a:cubicBezTo>
              </a:path>
              <a:path w="5656" h="1811">
                <a:moveTo>
                  <a:pt x="13915" y="8706"/>
                </a:moveTo>
                <a:cubicBezTo>
                  <a:pt x="13901" y="8847"/>
                  <a:pt x="13886" y="8970"/>
                  <a:pt x="13866" y="9103"/>
                </a:cubicBezTo>
                <a:cubicBezTo>
                  <a:pt x="13857" y="9164"/>
                  <a:pt x="13887" y="9196"/>
                  <a:pt x="13891" y="9252"/>
                </a:cubicBezTo>
                <a:cubicBezTo>
                  <a:pt x="13891" y="9294"/>
                  <a:pt x="13891" y="9302"/>
                  <a:pt x="13891" y="9327"/>
                </a:cubicBezTo>
                <a:cubicBezTo>
                  <a:pt x="13930" y="9314"/>
                  <a:pt x="13915" y="9307"/>
                  <a:pt x="13915" y="9252"/>
                </a:cubicBezTo>
              </a:path>
              <a:path w="5656" h="1811">
                <a:moveTo>
                  <a:pt x="14064" y="8781"/>
                </a:moveTo>
                <a:cubicBezTo>
                  <a:pt x="14100" y="8735"/>
                  <a:pt x="14154" y="8677"/>
                  <a:pt x="14213" y="8657"/>
                </a:cubicBezTo>
                <a:cubicBezTo>
                  <a:pt x="14247" y="8645"/>
                  <a:pt x="14308" y="8690"/>
                  <a:pt x="14337" y="8706"/>
                </a:cubicBezTo>
                <a:cubicBezTo>
                  <a:pt x="14400" y="8741"/>
                  <a:pt x="14404" y="8872"/>
                  <a:pt x="14387" y="8930"/>
                </a:cubicBezTo>
                <a:cubicBezTo>
                  <a:pt x="14369" y="8990"/>
                  <a:pt x="14325" y="9044"/>
                  <a:pt x="14288" y="9103"/>
                </a:cubicBezTo>
                <a:cubicBezTo>
                  <a:pt x="14255" y="9156"/>
                  <a:pt x="14228" y="9196"/>
                  <a:pt x="14188" y="9227"/>
                </a:cubicBezTo>
                <a:cubicBezTo>
                  <a:pt x="14130" y="9272"/>
                  <a:pt x="14173" y="9307"/>
                  <a:pt x="14188" y="9327"/>
                </a:cubicBezTo>
                <a:cubicBezTo>
                  <a:pt x="14235" y="9391"/>
                  <a:pt x="14257" y="9376"/>
                  <a:pt x="14337" y="9376"/>
                </a:cubicBezTo>
                <a:cubicBezTo>
                  <a:pt x="14435" y="9376"/>
                  <a:pt x="14444" y="9377"/>
                  <a:pt x="14511" y="9327"/>
                </a:cubicBezTo>
                <a:cubicBezTo>
                  <a:pt x="14527" y="9319"/>
                  <a:pt x="14544" y="9310"/>
                  <a:pt x="14560" y="9302"/>
                </a:cubicBezTo>
              </a:path>
              <a:path w="5656" h="1811">
                <a:moveTo>
                  <a:pt x="14709" y="8806"/>
                </a:moveTo>
                <a:cubicBezTo>
                  <a:pt x="14673" y="8899"/>
                  <a:pt x="14625" y="9004"/>
                  <a:pt x="14610" y="9103"/>
                </a:cubicBezTo>
                <a:cubicBezTo>
                  <a:pt x="14598" y="9185"/>
                  <a:pt x="14611" y="9258"/>
                  <a:pt x="14660" y="9302"/>
                </a:cubicBezTo>
                <a:cubicBezTo>
                  <a:pt x="14728" y="9364"/>
                  <a:pt x="14706" y="9376"/>
                  <a:pt x="14808" y="9376"/>
                </a:cubicBezTo>
                <a:cubicBezTo>
                  <a:pt x="14889" y="9376"/>
                  <a:pt x="14931" y="9366"/>
                  <a:pt x="14982" y="9302"/>
                </a:cubicBezTo>
                <a:cubicBezTo>
                  <a:pt x="15030" y="9242"/>
                  <a:pt x="15067" y="9154"/>
                  <a:pt x="15081" y="9079"/>
                </a:cubicBezTo>
                <a:cubicBezTo>
                  <a:pt x="15095" y="9004"/>
                  <a:pt x="15082" y="8874"/>
                  <a:pt x="15056" y="8806"/>
                </a:cubicBezTo>
                <a:cubicBezTo>
                  <a:pt x="15041" y="8767"/>
                  <a:pt x="14946" y="8719"/>
                  <a:pt x="14908" y="8706"/>
                </a:cubicBezTo>
                <a:cubicBezTo>
                  <a:pt x="14875" y="8706"/>
                  <a:pt x="14858" y="8706"/>
                  <a:pt x="14833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1960" y="3106800"/>
            <a:ext cx="1955880" cy="787320"/>
          </a:xfrm>
          <a:custGeom>
            <a:avLst/>
            <a:gdLst/>
            <a:ahLst/>
            <a:rect l="l" t="t" r="r" b="b"/>
            <a:pathLst>
              <a:path w="5433" h="2184">
                <a:moveTo>
                  <a:pt x="18083" y="8855"/>
                </a:moveTo>
                <a:cubicBezTo>
                  <a:pt x="18006" y="8855"/>
                  <a:pt x="17949" y="8858"/>
                  <a:pt x="17884" y="8880"/>
                </a:cubicBezTo>
                <a:cubicBezTo>
                  <a:pt x="17861" y="8888"/>
                  <a:pt x="17803" y="8931"/>
                  <a:pt x="17810" y="8954"/>
                </a:cubicBezTo>
                <a:cubicBezTo>
                  <a:pt x="17838" y="9044"/>
                  <a:pt x="17886" y="8985"/>
                  <a:pt x="17934" y="9029"/>
                </a:cubicBezTo>
                <a:cubicBezTo>
                  <a:pt x="18015" y="9103"/>
                  <a:pt x="18074" y="9102"/>
                  <a:pt x="18157" y="9227"/>
                </a:cubicBezTo>
                <a:cubicBezTo>
                  <a:pt x="18178" y="9259"/>
                  <a:pt x="18182" y="9315"/>
                  <a:pt x="18157" y="9327"/>
                </a:cubicBezTo>
                <a:cubicBezTo>
                  <a:pt x="18097" y="9357"/>
                  <a:pt x="18115" y="9376"/>
                  <a:pt x="18033" y="9376"/>
                </a:cubicBezTo>
                <a:cubicBezTo>
                  <a:pt x="17947" y="9376"/>
                  <a:pt x="17943" y="9335"/>
                  <a:pt x="17884" y="9327"/>
                </a:cubicBezTo>
                <a:cubicBezTo>
                  <a:pt x="17862" y="9324"/>
                  <a:pt x="17766" y="9282"/>
                  <a:pt x="17810" y="9227"/>
                </a:cubicBezTo>
                <a:cubicBezTo>
                  <a:pt x="17843" y="9227"/>
                  <a:pt x="17851" y="9219"/>
                  <a:pt x="17835" y="9178"/>
                </a:cubicBezTo>
              </a:path>
              <a:path w="5433" h="2184">
                <a:moveTo>
                  <a:pt x="18331" y="8855"/>
                </a:moveTo>
                <a:cubicBezTo>
                  <a:pt x="18384" y="8963"/>
                  <a:pt x="18380" y="9030"/>
                  <a:pt x="18380" y="9153"/>
                </a:cubicBezTo>
                <a:cubicBezTo>
                  <a:pt x="18380" y="9187"/>
                  <a:pt x="18383" y="9284"/>
                  <a:pt x="18355" y="9227"/>
                </a:cubicBezTo>
              </a:path>
              <a:path w="5433" h="2184">
                <a:moveTo>
                  <a:pt x="18430" y="8706"/>
                </a:moveTo>
                <a:cubicBezTo>
                  <a:pt x="18438" y="8690"/>
                  <a:pt x="18447" y="8673"/>
                  <a:pt x="18455" y="8657"/>
                </a:cubicBezTo>
              </a:path>
              <a:path w="5433" h="2184">
                <a:moveTo>
                  <a:pt x="18504" y="9153"/>
                </a:moveTo>
                <a:cubicBezTo>
                  <a:pt x="18504" y="9211"/>
                  <a:pt x="18504" y="9219"/>
                  <a:pt x="18504" y="9252"/>
                </a:cubicBezTo>
                <a:cubicBezTo>
                  <a:pt x="18537" y="9198"/>
                  <a:pt x="18506" y="9157"/>
                  <a:pt x="18529" y="9103"/>
                </a:cubicBezTo>
                <a:cubicBezTo>
                  <a:pt x="18552" y="9049"/>
                  <a:pt x="18559" y="8976"/>
                  <a:pt x="18604" y="8930"/>
                </a:cubicBezTo>
                <a:cubicBezTo>
                  <a:pt x="18625" y="8909"/>
                  <a:pt x="18661" y="8860"/>
                  <a:pt x="18703" y="8855"/>
                </a:cubicBezTo>
                <a:cubicBezTo>
                  <a:pt x="18721" y="8853"/>
                  <a:pt x="18774" y="8924"/>
                  <a:pt x="18777" y="8930"/>
                </a:cubicBezTo>
                <a:cubicBezTo>
                  <a:pt x="18815" y="9001"/>
                  <a:pt x="18801" y="9084"/>
                  <a:pt x="18827" y="9153"/>
                </a:cubicBezTo>
                <a:cubicBezTo>
                  <a:pt x="18843" y="9196"/>
                  <a:pt x="18876" y="9361"/>
                  <a:pt x="18876" y="9252"/>
                </a:cubicBezTo>
              </a:path>
              <a:path w="5433" h="2184">
                <a:moveTo>
                  <a:pt x="19050" y="8731"/>
                </a:moveTo>
                <a:cubicBezTo>
                  <a:pt x="19042" y="8761"/>
                  <a:pt x="18997" y="8891"/>
                  <a:pt x="19025" y="8930"/>
                </a:cubicBezTo>
                <a:cubicBezTo>
                  <a:pt x="19035" y="8944"/>
                  <a:pt x="19071" y="8997"/>
                  <a:pt x="19100" y="9004"/>
                </a:cubicBezTo>
                <a:cubicBezTo>
                  <a:pt x="19194" y="9025"/>
                  <a:pt x="19219" y="8999"/>
                  <a:pt x="19273" y="8930"/>
                </a:cubicBezTo>
              </a:path>
              <a:path w="5433" h="2184">
                <a:moveTo>
                  <a:pt x="19248" y="8632"/>
                </a:moveTo>
                <a:cubicBezTo>
                  <a:pt x="19248" y="8761"/>
                  <a:pt x="19238" y="8879"/>
                  <a:pt x="19224" y="9004"/>
                </a:cubicBezTo>
                <a:cubicBezTo>
                  <a:pt x="19215" y="9088"/>
                  <a:pt x="19230" y="9151"/>
                  <a:pt x="19248" y="9227"/>
                </a:cubicBezTo>
                <a:cubicBezTo>
                  <a:pt x="19248" y="9255"/>
                  <a:pt x="19250" y="9261"/>
                  <a:pt x="19273" y="9227"/>
                </a:cubicBezTo>
              </a:path>
              <a:path w="5433" h="2184">
                <a:moveTo>
                  <a:pt x="19521" y="8706"/>
                </a:moveTo>
                <a:cubicBezTo>
                  <a:pt x="19595" y="8666"/>
                  <a:pt x="19642" y="8639"/>
                  <a:pt x="19720" y="8632"/>
                </a:cubicBezTo>
                <a:cubicBezTo>
                  <a:pt x="19728" y="8632"/>
                  <a:pt x="19737" y="8632"/>
                  <a:pt x="19745" y="8632"/>
                </a:cubicBezTo>
              </a:path>
              <a:path w="5433" h="2184">
                <a:moveTo>
                  <a:pt x="19447" y="8706"/>
                </a:moveTo>
                <a:cubicBezTo>
                  <a:pt x="19387" y="8772"/>
                  <a:pt x="19327" y="8808"/>
                  <a:pt x="19422" y="8855"/>
                </a:cubicBezTo>
                <a:cubicBezTo>
                  <a:pt x="19478" y="8883"/>
                  <a:pt x="19517" y="8841"/>
                  <a:pt x="19571" y="8880"/>
                </a:cubicBezTo>
                <a:cubicBezTo>
                  <a:pt x="19704" y="8977"/>
                  <a:pt x="19665" y="8910"/>
                  <a:pt x="19745" y="9079"/>
                </a:cubicBezTo>
                <a:cubicBezTo>
                  <a:pt x="19767" y="9126"/>
                  <a:pt x="19771" y="9175"/>
                  <a:pt x="19745" y="9227"/>
                </a:cubicBezTo>
                <a:cubicBezTo>
                  <a:pt x="19706" y="9305"/>
                  <a:pt x="19660" y="9287"/>
                  <a:pt x="19596" y="9302"/>
                </a:cubicBezTo>
                <a:cubicBezTo>
                  <a:pt x="19514" y="9321"/>
                  <a:pt x="19422" y="9362"/>
                  <a:pt x="19348" y="9376"/>
                </a:cubicBezTo>
                <a:cubicBezTo>
                  <a:pt x="19315" y="9376"/>
                  <a:pt x="19281" y="9376"/>
                  <a:pt x="19248" y="9376"/>
                </a:cubicBezTo>
              </a:path>
              <a:path w="5433" h="2184">
                <a:moveTo>
                  <a:pt x="17959" y="9599"/>
                </a:moveTo>
                <a:cubicBezTo>
                  <a:pt x="18152" y="9599"/>
                  <a:pt x="18338" y="9609"/>
                  <a:pt x="18529" y="9624"/>
                </a:cubicBezTo>
                <a:cubicBezTo>
                  <a:pt x="18809" y="9646"/>
                  <a:pt x="19539" y="9444"/>
                  <a:pt x="19323" y="9624"/>
                </a:cubicBezTo>
                <a:cubicBezTo>
                  <a:pt x="19306" y="9641"/>
                  <a:pt x="19290" y="9657"/>
                  <a:pt x="19273" y="9674"/>
                </a:cubicBezTo>
              </a:path>
              <a:path w="5433" h="2184">
                <a:moveTo>
                  <a:pt x="18579" y="9922"/>
                </a:moveTo>
                <a:cubicBezTo>
                  <a:pt x="18579" y="10042"/>
                  <a:pt x="18598" y="10150"/>
                  <a:pt x="18604" y="10269"/>
                </a:cubicBezTo>
                <a:cubicBezTo>
                  <a:pt x="18608" y="10338"/>
                  <a:pt x="18579" y="10417"/>
                  <a:pt x="18579" y="10492"/>
                </a:cubicBezTo>
                <a:cubicBezTo>
                  <a:pt x="18579" y="10525"/>
                  <a:pt x="18579" y="10542"/>
                  <a:pt x="18579" y="10567"/>
                </a:cubicBezTo>
                <a:cubicBezTo>
                  <a:pt x="18609" y="10547"/>
                  <a:pt x="18633" y="10472"/>
                  <a:pt x="18653" y="10418"/>
                </a:cubicBezTo>
                <a:cubicBezTo>
                  <a:pt x="18688" y="10322"/>
                  <a:pt x="18705" y="10337"/>
                  <a:pt x="18777" y="10294"/>
                </a:cubicBezTo>
                <a:cubicBezTo>
                  <a:pt x="18870" y="10239"/>
                  <a:pt x="18860" y="10298"/>
                  <a:pt x="18926" y="10344"/>
                </a:cubicBezTo>
                <a:cubicBezTo>
                  <a:pt x="18973" y="10377"/>
                  <a:pt x="19031" y="10404"/>
                  <a:pt x="19000" y="10492"/>
                </a:cubicBezTo>
                <a:cubicBezTo>
                  <a:pt x="18991" y="10517"/>
                  <a:pt x="18933" y="10562"/>
                  <a:pt x="18901" y="10592"/>
                </a:cubicBezTo>
                <a:cubicBezTo>
                  <a:pt x="18833" y="10655"/>
                  <a:pt x="18793" y="10641"/>
                  <a:pt x="18703" y="10641"/>
                </a:cubicBezTo>
                <a:cubicBezTo>
                  <a:pt x="18628" y="10641"/>
                  <a:pt x="18556" y="10673"/>
                  <a:pt x="18579" y="10567"/>
                </a:cubicBezTo>
                <a:cubicBezTo>
                  <a:pt x="18587" y="10550"/>
                  <a:pt x="18596" y="10534"/>
                  <a:pt x="18604" y="10517"/>
                </a:cubicBezTo>
              </a:path>
              <a:path w="5433" h="2184">
                <a:moveTo>
                  <a:pt x="20042" y="9475"/>
                </a:moveTo>
                <a:cubicBezTo>
                  <a:pt x="20123" y="9475"/>
                  <a:pt x="20187" y="9458"/>
                  <a:pt x="20265" y="9451"/>
                </a:cubicBezTo>
                <a:cubicBezTo>
                  <a:pt x="20273" y="9451"/>
                  <a:pt x="20282" y="9451"/>
                  <a:pt x="20290" y="9451"/>
                </a:cubicBezTo>
              </a:path>
              <a:path w="5433" h="2184">
                <a:moveTo>
                  <a:pt x="20042" y="9699"/>
                </a:moveTo>
                <a:cubicBezTo>
                  <a:pt x="20086" y="9763"/>
                  <a:pt x="20087" y="9748"/>
                  <a:pt x="20166" y="9748"/>
                </a:cubicBezTo>
                <a:cubicBezTo>
                  <a:pt x="20222" y="9748"/>
                  <a:pt x="20244" y="9743"/>
                  <a:pt x="20265" y="9699"/>
                </a:cubicBezTo>
              </a:path>
              <a:path w="5433" h="2184">
                <a:moveTo>
                  <a:pt x="21034" y="9029"/>
                </a:moveTo>
                <a:cubicBezTo>
                  <a:pt x="21005" y="8999"/>
                  <a:pt x="20994" y="8984"/>
                  <a:pt x="20985" y="8954"/>
                </a:cubicBezTo>
                <a:cubicBezTo>
                  <a:pt x="20942" y="8976"/>
                  <a:pt x="20945" y="9004"/>
                  <a:pt x="20886" y="9004"/>
                </a:cubicBezTo>
                <a:cubicBezTo>
                  <a:pt x="20803" y="9004"/>
                  <a:pt x="20855" y="9066"/>
                  <a:pt x="20861" y="9079"/>
                </a:cubicBezTo>
                <a:cubicBezTo>
                  <a:pt x="20882" y="9127"/>
                  <a:pt x="20928" y="9177"/>
                  <a:pt x="20960" y="9227"/>
                </a:cubicBezTo>
                <a:cubicBezTo>
                  <a:pt x="20998" y="9287"/>
                  <a:pt x="21067" y="9332"/>
                  <a:pt x="21084" y="9401"/>
                </a:cubicBezTo>
                <a:cubicBezTo>
                  <a:pt x="21094" y="9440"/>
                  <a:pt x="21050" y="9482"/>
                  <a:pt x="21010" y="9500"/>
                </a:cubicBezTo>
                <a:cubicBezTo>
                  <a:pt x="20959" y="9523"/>
                  <a:pt x="20900" y="9488"/>
                  <a:pt x="20861" y="9475"/>
                </a:cubicBezTo>
                <a:cubicBezTo>
                  <a:pt x="20798" y="9454"/>
                  <a:pt x="20818" y="9455"/>
                  <a:pt x="20786" y="9376"/>
                </a:cubicBezTo>
              </a:path>
              <a:path w="5433" h="2184">
                <a:moveTo>
                  <a:pt x="21208" y="9252"/>
                </a:moveTo>
                <a:cubicBezTo>
                  <a:pt x="21208" y="9260"/>
                  <a:pt x="21208" y="9531"/>
                  <a:pt x="21208" y="9475"/>
                </a:cubicBezTo>
              </a:path>
              <a:path w="5433" h="2184">
                <a:moveTo>
                  <a:pt x="21307" y="9004"/>
                </a:moveTo>
                <a:cubicBezTo>
                  <a:pt x="21324" y="8987"/>
                  <a:pt x="21340" y="8971"/>
                  <a:pt x="21357" y="8954"/>
                </a:cubicBezTo>
              </a:path>
              <a:path w="5433" h="2184">
                <a:moveTo>
                  <a:pt x="21456" y="9401"/>
                </a:moveTo>
                <a:cubicBezTo>
                  <a:pt x="21456" y="9426"/>
                  <a:pt x="21456" y="9450"/>
                  <a:pt x="21456" y="9475"/>
                </a:cubicBezTo>
                <a:cubicBezTo>
                  <a:pt x="21456" y="9544"/>
                  <a:pt x="21479" y="9380"/>
                  <a:pt x="21481" y="9376"/>
                </a:cubicBezTo>
                <a:cubicBezTo>
                  <a:pt x="21499" y="9337"/>
                  <a:pt x="21558" y="9170"/>
                  <a:pt x="21605" y="9153"/>
                </a:cubicBezTo>
                <a:cubicBezTo>
                  <a:pt x="21682" y="9125"/>
                  <a:pt x="21694" y="9180"/>
                  <a:pt x="21729" y="9227"/>
                </a:cubicBezTo>
                <a:cubicBezTo>
                  <a:pt x="21775" y="9288"/>
                  <a:pt x="21773" y="9396"/>
                  <a:pt x="21779" y="9475"/>
                </a:cubicBezTo>
                <a:cubicBezTo>
                  <a:pt x="21783" y="9530"/>
                  <a:pt x="21798" y="9604"/>
                  <a:pt x="21803" y="9624"/>
                </a:cubicBezTo>
                <a:cubicBezTo>
                  <a:pt x="21826" y="9714"/>
                  <a:pt x="21818" y="9651"/>
                  <a:pt x="21828" y="9599"/>
                </a:cubicBezTo>
              </a:path>
              <a:path w="5433" h="2184">
                <a:moveTo>
                  <a:pt x="22200" y="8930"/>
                </a:moveTo>
                <a:cubicBezTo>
                  <a:pt x="22200" y="9041"/>
                  <a:pt x="22198" y="9146"/>
                  <a:pt x="22175" y="9252"/>
                </a:cubicBezTo>
                <a:cubicBezTo>
                  <a:pt x="22160" y="9323"/>
                  <a:pt x="22154" y="9436"/>
                  <a:pt x="22126" y="9500"/>
                </a:cubicBezTo>
                <a:cubicBezTo>
                  <a:pt x="22115" y="9526"/>
                  <a:pt x="22079" y="9651"/>
                  <a:pt x="22101" y="9599"/>
                </a:cubicBezTo>
                <a:cubicBezTo>
                  <a:pt x="22123" y="9546"/>
                  <a:pt x="22131" y="9505"/>
                  <a:pt x="22151" y="9451"/>
                </a:cubicBezTo>
              </a:path>
              <a:path w="5433" h="2184">
                <a:moveTo>
                  <a:pt x="22349" y="8930"/>
                </a:moveTo>
                <a:cubicBezTo>
                  <a:pt x="22423" y="8904"/>
                  <a:pt x="22559" y="8833"/>
                  <a:pt x="22622" y="8930"/>
                </a:cubicBezTo>
                <a:cubicBezTo>
                  <a:pt x="22663" y="8993"/>
                  <a:pt x="22654" y="9090"/>
                  <a:pt x="22622" y="9153"/>
                </a:cubicBezTo>
                <a:cubicBezTo>
                  <a:pt x="22600" y="9197"/>
                  <a:pt x="22534" y="9279"/>
                  <a:pt x="22523" y="9302"/>
                </a:cubicBezTo>
                <a:cubicBezTo>
                  <a:pt x="22494" y="9361"/>
                  <a:pt x="22478" y="9422"/>
                  <a:pt x="22448" y="9451"/>
                </a:cubicBezTo>
                <a:cubicBezTo>
                  <a:pt x="22407" y="9491"/>
                  <a:pt x="22423" y="9544"/>
                  <a:pt x="22423" y="9599"/>
                </a:cubicBezTo>
                <a:cubicBezTo>
                  <a:pt x="22514" y="9599"/>
                  <a:pt x="22606" y="9624"/>
                  <a:pt x="22671" y="9550"/>
                </a:cubicBezTo>
                <a:cubicBezTo>
                  <a:pt x="22679" y="9533"/>
                  <a:pt x="22688" y="9517"/>
                  <a:pt x="22696" y="9500"/>
                </a:cubicBezTo>
              </a:path>
              <a:path w="5433" h="2184">
                <a:moveTo>
                  <a:pt x="22920" y="9029"/>
                </a:moveTo>
                <a:cubicBezTo>
                  <a:pt x="22910" y="9099"/>
                  <a:pt x="22870" y="9154"/>
                  <a:pt x="22845" y="9227"/>
                </a:cubicBezTo>
                <a:cubicBezTo>
                  <a:pt x="22814" y="9317"/>
                  <a:pt x="22776" y="9353"/>
                  <a:pt x="22771" y="9451"/>
                </a:cubicBezTo>
                <a:cubicBezTo>
                  <a:pt x="22767" y="9536"/>
                  <a:pt x="22811" y="9509"/>
                  <a:pt x="22845" y="9550"/>
                </a:cubicBezTo>
                <a:cubicBezTo>
                  <a:pt x="22912" y="9631"/>
                  <a:pt x="22915" y="9601"/>
                  <a:pt x="22994" y="9550"/>
                </a:cubicBezTo>
                <a:cubicBezTo>
                  <a:pt x="23074" y="9498"/>
                  <a:pt x="23131" y="9474"/>
                  <a:pt x="23192" y="9401"/>
                </a:cubicBezTo>
                <a:cubicBezTo>
                  <a:pt x="23246" y="9337"/>
                  <a:pt x="23242" y="9310"/>
                  <a:pt x="23242" y="9227"/>
                </a:cubicBezTo>
                <a:cubicBezTo>
                  <a:pt x="23242" y="9154"/>
                  <a:pt x="23232" y="9093"/>
                  <a:pt x="23192" y="9029"/>
                </a:cubicBezTo>
                <a:cubicBezTo>
                  <a:pt x="23163" y="8983"/>
                  <a:pt x="23106" y="8976"/>
                  <a:pt x="23068" y="8954"/>
                </a:cubicBezTo>
                <a:cubicBezTo>
                  <a:pt x="23004" y="8917"/>
                  <a:pt x="22965" y="8928"/>
                  <a:pt x="22895" y="8954"/>
                </a:cubicBezTo>
              </a:path>
              <a:path w="5433" h="2184">
                <a:moveTo>
                  <a:pt x="20489" y="9699"/>
                </a:moveTo>
                <a:cubicBezTo>
                  <a:pt x="20563" y="9788"/>
                  <a:pt x="20577" y="9707"/>
                  <a:pt x="20687" y="9699"/>
                </a:cubicBezTo>
                <a:cubicBezTo>
                  <a:pt x="20836" y="9688"/>
                  <a:pt x="20987" y="9685"/>
                  <a:pt x="21134" y="9674"/>
                </a:cubicBezTo>
                <a:cubicBezTo>
                  <a:pt x="21221" y="9668"/>
                  <a:pt x="22419" y="9696"/>
                  <a:pt x="22399" y="9624"/>
                </a:cubicBezTo>
                <a:cubicBezTo>
                  <a:pt x="22385" y="9573"/>
                  <a:pt x="22390" y="9619"/>
                  <a:pt x="22349" y="9599"/>
                </a:cubicBezTo>
              </a:path>
              <a:path w="5433" h="2184">
                <a:moveTo>
                  <a:pt x="21481" y="10046"/>
                </a:moveTo>
                <a:cubicBezTo>
                  <a:pt x="21455" y="10123"/>
                  <a:pt x="21416" y="10225"/>
                  <a:pt x="21406" y="10294"/>
                </a:cubicBezTo>
                <a:cubicBezTo>
                  <a:pt x="21393" y="10381"/>
                  <a:pt x="21385" y="10481"/>
                  <a:pt x="21382" y="10567"/>
                </a:cubicBezTo>
                <a:cubicBezTo>
                  <a:pt x="21380" y="10613"/>
                  <a:pt x="21382" y="10824"/>
                  <a:pt x="21382" y="10790"/>
                </a:cubicBezTo>
                <a:cubicBezTo>
                  <a:pt x="21382" y="10782"/>
                  <a:pt x="21382" y="10773"/>
                  <a:pt x="21382" y="10765"/>
                </a:cubicBezTo>
              </a:path>
              <a:path w="5433" h="2184">
                <a:moveTo>
                  <a:pt x="21729" y="10195"/>
                </a:moveTo>
                <a:cubicBezTo>
                  <a:pt x="21815" y="10158"/>
                  <a:pt x="21885" y="10125"/>
                  <a:pt x="21977" y="10120"/>
                </a:cubicBezTo>
                <a:cubicBezTo>
                  <a:pt x="22018" y="10118"/>
                  <a:pt x="22060" y="10120"/>
                  <a:pt x="22101" y="10120"/>
                </a:cubicBezTo>
              </a:path>
              <a:path w="5433" h="2184">
                <a:moveTo>
                  <a:pt x="21754" y="10195"/>
                </a:moveTo>
                <a:cubicBezTo>
                  <a:pt x="21691" y="10275"/>
                  <a:pt x="21679" y="10254"/>
                  <a:pt x="21679" y="10344"/>
                </a:cubicBezTo>
                <a:cubicBezTo>
                  <a:pt x="21722" y="10344"/>
                  <a:pt x="21821" y="10350"/>
                  <a:pt x="21853" y="10368"/>
                </a:cubicBezTo>
                <a:cubicBezTo>
                  <a:pt x="21898" y="10393"/>
                  <a:pt x="22034" y="10468"/>
                  <a:pt x="22051" y="10492"/>
                </a:cubicBezTo>
                <a:cubicBezTo>
                  <a:pt x="22101" y="10563"/>
                  <a:pt x="22167" y="10667"/>
                  <a:pt x="22101" y="10740"/>
                </a:cubicBezTo>
                <a:cubicBezTo>
                  <a:pt x="22061" y="10784"/>
                  <a:pt x="21984" y="10765"/>
                  <a:pt x="21927" y="10765"/>
                </a:cubicBezTo>
                <a:cubicBezTo>
                  <a:pt x="21785" y="10765"/>
                  <a:pt x="21690" y="10732"/>
                  <a:pt x="21555" y="10691"/>
                </a:cubicBezTo>
              </a:path>
              <a:path w="5433" h="2184">
                <a:moveTo>
                  <a:pt x="19571" y="9302"/>
                </a:moveTo>
                <a:cubicBezTo>
                  <a:pt x="19623" y="9315"/>
                  <a:pt x="19655" y="9361"/>
                  <a:pt x="19695" y="9401"/>
                </a:cubicBezTo>
                <a:cubicBezTo>
                  <a:pt x="19758" y="9464"/>
                  <a:pt x="19828" y="9541"/>
                  <a:pt x="19893" y="9599"/>
                </a:cubicBezTo>
                <a:cubicBezTo>
                  <a:pt x="19949" y="9649"/>
                  <a:pt x="20073" y="9687"/>
                  <a:pt x="20117" y="9748"/>
                </a:cubicBezTo>
                <a:cubicBezTo>
                  <a:pt x="20172" y="9824"/>
                  <a:pt x="20208" y="9816"/>
                  <a:pt x="20265" y="9897"/>
                </a:cubicBezTo>
              </a:path>
              <a:path w="5433" h="2184">
                <a:moveTo>
                  <a:pt x="20464" y="9376"/>
                </a:moveTo>
                <a:cubicBezTo>
                  <a:pt x="20309" y="9481"/>
                  <a:pt x="20140" y="9567"/>
                  <a:pt x="19993" y="9674"/>
                </a:cubicBezTo>
                <a:cubicBezTo>
                  <a:pt x="19909" y="9736"/>
                  <a:pt x="19804" y="9849"/>
                  <a:pt x="19720" y="9897"/>
                </a:cubicBezTo>
                <a:cubicBezTo>
                  <a:pt x="19667" y="9928"/>
                  <a:pt x="19575" y="9933"/>
                  <a:pt x="19521" y="9971"/>
                </a:cubicBezTo>
                <a:cubicBezTo>
                  <a:pt x="19466" y="10010"/>
                  <a:pt x="19468" y="9991"/>
                  <a:pt x="19422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840" y="4044960"/>
            <a:ext cx="1679400" cy="304920"/>
          </a:xfrm>
          <a:custGeom>
            <a:avLst/>
            <a:gdLst/>
            <a:ahLst/>
            <a:rect l="l" t="t" r="r" b="b"/>
            <a:pathLst>
              <a:path w="4664" h="844">
                <a:moveTo>
                  <a:pt x="967" y="11361"/>
                </a:moveTo>
                <a:cubicBezTo>
                  <a:pt x="967" y="11559"/>
                  <a:pt x="1014" y="11881"/>
                  <a:pt x="943" y="12030"/>
                </a:cubicBezTo>
                <a:cubicBezTo>
                  <a:pt x="943" y="12055"/>
                  <a:pt x="943" y="12063"/>
                  <a:pt x="943" y="12030"/>
                </a:cubicBezTo>
              </a:path>
              <a:path w="4664" h="844">
                <a:moveTo>
                  <a:pt x="1240" y="11460"/>
                </a:moveTo>
                <a:cubicBezTo>
                  <a:pt x="1306" y="11420"/>
                  <a:pt x="1342" y="11388"/>
                  <a:pt x="1414" y="11385"/>
                </a:cubicBezTo>
                <a:cubicBezTo>
                  <a:pt x="1472" y="11382"/>
                  <a:pt x="1558" y="11367"/>
                  <a:pt x="1588" y="11435"/>
                </a:cubicBezTo>
                <a:cubicBezTo>
                  <a:pt x="1604" y="11472"/>
                  <a:pt x="1593" y="11582"/>
                  <a:pt x="1563" y="11609"/>
                </a:cubicBezTo>
                <a:cubicBezTo>
                  <a:pt x="1509" y="11658"/>
                  <a:pt x="1486" y="11700"/>
                  <a:pt x="1439" y="11757"/>
                </a:cubicBezTo>
                <a:cubicBezTo>
                  <a:pt x="1398" y="11807"/>
                  <a:pt x="1357" y="11859"/>
                  <a:pt x="1315" y="11906"/>
                </a:cubicBezTo>
                <a:cubicBezTo>
                  <a:pt x="1300" y="11923"/>
                  <a:pt x="1254" y="11982"/>
                  <a:pt x="1265" y="12005"/>
                </a:cubicBezTo>
                <a:cubicBezTo>
                  <a:pt x="1285" y="12049"/>
                  <a:pt x="1323" y="12055"/>
                  <a:pt x="1364" y="12055"/>
                </a:cubicBezTo>
                <a:cubicBezTo>
                  <a:pt x="1423" y="12055"/>
                  <a:pt x="1450" y="12080"/>
                  <a:pt x="1513" y="12080"/>
                </a:cubicBezTo>
                <a:cubicBezTo>
                  <a:pt x="1581" y="12080"/>
                  <a:pt x="1632" y="12088"/>
                  <a:pt x="1687" y="12055"/>
                </a:cubicBezTo>
              </a:path>
              <a:path w="4664" h="844">
                <a:moveTo>
                  <a:pt x="1960" y="11410"/>
                </a:moveTo>
                <a:cubicBezTo>
                  <a:pt x="1960" y="11466"/>
                  <a:pt x="1935" y="11505"/>
                  <a:pt x="1910" y="11559"/>
                </a:cubicBezTo>
                <a:cubicBezTo>
                  <a:pt x="1880" y="11625"/>
                  <a:pt x="1877" y="11689"/>
                  <a:pt x="1860" y="11757"/>
                </a:cubicBezTo>
                <a:cubicBezTo>
                  <a:pt x="1840" y="11836"/>
                  <a:pt x="1828" y="11918"/>
                  <a:pt x="1885" y="11981"/>
                </a:cubicBezTo>
                <a:cubicBezTo>
                  <a:pt x="1923" y="12023"/>
                  <a:pt x="2002" y="12052"/>
                  <a:pt x="2059" y="12030"/>
                </a:cubicBezTo>
                <a:cubicBezTo>
                  <a:pt x="2109" y="12011"/>
                  <a:pt x="2192" y="11919"/>
                  <a:pt x="2232" y="11881"/>
                </a:cubicBezTo>
                <a:cubicBezTo>
                  <a:pt x="2306" y="11812"/>
                  <a:pt x="2307" y="11753"/>
                  <a:pt x="2307" y="11658"/>
                </a:cubicBezTo>
                <a:cubicBezTo>
                  <a:pt x="2307" y="11586"/>
                  <a:pt x="2297" y="11527"/>
                  <a:pt x="2232" y="11485"/>
                </a:cubicBezTo>
                <a:cubicBezTo>
                  <a:pt x="2172" y="11446"/>
                  <a:pt x="2128" y="11435"/>
                  <a:pt x="2059" y="11435"/>
                </a:cubicBezTo>
                <a:cubicBezTo>
                  <a:pt x="2050" y="11435"/>
                  <a:pt x="1923" y="11431"/>
                  <a:pt x="1960" y="11460"/>
                </a:cubicBezTo>
                <a:cubicBezTo>
                  <a:pt x="1968" y="11460"/>
                  <a:pt x="1976" y="11460"/>
                  <a:pt x="1984" y="11460"/>
                </a:cubicBezTo>
              </a:path>
              <a:path w="4664" h="844">
                <a:moveTo>
                  <a:pt x="2803" y="11460"/>
                </a:moveTo>
                <a:cubicBezTo>
                  <a:pt x="2784" y="11542"/>
                  <a:pt x="2757" y="11624"/>
                  <a:pt x="2753" y="11708"/>
                </a:cubicBezTo>
                <a:cubicBezTo>
                  <a:pt x="2751" y="11742"/>
                  <a:pt x="2764" y="11848"/>
                  <a:pt x="2778" y="11881"/>
                </a:cubicBezTo>
                <a:cubicBezTo>
                  <a:pt x="2787" y="11903"/>
                  <a:pt x="2803" y="11979"/>
                  <a:pt x="2803" y="11931"/>
                </a:cubicBezTo>
              </a:path>
              <a:path w="4664" h="844">
                <a:moveTo>
                  <a:pt x="2555" y="11658"/>
                </a:moveTo>
                <a:cubicBezTo>
                  <a:pt x="2671" y="11658"/>
                  <a:pt x="2786" y="11658"/>
                  <a:pt x="2902" y="11658"/>
                </a:cubicBezTo>
              </a:path>
              <a:path w="4664" h="844">
                <a:moveTo>
                  <a:pt x="3249" y="11485"/>
                </a:moveTo>
                <a:cubicBezTo>
                  <a:pt x="3249" y="11540"/>
                  <a:pt x="3230" y="11519"/>
                  <a:pt x="3225" y="11559"/>
                </a:cubicBezTo>
                <a:cubicBezTo>
                  <a:pt x="3220" y="11600"/>
                  <a:pt x="3200" y="11613"/>
                  <a:pt x="3200" y="11658"/>
                </a:cubicBezTo>
                <a:cubicBezTo>
                  <a:pt x="3200" y="11699"/>
                  <a:pt x="3235" y="11730"/>
                  <a:pt x="3274" y="11733"/>
                </a:cubicBezTo>
                <a:cubicBezTo>
                  <a:pt x="3348" y="11738"/>
                  <a:pt x="3369" y="11739"/>
                  <a:pt x="3448" y="11733"/>
                </a:cubicBezTo>
                <a:cubicBezTo>
                  <a:pt x="3493" y="11730"/>
                  <a:pt x="3514" y="11710"/>
                  <a:pt x="3547" y="11683"/>
                </a:cubicBezTo>
              </a:path>
              <a:path w="4664" h="844">
                <a:moveTo>
                  <a:pt x="3547" y="11336"/>
                </a:moveTo>
                <a:cubicBezTo>
                  <a:pt x="3536" y="11392"/>
                  <a:pt x="3522" y="11426"/>
                  <a:pt x="3522" y="11485"/>
                </a:cubicBezTo>
                <a:cubicBezTo>
                  <a:pt x="3522" y="11646"/>
                  <a:pt x="3498" y="11839"/>
                  <a:pt x="3547" y="11981"/>
                </a:cubicBezTo>
                <a:cubicBezTo>
                  <a:pt x="3562" y="12026"/>
                  <a:pt x="3576" y="11958"/>
                  <a:pt x="3597" y="11931"/>
                </a:cubicBezTo>
              </a:path>
              <a:path w="4664" h="844">
                <a:moveTo>
                  <a:pt x="3845" y="11435"/>
                </a:moveTo>
                <a:cubicBezTo>
                  <a:pt x="3929" y="11417"/>
                  <a:pt x="4010" y="11391"/>
                  <a:pt x="4093" y="11385"/>
                </a:cubicBezTo>
                <a:cubicBezTo>
                  <a:pt x="4125" y="11383"/>
                  <a:pt x="4137" y="11368"/>
                  <a:pt x="4167" y="11361"/>
                </a:cubicBezTo>
              </a:path>
              <a:path w="4664" h="844">
                <a:moveTo>
                  <a:pt x="3870" y="11410"/>
                </a:moveTo>
                <a:cubicBezTo>
                  <a:pt x="3791" y="11476"/>
                  <a:pt x="3771" y="11482"/>
                  <a:pt x="3746" y="11559"/>
                </a:cubicBezTo>
                <a:cubicBezTo>
                  <a:pt x="3746" y="11567"/>
                  <a:pt x="3746" y="11576"/>
                  <a:pt x="3746" y="11584"/>
                </a:cubicBezTo>
                <a:cubicBezTo>
                  <a:pt x="3774" y="11599"/>
                  <a:pt x="3803" y="11599"/>
                  <a:pt x="3845" y="11584"/>
                </a:cubicBezTo>
                <a:cubicBezTo>
                  <a:pt x="3903" y="11563"/>
                  <a:pt x="3937" y="11555"/>
                  <a:pt x="3994" y="11584"/>
                </a:cubicBezTo>
                <a:cubicBezTo>
                  <a:pt x="4038" y="11606"/>
                  <a:pt x="4077" y="11673"/>
                  <a:pt x="4093" y="11708"/>
                </a:cubicBezTo>
                <a:cubicBezTo>
                  <a:pt x="4122" y="11769"/>
                  <a:pt x="4137" y="11827"/>
                  <a:pt x="4093" y="11881"/>
                </a:cubicBezTo>
                <a:cubicBezTo>
                  <a:pt x="4064" y="11916"/>
                  <a:pt x="3988" y="11966"/>
                  <a:pt x="3944" y="11981"/>
                </a:cubicBezTo>
                <a:cubicBezTo>
                  <a:pt x="3903" y="11995"/>
                  <a:pt x="3840" y="11967"/>
                  <a:pt x="3820" y="11931"/>
                </a:cubicBezTo>
                <a:cubicBezTo>
                  <a:pt x="3820" y="11903"/>
                  <a:pt x="3822" y="11892"/>
                  <a:pt x="3845" y="11881"/>
                </a:cubicBezTo>
              </a:path>
              <a:path w="4664" h="844">
                <a:moveTo>
                  <a:pt x="4638" y="11460"/>
                </a:moveTo>
                <a:cubicBezTo>
                  <a:pt x="4638" y="11555"/>
                  <a:pt x="4628" y="11621"/>
                  <a:pt x="4614" y="11708"/>
                </a:cubicBezTo>
                <a:cubicBezTo>
                  <a:pt x="4605" y="11762"/>
                  <a:pt x="4638" y="11802"/>
                  <a:pt x="4638" y="11857"/>
                </a:cubicBezTo>
                <a:cubicBezTo>
                  <a:pt x="4638" y="11906"/>
                  <a:pt x="4657" y="11938"/>
                  <a:pt x="4638" y="11881"/>
                </a:cubicBezTo>
              </a:path>
              <a:path w="4664" h="844">
                <a:moveTo>
                  <a:pt x="4465" y="11609"/>
                </a:moveTo>
                <a:cubicBezTo>
                  <a:pt x="4589" y="11609"/>
                  <a:pt x="4713" y="11609"/>
                  <a:pt x="4837" y="11609"/>
                </a:cubicBezTo>
              </a:path>
              <a:path w="4664" h="844">
                <a:moveTo>
                  <a:pt x="5209" y="11460"/>
                </a:moveTo>
                <a:cubicBezTo>
                  <a:pt x="5189" y="11525"/>
                  <a:pt x="5179" y="11596"/>
                  <a:pt x="5159" y="11658"/>
                </a:cubicBezTo>
                <a:cubicBezTo>
                  <a:pt x="5137" y="11725"/>
                  <a:pt x="5120" y="11823"/>
                  <a:pt x="5085" y="11881"/>
                </a:cubicBezTo>
                <a:cubicBezTo>
                  <a:pt x="5062" y="11904"/>
                  <a:pt x="5054" y="11908"/>
                  <a:pt x="5060" y="11931"/>
                </a:cubicBezTo>
                <a:cubicBezTo>
                  <a:pt x="5060" y="11877"/>
                  <a:pt x="5082" y="11862"/>
                  <a:pt x="5085" y="11807"/>
                </a:cubicBezTo>
                <a:cubicBezTo>
                  <a:pt x="5090" y="11730"/>
                  <a:pt x="5115" y="11632"/>
                  <a:pt x="5135" y="11559"/>
                </a:cubicBezTo>
                <a:cubicBezTo>
                  <a:pt x="5153" y="11493"/>
                  <a:pt x="5187" y="11395"/>
                  <a:pt x="5209" y="11336"/>
                </a:cubicBezTo>
                <a:cubicBezTo>
                  <a:pt x="5228" y="11287"/>
                  <a:pt x="5271" y="11264"/>
                  <a:pt x="5308" y="11237"/>
                </a:cubicBezTo>
                <a:cubicBezTo>
                  <a:pt x="5354" y="11248"/>
                  <a:pt x="5374" y="11283"/>
                  <a:pt x="5383" y="11336"/>
                </a:cubicBezTo>
                <a:cubicBezTo>
                  <a:pt x="5402" y="11443"/>
                  <a:pt x="5440" y="11555"/>
                  <a:pt x="5482" y="11658"/>
                </a:cubicBezTo>
                <a:cubicBezTo>
                  <a:pt x="5511" y="11729"/>
                  <a:pt x="5533" y="11806"/>
                  <a:pt x="5556" y="11881"/>
                </a:cubicBezTo>
                <a:cubicBezTo>
                  <a:pt x="5567" y="11916"/>
                  <a:pt x="5622" y="11989"/>
                  <a:pt x="5606" y="11956"/>
                </a:cubicBezTo>
                <a:cubicBezTo>
                  <a:pt x="5598" y="11948"/>
                  <a:pt x="5589" y="11939"/>
                  <a:pt x="5581" y="11931"/>
                </a:cubicBezTo>
              </a:path>
              <a:path w="4664" h="844">
                <a:moveTo>
                  <a:pt x="5135" y="11609"/>
                </a:moveTo>
                <a:cubicBezTo>
                  <a:pt x="5284" y="11609"/>
                  <a:pt x="5432" y="11609"/>
                  <a:pt x="5581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43080" y="412596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6028" y="11485"/>
                </a:moveTo>
                <a:cubicBezTo>
                  <a:pt x="6106" y="11480"/>
                  <a:pt x="6174" y="11464"/>
                  <a:pt x="6226" y="11485"/>
                </a:cubicBezTo>
              </a:path>
              <a:path w="299" h="224">
                <a:moveTo>
                  <a:pt x="5953" y="11683"/>
                </a:moveTo>
                <a:cubicBezTo>
                  <a:pt x="6052" y="11683"/>
                  <a:pt x="6152" y="11683"/>
                  <a:pt x="6251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46200" y="4037040"/>
            <a:ext cx="411480" cy="276120"/>
          </a:xfrm>
          <a:custGeom>
            <a:avLst/>
            <a:gdLst/>
            <a:ahLst/>
            <a:rect l="l" t="t" r="r" b="b"/>
            <a:pathLst>
              <a:path w="1143" h="770">
                <a:moveTo>
                  <a:pt x="6821" y="11286"/>
                </a:moveTo>
                <a:cubicBezTo>
                  <a:pt x="6821" y="11413"/>
                  <a:pt x="6805" y="11538"/>
                  <a:pt x="6796" y="11658"/>
                </a:cubicBezTo>
                <a:cubicBezTo>
                  <a:pt x="6793" y="11691"/>
                  <a:pt x="6796" y="11983"/>
                  <a:pt x="6796" y="11956"/>
                </a:cubicBezTo>
                <a:cubicBezTo>
                  <a:pt x="6796" y="11891"/>
                  <a:pt x="6813" y="11933"/>
                  <a:pt x="6796" y="11881"/>
                </a:cubicBezTo>
                <a:cubicBezTo>
                  <a:pt x="6804" y="11873"/>
                  <a:pt x="6813" y="11865"/>
                  <a:pt x="6821" y="11857"/>
                </a:cubicBezTo>
              </a:path>
              <a:path w="1143" h="770">
                <a:moveTo>
                  <a:pt x="7392" y="11261"/>
                </a:moveTo>
                <a:cubicBezTo>
                  <a:pt x="7298" y="11225"/>
                  <a:pt x="7299" y="11213"/>
                  <a:pt x="7218" y="11237"/>
                </a:cubicBezTo>
                <a:cubicBezTo>
                  <a:pt x="7171" y="11251"/>
                  <a:pt x="7150" y="11278"/>
                  <a:pt x="7169" y="11336"/>
                </a:cubicBezTo>
                <a:cubicBezTo>
                  <a:pt x="7199" y="11427"/>
                  <a:pt x="7275" y="11475"/>
                  <a:pt x="7317" y="11559"/>
                </a:cubicBezTo>
                <a:cubicBezTo>
                  <a:pt x="7347" y="11619"/>
                  <a:pt x="7386" y="11713"/>
                  <a:pt x="7367" y="11782"/>
                </a:cubicBezTo>
                <a:cubicBezTo>
                  <a:pt x="7350" y="11844"/>
                  <a:pt x="7294" y="11871"/>
                  <a:pt x="7243" y="11881"/>
                </a:cubicBezTo>
                <a:cubicBezTo>
                  <a:pt x="7159" y="11897"/>
                  <a:pt x="7074" y="11869"/>
                  <a:pt x="7045" y="11782"/>
                </a:cubicBezTo>
                <a:cubicBezTo>
                  <a:pt x="7024" y="11718"/>
                  <a:pt x="7106" y="11671"/>
                  <a:pt x="7144" y="11633"/>
                </a:cubicBezTo>
                <a:cubicBezTo>
                  <a:pt x="7206" y="11571"/>
                  <a:pt x="7270" y="11508"/>
                  <a:pt x="7342" y="11460"/>
                </a:cubicBezTo>
                <a:cubicBezTo>
                  <a:pt x="7403" y="11419"/>
                  <a:pt x="7425" y="11349"/>
                  <a:pt x="7491" y="11311"/>
                </a:cubicBezTo>
                <a:cubicBezTo>
                  <a:pt x="7510" y="11300"/>
                  <a:pt x="7544" y="11295"/>
                  <a:pt x="7565" y="11286"/>
                </a:cubicBezTo>
                <a:cubicBezTo>
                  <a:pt x="7565" y="11345"/>
                  <a:pt x="7543" y="11382"/>
                  <a:pt x="7516" y="11435"/>
                </a:cubicBezTo>
                <a:cubicBezTo>
                  <a:pt x="7485" y="11498"/>
                  <a:pt x="7452" y="11566"/>
                  <a:pt x="7441" y="11633"/>
                </a:cubicBezTo>
                <a:cubicBezTo>
                  <a:pt x="7429" y="11705"/>
                  <a:pt x="7450" y="11773"/>
                  <a:pt x="7491" y="11832"/>
                </a:cubicBezTo>
                <a:cubicBezTo>
                  <a:pt x="7530" y="11889"/>
                  <a:pt x="7627" y="11924"/>
                  <a:pt x="7689" y="11931"/>
                </a:cubicBezTo>
                <a:cubicBezTo>
                  <a:pt x="7768" y="11939"/>
                  <a:pt x="7826" y="11894"/>
                  <a:pt x="7863" y="11832"/>
                </a:cubicBezTo>
                <a:cubicBezTo>
                  <a:pt x="7916" y="11742"/>
                  <a:pt x="7938" y="11662"/>
                  <a:pt x="7938" y="11559"/>
                </a:cubicBezTo>
                <a:cubicBezTo>
                  <a:pt x="7938" y="11490"/>
                  <a:pt x="7947" y="11411"/>
                  <a:pt x="7888" y="11361"/>
                </a:cubicBezTo>
                <a:cubicBezTo>
                  <a:pt x="7845" y="11324"/>
                  <a:pt x="7791" y="11336"/>
                  <a:pt x="7739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21000" y="4062240"/>
            <a:ext cx="304920" cy="23364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9252" y="11361"/>
                </a:moveTo>
                <a:cubicBezTo>
                  <a:pt x="9270" y="11419"/>
                  <a:pt x="9295" y="11496"/>
                  <a:pt x="9277" y="11559"/>
                </a:cubicBezTo>
                <a:cubicBezTo>
                  <a:pt x="9257" y="11632"/>
                  <a:pt x="9271" y="11710"/>
                  <a:pt x="9252" y="11782"/>
                </a:cubicBezTo>
                <a:cubicBezTo>
                  <a:pt x="9235" y="11846"/>
                  <a:pt x="9227" y="11862"/>
                  <a:pt x="9227" y="11931"/>
                </a:cubicBezTo>
                <a:cubicBezTo>
                  <a:pt x="9227" y="11923"/>
                  <a:pt x="9227" y="11914"/>
                  <a:pt x="9227" y="11906"/>
                </a:cubicBezTo>
              </a:path>
              <a:path w="845" h="646">
                <a:moveTo>
                  <a:pt x="9723" y="11311"/>
                </a:moveTo>
                <a:cubicBezTo>
                  <a:pt x="9828" y="11334"/>
                  <a:pt x="9913" y="11336"/>
                  <a:pt x="10021" y="11336"/>
                </a:cubicBezTo>
                <a:cubicBezTo>
                  <a:pt x="10064" y="11336"/>
                  <a:pt x="10059" y="11346"/>
                  <a:pt x="10071" y="11311"/>
                </a:cubicBezTo>
              </a:path>
              <a:path w="845" h="646">
                <a:moveTo>
                  <a:pt x="9649" y="11286"/>
                </a:moveTo>
                <a:cubicBezTo>
                  <a:pt x="9636" y="11341"/>
                  <a:pt x="9605" y="11410"/>
                  <a:pt x="9599" y="11460"/>
                </a:cubicBezTo>
                <a:cubicBezTo>
                  <a:pt x="9593" y="11516"/>
                  <a:pt x="9584" y="11524"/>
                  <a:pt x="9599" y="11559"/>
                </a:cubicBezTo>
                <a:cubicBezTo>
                  <a:pt x="9599" y="11567"/>
                  <a:pt x="9599" y="11576"/>
                  <a:pt x="9599" y="11584"/>
                </a:cubicBezTo>
                <a:cubicBezTo>
                  <a:pt x="9632" y="11573"/>
                  <a:pt x="9629" y="11544"/>
                  <a:pt x="9649" y="11534"/>
                </a:cubicBezTo>
                <a:cubicBezTo>
                  <a:pt x="9689" y="11514"/>
                  <a:pt x="9792" y="11538"/>
                  <a:pt x="9823" y="11559"/>
                </a:cubicBezTo>
                <a:cubicBezTo>
                  <a:pt x="9874" y="11593"/>
                  <a:pt x="9920" y="11656"/>
                  <a:pt x="9947" y="11708"/>
                </a:cubicBezTo>
                <a:cubicBezTo>
                  <a:pt x="9965" y="11743"/>
                  <a:pt x="9991" y="11816"/>
                  <a:pt x="9971" y="11857"/>
                </a:cubicBezTo>
                <a:cubicBezTo>
                  <a:pt x="9959" y="11882"/>
                  <a:pt x="9895" y="11926"/>
                  <a:pt x="9872" y="11931"/>
                </a:cubicBezTo>
                <a:cubicBezTo>
                  <a:pt x="9821" y="11942"/>
                  <a:pt x="9712" y="11945"/>
                  <a:pt x="9699" y="11906"/>
                </a:cubicBezTo>
                <a:cubicBezTo>
                  <a:pt x="9699" y="11863"/>
                  <a:pt x="9716" y="11850"/>
                  <a:pt x="977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2120" y="4062240"/>
            <a:ext cx="509760" cy="233640"/>
          </a:xfrm>
          <a:custGeom>
            <a:avLst/>
            <a:gdLst/>
            <a:ahLst/>
            <a:rect l="l" t="t" r="r" b="b"/>
            <a:pathLst>
              <a:path w="1415" h="646">
                <a:moveTo>
                  <a:pt x="10368" y="11683"/>
                </a:moveTo>
                <a:lnTo>
                  <a:pt x="10368" y="11683"/>
                </a:lnTo>
              </a:path>
              <a:path w="1415" h="646">
                <a:moveTo>
                  <a:pt x="10840" y="11435"/>
                </a:moveTo>
                <a:cubicBezTo>
                  <a:pt x="10778" y="11443"/>
                  <a:pt x="10742" y="11468"/>
                  <a:pt x="10691" y="11485"/>
                </a:cubicBezTo>
                <a:cubicBezTo>
                  <a:pt x="10659" y="11496"/>
                  <a:pt x="10652" y="11502"/>
                  <a:pt x="10641" y="11534"/>
                </a:cubicBezTo>
                <a:cubicBezTo>
                  <a:pt x="10677" y="11570"/>
                  <a:pt x="10706" y="11579"/>
                  <a:pt x="10740" y="11609"/>
                </a:cubicBezTo>
                <a:cubicBezTo>
                  <a:pt x="10781" y="11645"/>
                  <a:pt x="10825" y="11668"/>
                  <a:pt x="10864" y="11708"/>
                </a:cubicBezTo>
                <a:cubicBezTo>
                  <a:pt x="10879" y="11723"/>
                  <a:pt x="10943" y="11815"/>
                  <a:pt x="10939" y="11832"/>
                </a:cubicBezTo>
                <a:cubicBezTo>
                  <a:pt x="10929" y="11875"/>
                  <a:pt x="10891" y="11888"/>
                  <a:pt x="10864" y="11906"/>
                </a:cubicBezTo>
                <a:cubicBezTo>
                  <a:pt x="10802" y="11948"/>
                  <a:pt x="10785" y="11913"/>
                  <a:pt x="10716" y="11906"/>
                </a:cubicBezTo>
                <a:cubicBezTo>
                  <a:pt x="10700" y="11904"/>
                  <a:pt x="10611" y="11862"/>
                  <a:pt x="10641" y="11832"/>
                </a:cubicBezTo>
                <a:cubicBezTo>
                  <a:pt x="10649" y="11832"/>
                  <a:pt x="10658" y="11832"/>
                  <a:pt x="10666" y="11832"/>
                </a:cubicBezTo>
              </a:path>
              <a:path w="1415" h="646">
                <a:moveTo>
                  <a:pt x="11187" y="11534"/>
                </a:moveTo>
                <a:cubicBezTo>
                  <a:pt x="11187" y="11658"/>
                  <a:pt x="11187" y="11981"/>
                  <a:pt x="11187" y="11857"/>
                </a:cubicBezTo>
                <a:cubicBezTo>
                  <a:pt x="11187" y="11832"/>
                  <a:pt x="11187" y="11824"/>
                  <a:pt x="11187" y="11807"/>
                </a:cubicBezTo>
              </a:path>
              <a:path w="1415" h="646">
                <a:moveTo>
                  <a:pt x="11237" y="11336"/>
                </a:moveTo>
                <a:cubicBezTo>
                  <a:pt x="11245" y="11319"/>
                  <a:pt x="11253" y="11303"/>
                  <a:pt x="11261" y="11286"/>
                </a:cubicBezTo>
              </a:path>
              <a:path w="1415" h="646">
                <a:moveTo>
                  <a:pt x="11410" y="11609"/>
                </a:moveTo>
                <a:cubicBezTo>
                  <a:pt x="11410" y="11692"/>
                  <a:pt x="11359" y="11754"/>
                  <a:pt x="11385" y="11832"/>
                </a:cubicBezTo>
                <a:cubicBezTo>
                  <a:pt x="11393" y="11840"/>
                  <a:pt x="11402" y="11849"/>
                  <a:pt x="11410" y="11857"/>
                </a:cubicBezTo>
                <a:cubicBezTo>
                  <a:pt x="11410" y="11802"/>
                  <a:pt x="11422" y="11786"/>
                  <a:pt x="11435" y="11733"/>
                </a:cubicBezTo>
                <a:cubicBezTo>
                  <a:pt x="11447" y="11684"/>
                  <a:pt x="11441" y="11632"/>
                  <a:pt x="11460" y="11584"/>
                </a:cubicBezTo>
                <a:cubicBezTo>
                  <a:pt x="11475" y="11548"/>
                  <a:pt x="11519" y="11477"/>
                  <a:pt x="11559" y="11460"/>
                </a:cubicBezTo>
                <a:cubicBezTo>
                  <a:pt x="11610" y="11437"/>
                  <a:pt x="11655" y="11506"/>
                  <a:pt x="11683" y="11534"/>
                </a:cubicBezTo>
                <a:cubicBezTo>
                  <a:pt x="11717" y="11568"/>
                  <a:pt x="11731" y="11636"/>
                  <a:pt x="11733" y="11683"/>
                </a:cubicBezTo>
                <a:cubicBezTo>
                  <a:pt x="11736" y="11751"/>
                  <a:pt x="11751" y="11794"/>
                  <a:pt x="11757" y="11857"/>
                </a:cubicBezTo>
                <a:cubicBezTo>
                  <a:pt x="11763" y="11916"/>
                  <a:pt x="11743" y="11912"/>
                  <a:pt x="11757" y="11906"/>
                </a:cubicBezTo>
                <a:cubicBezTo>
                  <a:pt x="11765" y="11906"/>
                  <a:pt x="11774" y="11906"/>
                  <a:pt x="11782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75080" y="4106880"/>
            <a:ext cx="403200" cy="250920"/>
          </a:xfrm>
          <a:custGeom>
            <a:avLst/>
            <a:gdLst/>
            <a:ahLst/>
            <a:rect l="l" t="t" r="r" b="b"/>
            <a:pathLst>
              <a:path w="1118" h="696">
                <a:moveTo>
                  <a:pt x="12154" y="11509"/>
                </a:moveTo>
                <a:cubicBezTo>
                  <a:pt x="12154" y="11603"/>
                  <a:pt x="12168" y="11672"/>
                  <a:pt x="12179" y="11757"/>
                </a:cubicBezTo>
                <a:cubicBezTo>
                  <a:pt x="12192" y="11855"/>
                  <a:pt x="12175" y="11944"/>
                  <a:pt x="12204" y="12030"/>
                </a:cubicBezTo>
                <a:cubicBezTo>
                  <a:pt x="12220" y="12077"/>
                  <a:pt x="12213" y="12102"/>
                  <a:pt x="12229" y="12080"/>
                </a:cubicBezTo>
                <a:cubicBezTo>
                  <a:pt x="12252" y="12057"/>
                  <a:pt x="12260" y="12053"/>
                  <a:pt x="12254" y="12030"/>
                </a:cubicBezTo>
              </a:path>
              <a:path w="1118" h="696">
                <a:moveTo>
                  <a:pt x="12402" y="11485"/>
                </a:moveTo>
                <a:cubicBezTo>
                  <a:pt x="12477" y="11471"/>
                  <a:pt x="12576" y="11445"/>
                  <a:pt x="12650" y="11435"/>
                </a:cubicBezTo>
                <a:cubicBezTo>
                  <a:pt x="12708" y="11435"/>
                  <a:pt x="12717" y="11435"/>
                  <a:pt x="12750" y="11435"/>
                </a:cubicBezTo>
              </a:path>
              <a:path w="1118" h="696">
                <a:moveTo>
                  <a:pt x="12551" y="11410"/>
                </a:moveTo>
                <a:cubicBezTo>
                  <a:pt x="12516" y="11451"/>
                  <a:pt x="12493" y="11487"/>
                  <a:pt x="12477" y="11534"/>
                </a:cubicBezTo>
                <a:cubicBezTo>
                  <a:pt x="12471" y="11553"/>
                  <a:pt x="12477" y="11589"/>
                  <a:pt x="12477" y="11609"/>
                </a:cubicBezTo>
                <a:cubicBezTo>
                  <a:pt x="12546" y="11609"/>
                  <a:pt x="12642" y="11589"/>
                  <a:pt x="12700" y="11633"/>
                </a:cubicBezTo>
                <a:cubicBezTo>
                  <a:pt x="12757" y="11676"/>
                  <a:pt x="12812" y="11745"/>
                  <a:pt x="12824" y="11807"/>
                </a:cubicBezTo>
                <a:cubicBezTo>
                  <a:pt x="12831" y="11844"/>
                  <a:pt x="12826" y="11933"/>
                  <a:pt x="12799" y="11956"/>
                </a:cubicBezTo>
                <a:cubicBezTo>
                  <a:pt x="12749" y="11997"/>
                  <a:pt x="12711" y="12005"/>
                  <a:pt x="12650" y="12005"/>
                </a:cubicBezTo>
                <a:cubicBezTo>
                  <a:pt x="12579" y="12005"/>
                  <a:pt x="12514" y="11999"/>
                  <a:pt x="12477" y="11981"/>
                </a:cubicBezTo>
                <a:cubicBezTo>
                  <a:pt x="12440" y="11963"/>
                  <a:pt x="12446" y="11972"/>
                  <a:pt x="12477" y="11931"/>
                </a:cubicBezTo>
              </a:path>
              <a:path w="1118" h="696">
                <a:moveTo>
                  <a:pt x="13022" y="11633"/>
                </a:moveTo>
                <a:cubicBezTo>
                  <a:pt x="13088" y="11633"/>
                  <a:pt x="13155" y="11633"/>
                  <a:pt x="13221" y="11633"/>
                </a:cubicBezTo>
              </a:path>
              <a:path w="1118" h="696">
                <a:moveTo>
                  <a:pt x="13047" y="11757"/>
                </a:moveTo>
                <a:cubicBezTo>
                  <a:pt x="13129" y="11774"/>
                  <a:pt x="13188" y="11782"/>
                  <a:pt x="13271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46760" y="4054320"/>
            <a:ext cx="1278000" cy="268560"/>
          </a:xfrm>
          <a:custGeom>
            <a:avLst/>
            <a:gdLst/>
            <a:ahLst/>
            <a:rect l="l" t="t" r="r" b="b"/>
            <a:pathLst>
              <a:path w="3548" h="745">
                <a:moveTo>
                  <a:pt x="14188" y="11584"/>
                </a:moveTo>
                <a:cubicBezTo>
                  <a:pt x="14188" y="11532"/>
                  <a:pt x="14174" y="11531"/>
                  <a:pt x="14163" y="11509"/>
                </a:cubicBezTo>
                <a:cubicBezTo>
                  <a:pt x="14150" y="11483"/>
                  <a:pt x="14149" y="11464"/>
                  <a:pt x="14114" y="11460"/>
                </a:cubicBezTo>
                <a:cubicBezTo>
                  <a:pt x="14078" y="11456"/>
                  <a:pt x="14023" y="11517"/>
                  <a:pt x="13990" y="11534"/>
                </a:cubicBezTo>
                <a:cubicBezTo>
                  <a:pt x="13925" y="11568"/>
                  <a:pt x="13860" y="11623"/>
                  <a:pt x="13816" y="11683"/>
                </a:cubicBezTo>
                <a:cubicBezTo>
                  <a:pt x="13791" y="11718"/>
                  <a:pt x="13727" y="11813"/>
                  <a:pt x="13742" y="11857"/>
                </a:cubicBezTo>
                <a:cubicBezTo>
                  <a:pt x="13759" y="11908"/>
                  <a:pt x="13811" y="11946"/>
                  <a:pt x="13866" y="11956"/>
                </a:cubicBezTo>
                <a:cubicBezTo>
                  <a:pt x="13921" y="11966"/>
                  <a:pt x="13949" y="11955"/>
                  <a:pt x="13990" y="11931"/>
                </a:cubicBezTo>
                <a:cubicBezTo>
                  <a:pt x="14036" y="11905"/>
                  <a:pt x="14099" y="11862"/>
                  <a:pt x="14114" y="11807"/>
                </a:cubicBezTo>
                <a:cubicBezTo>
                  <a:pt x="14127" y="11758"/>
                  <a:pt x="14158" y="11711"/>
                  <a:pt x="14163" y="11658"/>
                </a:cubicBezTo>
                <a:cubicBezTo>
                  <a:pt x="14163" y="11633"/>
                  <a:pt x="14163" y="11625"/>
                  <a:pt x="14188" y="11633"/>
                </a:cubicBezTo>
                <a:cubicBezTo>
                  <a:pt x="14176" y="11669"/>
                  <a:pt x="14163" y="11674"/>
                  <a:pt x="14163" y="11733"/>
                </a:cubicBezTo>
                <a:cubicBezTo>
                  <a:pt x="14163" y="11767"/>
                  <a:pt x="14191" y="11807"/>
                  <a:pt x="14213" y="11832"/>
                </a:cubicBezTo>
                <a:cubicBezTo>
                  <a:pt x="14259" y="11884"/>
                  <a:pt x="14294" y="11927"/>
                  <a:pt x="14362" y="11931"/>
                </a:cubicBezTo>
                <a:cubicBezTo>
                  <a:pt x="14407" y="11931"/>
                  <a:pt x="14420" y="11935"/>
                  <a:pt x="14436" y="11906"/>
                </a:cubicBezTo>
              </a:path>
              <a:path w="3548" h="745">
                <a:moveTo>
                  <a:pt x="14734" y="11584"/>
                </a:moveTo>
                <a:lnTo>
                  <a:pt x="14734" y="11584"/>
                </a:lnTo>
              </a:path>
              <a:path w="3548" h="745">
                <a:moveTo>
                  <a:pt x="15106" y="11435"/>
                </a:moveTo>
                <a:cubicBezTo>
                  <a:pt x="15020" y="11403"/>
                  <a:pt x="15014" y="11414"/>
                  <a:pt x="14932" y="11435"/>
                </a:cubicBezTo>
                <a:cubicBezTo>
                  <a:pt x="14909" y="11441"/>
                  <a:pt x="14840" y="11468"/>
                  <a:pt x="14858" y="11509"/>
                </a:cubicBezTo>
                <a:cubicBezTo>
                  <a:pt x="14870" y="11535"/>
                  <a:pt x="14933" y="11594"/>
                  <a:pt x="14957" y="11609"/>
                </a:cubicBezTo>
                <a:cubicBezTo>
                  <a:pt x="15016" y="11646"/>
                  <a:pt x="15044" y="11672"/>
                  <a:pt x="15081" y="11733"/>
                </a:cubicBezTo>
                <a:cubicBezTo>
                  <a:pt x="15095" y="11756"/>
                  <a:pt x="15124" y="11825"/>
                  <a:pt x="15106" y="11857"/>
                </a:cubicBezTo>
                <a:cubicBezTo>
                  <a:pt x="15085" y="11894"/>
                  <a:pt x="15017" y="11903"/>
                  <a:pt x="14982" y="11906"/>
                </a:cubicBezTo>
                <a:cubicBezTo>
                  <a:pt x="14940" y="11910"/>
                  <a:pt x="14919" y="11869"/>
                  <a:pt x="14883" y="11857"/>
                </a:cubicBezTo>
                <a:cubicBezTo>
                  <a:pt x="14855" y="11857"/>
                  <a:pt x="14844" y="11855"/>
                  <a:pt x="14833" y="11832"/>
                </a:cubicBezTo>
                <a:cubicBezTo>
                  <a:pt x="14845" y="11797"/>
                  <a:pt x="14863" y="11796"/>
                  <a:pt x="14908" y="11757"/>
                </a:cubicBezTo>
              </a:path>
              <a:path w="3548" h="745">
                <a:moveTo>
                  <a:pt x="15379" y="11584"/>
                </a:moveTo>
                <a:cubicBezTo>
                  <a:pt x="15372" y="11622"/>
                  <a:pt x="15328" y="11779"/>
                  <a:pt x="15354" y="11832"/>
                </a:cubicBezTo>
                <a:cubicBezTo>
                  <a:pt x="15363" y="11850"/>
                  <a:pt x="15402" y="11960"/>
                  <a:pt x="15379" y="11906"/>
                </a:cubicBezTo>
                <a:cubicBezTo>
                  <a:pt x="15371" y="11890"/>
                  <a:pt x="15362" y="11873"/>
                  <a:pt x="15354" y="11857"/>
                </a:cubicBezTo>
              </a:path>
              <a:path w="3548" h="745">
                <a:moveTo>
                  <a:pt x="15429" y="11336"/>
                </a:moveTo>
                <a:lnTo>
                  <a:pt x="15429" y="11336"/>
                </a:lnTo>
              </a:path>
              <a:path w="3548" h="745">
                <a:moveTo>
                  <a:pt x="15553" y="11683"/>
                </a:moveTo>
                <a:cubicBezTo>
                  <a:pt x="15553" y="11757"/>
                  <a:pt x="15553" y="11931"/>
                  <a:pt x="15553" y="11857"/>
                </a:cubicBezTo>
                <a:cubicBezTo>
                  <a:pt x="15553" y="11791"/>
                  <a:pt x="15567" y="11744"/>
                  <a:pt x="15577" y="11683"/>
                </a:cubicBezTo>
                <a:cubicBezTo>
                  <a:pt x="15586" y="11628"/>
                  <a:pt x="15592" y="11578"/>
                  <a:pt x="15627" y="11534"/>
                </a:cubicBezTo>
                <a:cubicBezTo>
                  <a:pt x="15656" y="11498"/>
                  <a:pt x="15702" y="11461"/>
                  <a:pt x="15751" y="11485"/>
                </a:cubicBezTo>
                <a:cubicBezTo>
                  <a:pt x="15803" y="11510"/>
                  <a:pt x="15863" y="11602"/>
                  <a:pt x="15875" y="11658"/>
                </a:cubicBezTo>
                <a:cubicBezTo>
                  <a:pt x="15892" y="11736"/>
                  <a:pt x="15914" y="11838"/>
                  <a:pt x="15925" y="11906"/>
                </a:cubicBezTo>
                <a:cubicBezTo>
                  <a:pt x="15932" y="11946"/>
                  <a:pt x="15925" y="12022"/>
                  <a:pt x="15925" y="11981"/>
                </a:cubicBezTo>
                <a:cubicBezTo>
                  <a:pt x="15925" y="11973"/>
                  <a:pt x="15925" y="11964"/>
                  <a:pt x="15925" y="11956"/>
                </a:cubicBezTo>
              </a:path>
              <a:path w="3548" h="745">
                <a:moveTo>
                  <a:pt x="16123" y="11361"/>
                </a:moveTo>
                <a:cubicBezTo>
                  <a:pt x="16141" y="11460"/>
                  <a:pt x="16148" y="11535"/>
                  <a:pt x="16148" y="11633"/>
                </a:cubicBezTo>
                <a:cubicBezTo>
                  <a:pt x="16148" y="11714"/>
                  <a:pt x="16173" y="11775"/>
                  <a:pt x="16173" y="11857"/>
                </a:cubicBezTo>
                <a:cubicBezTo>
                  <a:pt x="16173" y="11908"/>
                  <a:pt x="16197" y="12056"/>
                  <a:pt x="16197" y="12005"/>
                </a:cubicBezTo>
                <a:cubicBezTo>
                  <a:pt x="16197" y="11980"/>
                  <a:pt x="16197" y="11956"/>
                  <a:pt x="16197" y="11931"/>
                </a:cubicBezTo>
              </a:path>
              <a:path w="3548" h="745">
                <a:moveTo>
                  <a:pt x="16297" y="11361"/>
                </a:moveTo>
                <a:cubicBezTo>
                  <a:pt x="16328" y="11320"/>
                  <a:pt x="16375" y="11237"/>
                  <a:pt x="16446" y="11261"/>
                </a:cubicBezTo>
                <a:cubicBezTo>
                  <a:pt x="16485" y="11274"/>
                  <a:pt x="16540" y="11289"/>
                  <a:pt x="16545" y="11336"/>
                </a:cubicBezTo>
                <a:cubicBezTo>
                  <a:pt x="16552" y="11401"/>
                  <a:pt x="16530" y="11450"/>
                  <a:pt x="16520" y="11509"/>
                </a:cubicBezTo>
                <a:cubicBezTo>
                  <a:pt x="16508" y="11580"/>
                  <a:pt x="16478" y="11648"/>
                  <a:pt x="16446" y="11708"/>
                </a:cubicBezTo>
                <a:cubicBezTo>
                  <a:pt x="16424" y="11749"/>
                  <a:pt x="16384" y="11792"/>
                  <a:pt x="16371" y="11832"/>
                </a:cubicBezTo>
                <a:cubicBezTo>
                  <a:pt x="16362" y="11860"/>
                  <a:pt x="16353" y="11877"/>
                  <a:pt x="16346" y="11906"/>
                </a:cubicBezTo>
                <a:cubicBezTo>
                  <a:pt x="16376" y="11929"/>
                  <a:pt x="16433" y="11953"/>
                  <a:pt x="16470" y="11956"/>
                </a:cubicBezTo>
                <a:cubicBezTo>
                  <a:pt x="16523" y="11960"/>
                  <a:pt x="16572" y="11950"/>
                  <a:pt x="16619" y="11931"/>
                </a:cubicBezTo>
                <a:cubicBezTo>
                  <a:pt x="16694" y="11901"/>
                  <a:pt x="16723" y="11846"/>
                  <a:pt x="16768" y="11782"/>
                </a:cubicBezTo>
              </a:path>
              <a:path w="3548" h="745">
                <a:moveTo>
                  <a:pt x="16917" y="11435"/>
                </a:moveTo>
                <a:cubicBezTo>
                  <a:pt x="16907" y="11512"/>
                  <a:pt x="16859" y="11539"/>
                  <a:pt x="16842" y="11609"/>
                </a:cubicBezTo>
                <a:cubicBezTo>
                  <a:pt x="16826" y="11675"/>
                  <a:pt x="16818" y="11737"/>
                  <a:pt x="16818" y="11807"/>
                </a:cubicBezTo>
                <a:cubicBezTo>
                  <a:pt x="16818" y="11872"/>
                  <a:pt x="16822" y="11885"/>
                  <a:pt x="16867" y="11931"/>
                </a:cubicBezTo>
                <a:cubicBezTo>
                  <a:pt x="16903" y="11967"/>
                  <a:pt x="16946" y="11996"/>
                  <a:pt x="16991" y="12005"/>
                </a:cubicBezTo>
                <a:cubicBezTo>
                  <a:pt x="17041" y="12015"/>
                  <a:pt x="17106" y="11988"/>
                  <a:pt x="17140" y="11956"/>
                </a:cubicBezTo>
                <a:cubicBezTo>
                  <a:pt x="17184" y="11915"/>
                  <a:pt x="17289" y="11810"/>
                  <a:pt x="17289" y="11757"/>
                </a:cubicBezTo>
                <a:cubicBezTo>
                  <a:pt x="17289" y="11660"/>
                  <a:pt x="17270" y="11561"/>
                  <a:pt x="17214" y="11485"/>
                </a:cubicBezTo>
                <a:cubicBezTo>
                  <a:pt x="17197" y="11462"/>
                  <a:pt x="17161" y="11396"/>
                  <a:pt x="17140" y="11385"/>
                </a:cubicBezTo>
                <a:cubicBezTo>
                  <a:pt x="17132" y="11385"/>
                  <a:pt x="17123" y="11385"/>
                  <a:pt x="17115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11960" y="4089240"/>
            <a:ext cx="1562040" cy="331920"/>
          </a:xfrm>
          <a:custGeom>
            <a:avLst/>
            <a:gdLst/>
            <a:ahLst/>
            <a:rect l="l" t="t" r="r" b="b"/>
            <a:pathLst>
              <a:path w="4342" h="918">
                <a:moveTo>
                  <a:pt x="17810" y="11361"/>
                </a:moveTo>
                <a:cubicBezTo>
                  <a:pt x="17824" y="11472"/>
                  <a:pt x="17862" y="11640"/>
                  <a:pt x="17835" y="11757"/>
                </a:cubicBezTo>
                <a:cubicBezTo>
                  <a:pt x="17817" y="11834"/>
                  <a:pt x="17810" y="11899"/>
                  <a:pt x="17810" y="11981"/>
                </a:cubicBezTo>
                <a:cubicBezTo>
                  <a:pt x="17810" y="12010"/>
                  <a:pt x="17810" y="12141"/>
                  <a:pt x="17810" y="12080"/>
                </a:cubicBezTo>
                <a:cubicBezTo>
                  <a:pt x="17810" y="12055"/>
                  <a:pt x="17810" y="12030"/>
                  <a:pt x="17810" y="12005"/>
                </a:cubicBezTo>
              </a:path>
              <a:path w="4342" h="918">
                <a:moveTo>
                  <a:pt x="18256" y="11460"/>
                </a:moveTo>
                <a:cubicBezTo>
                  <a:pt x="18343" y="11460"/>
                  <a:pt x="18400" y="11454"/>
                  <a:pt x="18479" y="11435"/>
                </a:cubicBezTo>
                <a:cubicBezTo>
                  <a:pt x="18514" y="11435"/>
                  <a:pt x="18532" y="11430"/>
                  <a:pt x="18554" y="11410"/>
                </a:cubicBezTo>
              </a:path>
              <a:path w="4342" h="918">
                <a:moveTo>
                  <a:pt x="18207" y="11410"/>
                </a:moveTo>
                <a:cubicBezTo>
                  <a:pt x="18189" y="11454"/>
                  <a:pt x="18137" y="11516"/>
                  <a:pt x="18132" y="11559"/>
                </a:cubicBezTo>
                <a:cubicBezTo>
                  <a:pt x="18129" y="11583"/>
                  <a:pt x="18132" y="11609"/>
                  <a:pt x="18132" y="11633"/>
                </a:cubicBezTo>
                <a:cubicBezTo>
                  <a:pt x="18166" y="11622"/>
                  <a:pt x="18163" y="11599"/>
                  <a:pt x="18207" y="11584"/>
                </a:cubicBezTo>
                <a:cubicBezTo>
                  <a:pt x="18260" y="11566"/>
                  <a:pt x="18271" y="11543"/>
                  <a:pt x="18331" y="11584"/>
                </a:cubicBezTo>
                <a:cubicBezTo>
                  <a:pt x="18383" y="11619"/>
                  <a:pt x="18373" y="11659"/>
                  <a:pt x="18405" y="11708"/>
                </a:cubicBezTo>
                <a:cubicBezTo>
                  <a:pt x="18434" y="11751"/>
                  <a:pt x="18481" y="11845"/>
                  <a:pt x="18455" y="11906"/>
                </a:cubicBezTo>
                <a:cubicBezTo>
                  <a:pt x="18444" y="11932"/>
                  <a:pt x="18378" y="11953"/>
                  <a:pt x="18355" y="11956"/>
                </a:cubicBezTo>
                <a:cubicBezTo>
                  <a:pt x="18288" y="11964"/>
                  <a:pt x="18258" y="11948"/>
                  <a:pt x="18207" y="11931"/>
                </a:cubicBezTo>
                <a:cubicBezTo>
                  <a:pt x="18160" y="11915"/>
                  <a:pt x="18137" y="11941"/>
                  <a:pt x="18182" y="11881"/>
                </a:cubicBezTo>
              </a:path>
              <a:path w="4342" h="918">
                <a:moveTo>
                  <a:pt x="18728" y="11757"/>
                </a:moveTo>
                <a:lnTo>
                  <a:pt x="18728" y="11757"/>
                </a:lnTo>
              </a:path>
              <a:path w="4342" h="918">
                <a:moveTo>
                  <a:pt x="19075" y="11485"/>
                </a:moveTo>
                <a:cubicBezTo>
                  <a:pt x="19033" y="11502"/>
                  <a:pt x="18961" y="11513"/>
                  <a:pt x="18926" y="11534"/>
                </a:cubicBezTo>
                <a:cubicBezTo>
                  <a:pt x="18874" y="11565"/>
                  <a:pt x="18907" y="11601"/>
                  <a:pt x="18926" y="11633"/>
                </a:cubicBezTo>
                <a:cubicBezTo>
                  <a:pt x="18963" y="11698"/>
                  <a:pt x="19021" y="11749"/>
                  <a:pt x="19075" y="11807"/>
                </a:cubicBezTo>
                <a:cubicBezTo>
                  <a:pt x="19122" y="11858"/>
                  <a:pt x="19124" y="11890"/>
                  <a:pt x="19124" y="11956"/>
                </a:cubicBezTo>
                <a:cubicBezTo>
                  <a:pt x="19124" y="12016"/>
                  <a:pt x="19023" y="12026"/>
                  <a:pt x="18976" y="12030"/>
                </a:cubicBezTo>
                <a:cubicBezTo>
                  <a:pt x="18931" y="12034"/>
                  <a:pt x="18864" y="12023"/>
                  <a:pt x="18827" y="12005"/>
                </a:cubicBezTo>
                <a:cubicBezTo>
                  <a:pt x="18777" y="11981"/>
                  <a:pt x="18808" y="11957"/>
                  <a:pt x="18827" y="11931"/>
                </a:cubicBezTo>
              </a:path>
              <a:path w="4342" h="918">
                <a:moveTo>
                  <a:pt x="19372" y="11733"/>
                </a:moveTo>
                <a:cubicBezTo>
                  <a:pt x="19357" y="11819"/>
                  <a:pt x="19346" y="11886"/>
                  <a:pt x="19323" y="11956"/>
                </a:cubicBezTo>
                <a:cubicBezTo>
                  <a:pt x="19323" y="11981"/>
                  <a:pt x="19323" y="11989"/>
                  <a:pt x="19323" y="12005"/>
                </a:cubicBezTo>
              </a:path>
              <a:path w="4342" h="918">
                <a:moveTo>
                  <a:pt x="19372" y="11410"/>
                </a:moveTo>
                <a:cubicBezTo>
                  <a:pt x="19397" y="11402"/>
                  <a:pt x="19422" y="11393"/>
                  <a:pt x="19447" y="11385"/>
                </a:cubicBezTo>
              </a:path>
              <a:path w="4342" h="918">
                <a:moveTo>
                  <a:pt x="19596" y="11906"/>
                </a:moveTo>
                <a:cubicBezTo>
                  <a:pt x="19578" y="11997"/>
                  <a:pt x="19569" y="12004"/>
                  <a:pt x="19571" y="12055"/>
                </a:cubicBezTo>
                <a:cubicBezTo>
                  <a:pt x="19571" y="11969"/>
                  <a:pt x="19561" y="11886"/>
                  <a:pt x="19596" y="11807"/>
                </a:cubicBezTo>
                <a:cubicBezTo>
                  <a:pt x="19627" y="11738"/>
                  <a:pt x="19666" y="11703"/>
                  <a:pt x="19720" y="11658"/>
                </a:cubicBezTo>
                <a:cubicBezTo>
                  <a:pt x="19770" y="11616"/>
                  <a:pt x="19856" y="11645"/>
                  <a:pt x="19893" y="11708"/>
                </a:cubicBezTo>
                <a:cubicBezTo>
                  <a:pt x="19929" y="11769"/>
                  <a:pt x="19880" y="11922"/>
                  <a:pt x="19869" y="11981"/>
                </a:cubicBezTo>
                <a:cubicBezTo>
                  <a:pt x="19860" y="12030"/>
                  <a:pt x="19844" y="12030"/>
                  <a:pt x="19869" y="12030"/>
                </a:cubicBezTo>
              </a:path>
              <a:path w="4342" h="918">
                <a:moveTo>
                  <a:pt x="20117" y="11534"/>
                </a:moveTo>
                <a:cubicBezTo>
                  <a:pt x="20107" y="11587"/>
                  <a:pt x="20056" y="11736"/>
                  <a:pt x="20117" y="11782"/>
                </a:cubicBezTo>
                <a:cubicBezTo>
                  <a:pt x="20136" y="11797"/>
                  <a:pt x="20207" y="11851"/>
                  <a:pt x="20241" y="11832"/>
                </a:cubicBezTo>
                <a:cubicBezTo>
                  <a:pt x="20263" y="11809"/>
                  <a:pt x="20268" y="11801"/>
                  <a:pt x="20290" y="11807"/>
                </a:cubicBezTo>
              </a:path>
              <a:path w="4342" h="918">
                <a:moveTo>
                  <a:pt x="20340" y="11435"/>
                </a:moveTo>
                <a:cubicBezTo>
                  <a:pt x="20321" y="11564"/>
                  <a:pt x="20315" y="11677"/>
                  <a:pt x="20315" y="11807"/>
                </a:cubicBezTo>
                <a:cubicBezTo>
                  <a:pt x="20315" y="11877"/>
                  <a:pt x="20290" y="11932"/>
                  <a:pt x="20290" y="12005"/>
                </a:cubicBezTo>
                <a:cubicBezTo>
                  <a:pt x="20290" y="12050"/>
                  <a:pt x="20315" y="12174"/>
                  <a:pt x="20315" y="12129"/>
                </a:cubicBezTo>
                <a:cubicBezTo>
                  <a:pt x="20315" y="12104"/>
                  <a:pt x="20315" y="12080"/>
                  <a:pt x="20315" y="12055"/>
                </a:cubicBezTo>
              </a:path>
              <a:path w="4342" h="918">
                <a:moveTo>
                  <a:pt x="20638" y="11559"/>
                </a:moveTo>
                <a:cubicBezTo>
                  <a:pt x="20727" y="11554"/>
                  <a:pt x="20848" y="11557"/>
                  <a:pt x="20935" y="11534"/>
                </a:cubicBezTo>
                <a:cubicBezTo>
                  <a:pt x="20976" y="11514"/>
                  <a:pt x="20982" y="11505"/>
                  <a:pt x="21010" y="11509"/>
                </a:cubicBezTo>
              </a:path>
              <a:path w="4342" h="918">
                <a:moveTo>
                  <a:pt x="20638" y="11509"/>
                </a:moveTo>
                <a:cubicBezTo>
                  <a:pt x="20578" y="11569"/>
                  <a:pt x="20538" y="11582"/>
                  <a:pt x="20538" y="11658"/>
                </a:cubicBezTo>
                <a:cubicBezTo>
                  <a:pt x="20538" y="11666"/>
                  <a:pt x="20538" y="11675"/>
                  <a:pt x="20538" y="11683"/>
                </a:cubicBezTo>
                <a:cubicBezTo>
                  <a:pt x="20589" y="11683"/>
                  <a:pt x="20597" y="11694"/>
                  <a:pt x="20638" y="11708"/>
                </a:cubicBezTo>
                <a:cubicBezTo>
                  <a:pt x="20675" y="11720"/>
                  <a:pt x="20758" y="11707"/>
                  <a:pt x="20786" y="11733"/>
                </a:cubicBezTo>
                <a:cubicBezTo>
                  <a:pt x="20831" y="11774"/>
                  <a:pt x="20858" y="11875"/>
                  <a:pt x="20861" y="11931"/>
                </a:cubicBezTo>
                <a:cubicBezTo>
                  <a:pt x="20864" y="11991"/>
                  <a:pt x="20861" y="12062"/>
                  <a:pt x="20811" y="12105"/>
                </a:cubicBezTo>
                <a:cubicBezTo>
                  <a:pt x="20761" y="12148"/>
                  <a:pt x="20724" y="12154"/>
                  <a:pt x="20662" y="12154"/>
                </a:cubicBezTo>
                <a:cubicBezTo>
                  <a:pt x="20627" y="12154"/>
                  <a:pt x="20582" y="12167"/>
                  <a:pt x="20563" y="12129"/>
                </a:cubicBezTo>
                <a:cubicBezTo>
                  <a:pt x="20563" y="12094"/>
                  <a:pt x="20568" y="12077"/>
                  <a:pt x="20588" y="12055"/>
                </a:cubicBezTo>
              </a:path>
              <a:path w="4342" h="918">
                <a:moveTo>
                  <a:pt x="21208" y="11906"/>
                </a:moveTo>
                <a:cubicBezTo>
                  <a:pt x="21266" y="11906"/>
                  <a:pt x="21324" y="11906"/>
                  <a:pt x="21382" y="11906"/>
                </a:cubicBezTo>
              </a:path>
              <a:path w="4342" h="918">
                <a:moveTo>
                  <a:pt x="21158" y="12055"/>
                </a:moveTo>
                <a:cubicBezTo>
                  <a:pt x="21204" y="12083"/>
                  <a:pt x="21272" y="12093"/>
                  <a:pt x="21332" y="12080"/>
                </a:cubicBezTo>
                <a:cubicBezTo>
                  <a:pt x="21397" y="12058"/>
                  <a:pt x="21412" y="12050"/>
                  <a:pt x="21456" y="12055"/>
                </a:cubicBezTo>
              </a:path>
              <a:path w="4342" h="918">
                <a:moveTo>
                  <a:pt x="21779" y="11410"/>
                </a:moveTo>
                <a:cubicBezTo>
                  <a:pt x="21779" y="11547"/>
                  <a:pt x="21769" y="11674"/>
                  <a:pt x="21754" y="11807"/>
                </a:cubicBezTo>
                <a:cubicBezTo>
                  <a:pt x="21738" y="11952"/>
                  <a:pt x="21754" y="12108"/>
                  <a:pt x="21754" y="12254"/>
                </a:cubicBezTo>
                <a:cubicBezTo>
                  <a:pt x="21754" y="12309"/>
                  <a:pt x="21777" y="12214"/>
                  <a:pt x="21779" y="12204"/>
                </a:cubicBezTo>
                <a:cubicBezTo>
                  <a:pt x="21792" y="12141"/>
                  <a:pt x="21782" y="12088"/>
                  <a:pt x="21803" y="12030"/>
                </a:cubicBezTo>
                <a:cubicBezTo>
                  <a:pt x="21816" y="11993"/>
                  <a:pt x="21869" y="11878"/>
                  <a:pt x="21903" y="11857"/>
                </a:cubicBezTo>
                <a:cubicBezTo>
                  <a:pt x="21968" y="11816"/>
                  <a:pt x="22032" y="11790"/>
                  <a:pt x="22101" y="11832"/>
                </a:cubicBezTo>
                <a:cubicBezTo>
                  <a:pt x="22156" y="11866"/>
                  <a:pt x="22151" y="11927"/>
                  <a:pt x="22151" y="11981"/>
                </a:cubicBezTo>
                <a:cubicBezTo>
                  <a:pt x="22151" y="12024"/>
                  <a:pt x="22158" y="12125"/>
                  <a:pt x="22126" y="12154"/>
                </a:cubicBezTo>
                <a:cubicBezTo>
                  <a:pt x="22085" y="12191"/>
                  <a:pt x="22024" y="12210"/>
                  <a:pt x="21977" y="12229"/>
                </a:cubicBezTo>
                <a:cubicBezTo>
                  <a:pt x="21897" y="12261"/>
                  <a:pt x="21909" y="12237"/>
                  <a:pt x="21828" y="12229"/>
                </a:cubicBezTo>
                <a:cubicBezTo>
                  <a:pt x="21805" y="12227"/>
                  <a:pt x="21744" y="12183"/>
                  <a:pt x="21779" y="12154"/>
                </a:cubicBezTo>
                <a:cubicBezTo>
                  <a:pt x="21787" y="12154"/>
                  <a:pt x="21795" y="12154"/>
                  <a:pt x="2180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99280" y="4152960"/>
            <a:ext cx="777960" cy="258840"/>
          </a:xfrm>
          <a:custGeom>
            <a:avLst/>
            <a:gdLst/>
            <a:ahLst/>
            <a:rect l="l" t="t" r="r" b="b"/>
            <a:pathLst>
              <a:path w="2159" h="721">
                <a:moveTo>
                  <a:pt x="22498" y="11931"/>
                </a:moveTo>
                <a:cubicBezTo>
                  <a:pt x="22498" y="11923"/>
                  <a:pt x="22498" y="11914"/>
                  <a:pt x="22498" y="11906"/>
                </a:cubicBezTo>
              </a:path>
              <a:path w="2159" h="721">
                <a:moveTo>
                  <a:pt x="22820" y="11757"/>
                </a:moveTo>
                <a:cubicBezTo>
                  <a:pt x="22755" y="11757"/>
                  <a:pt x="22747" y="11765"/>
                  <a:pt x="22696" y="11782"/>
                </a:cubicBezTo>
                <a:cubicBezTo>
                  <a:pt x="22653" y="11796"/>
                  <a:pt x="22667" y="11837"/>
                  <a:pt x="22696" y="11881"/>
                </a:cubicBezTo>
                <a:cubicBezTo>
                  <a:pt x="22731" y="11933"/>
                  <a:pt x="22776" y="11966"/>
                  <a:pt x="22796" y="12030"/>
                </a:cubicBezTo>
                <a:cubicBezTo>
                  <a:pt x="22830" y="12137"/>
                  <a:pt x="22871" y="12196"/>
                  <a:pt x="22746" y="12254"/>
                </a:cubicBezTo>
                <a:cubicBezTo>
                  <a:pt x="22708" y="12271"/>
                  <a:pt x="22650" y="12220"/>
                  <a:pt x="22622" y="12204"/>
                </a:cubicBezTo>
                <a:cubicBezTo>
                  <a:pt x="22555" y="12166"/>
                  <a:pt x="22560" y="12158"/>
                  <a:pt x="22572" y="12105"/>
                </a:cubicBezTo>
                <a:cubicBezTo>
                  <a:pt x="22572" y="12097"/>
                  <a:pt x="22572" y="12088"/>
                  <a:pt x="22572" y="12080"/>
                </a:cubicBezTo>
              </a:path>
              <a:path w="2159" h="721">
                <a:moveTo>
                  <a:pt x="23118" y="11807"/>
                </a:moveTo>
                <a:cubicBezTo>
                  <a:pt x="23103" y="11900"/>
                  <a:pt x="23083" y="11992"/>
                  <a:pt x="23068" y="12080"/>
                </a:cubicBezTo>
                <a:cubicBezTo>
                  <a:pt x="23068" y="12096"/>
                  <a:pt x="23068" y="12113"/>
                  <a:pt x="23068" y="12129"/>
                </a:cubicBezTo>
              </a:path>
              <a:path w="2159" h="721">
                <a:moveTo>
                  <a:pt x="23044" y="11559"/>
                </a:moveTo>
                <a:cubicBezTo>
                  <a:pt x="23069" y="11551"/>
                  <a:pt x="23093" y="11542"/>
                  <a:pt x="23118" y="11534"/>
                </a:cubicBezTo>
              </a:path>
              <a:path w="2159" h="721">
                <a:moveTo>
                  <a:pt x="23217" y="11956"/>
                </a:moveTo>
                <a:cubicBezTo>
                  <a:pt x="23217" y="12047"/>
                  <a:pt x="23217" y="12055"/>
                  <a:pt x="23217" y="12105"/>
                </a:cubicBezTo>
                <a:cubicBezTo>
                  <a:pt x="23228" y="12059"/>
                  <a:pt x="23247" y="12005"/>
                  <a:pt x="23267" y="11956"/>
                </a:cubicBezTo>
                <a:cubicBezTo>
                  <a:pt x="23295" y="11886"/>
                  <a:pt x="23297" y="11807"/>
                  <a:pt x="23366" y="11757"/>
                </a:cubicBezTo>
                <a:cubicBezTo>
                  <a:pt x="23406" y="11728"/>
                  <a:pt x="23474" y="11688"/>
                  <a:pt x="23515" y="11733"/>
                </a:cubicBezTo>
                <a:cubicBezTo>
                  <a:pt x="23575" y="11797"/>
                  <a:pt x="23564" y="11902"/>
                  <a:pt x="23564" y="11981"/>
                </a:cubicBezTo>
                <a:cubicBezTo>
                  <a:pt x="23564" y="12010"/>
                  <a:pt x="23573" y="12276"/>
                  <a:pt x="23589" y="12254"/>
                </a:cubicBezTo>
                <a:cubicBezTo>
                  <a:pt x="23589" y="12226"/>
                  <a:pt x="23591" y="12215"/>
                  <a:pt x="23614" y="12204"/>
                </a:cubicBezTo>
              </a:path>
              <a:path w="2159" h="721">
                <a:moveTo>
                  <a:pt x="23763" y="11559"/>
                </a:moveTo>
                <a:cubicBezTo>
                  <a:pt x="23780" y="11653"/>
                  <a:pt x="23810" y="11783"/>
                  <a:pt x="23788" y="11881"/>
                </a:cubicBezTo>
                <a:cubicBezTo>
                  <a:pt x="23769" y="11964"/>
                  <a:pt x="23760" y="12055"/>
                  <a:pt x="23738" y="12129"/>
                </a:cubicBezTo>
                <a:cubicBezTo>
                  <a:pt x="23724" y="12174"/>
                  <a:pt x="23738" y="12192"/>
                  <a:pt x="23738" y="12129"/>
                </a:cubicBezTo>
              </a:path>
              <a:path w="2159" h="721">
                <a:moveTo>
                  <a:pt x="23961" y="11633"/>
                </a:moveTo>
                <a:cubicBezTo>
                  <a:pt x="24009" y="11621"/>
                  <a:pt x="24106" y="11587"/>
                  <a:pt x="24160" y="11609"/>
                </a:cubicBezTo>
                <a:cubicBezTo>
                  <a:pt x="24253" y="11646"/>
                  <a:pt x="24186" y="11754"/>
                  <a:pt x="24160" y="11807"/>
                </a:cubicBezTo>
                <a:cubicBezTo>
                  <a:pt x="24125" y="11878"/>
                  <a:pt x="24063" y="11934"/>
                  <a:pt x="24036" y="12005"/>
                </a:cubicBezTo>
                <a:cubicBezTo>
                  <a:pt x="24020" y="12048"/>
                  <a:pt x="24011" y="12077"/>
                  <a:pt x="24011" y="12129"/>
                </a:cubicBezTo>
                <a:cubicBezTo>
                  <a:pt x="24011" y="12166"/>
                  <a:pt x="24054" y="12193"/>
                  <a:pt x="24085" y="12204"/>
                </a:cubicBezTo>
                <a:cubicBezTo>
                  <a:pt x="24121" y="12216"/>
                  <a:pt x="24179" y="12169"/>
                  <a:pt x="24209" y="12154"/>
                </a:cubicBezTo>
              </a:path>
              <a:path w="2159" h="721">
                <a:moveTo>
                  <a:pt x="24408" y="11757"/>
                </a:moveTo>
                <a:cubicBezTo>
                  <a:pt x="24365" y="11837"/>
                  <a:pt x="24316" y="11893"/>
                  <a:pt x="24309" y="11981"/>
                </a:cubicBezTo>
                <a:cubicBezTo>
                  <a:pt x="24307" y="12005"/>
                  <a:pt x="24312" y="12097"/>
                  <a:pt x="24333" y="12105"/>
                </a:cubicBezTo>
                <a:cubicBezTo>
                  <a:pt x="24396" y="12128"/>
                  <a:pt x="24426" y="12121"/>
                  <a:pt x="24482" y="12105"/>
                </a:cubicBezTo>
                <a:cubicBezTo>
                  <a:pt x="24555" y="12084"/>
                  <a:pt x="24573" y="12022"/>
                  <a:pt x="24606" y="11956"/>
                </a:cubicBezTo>
                <a:cubicBezTo>
                  <a:pt x="24637" y="11894"/>
                  <a:pt x="24677" y="11830"/>
                  <a:pt x="24656" y="11757"/>
                </a:cubicBezTo>
                <a:cubicBezTo>
                  <a:pt x="24638" y="11693"/>
                  <a:pt x="24598" y="11685"/>
                  <a:pt x="24557" y="11658"/>
                </a:cubicBezTo>
                <a:cubicBezTo>
                  <a:pt x="24508" y="11625"/>
                  <a:pt x="24506" y="11628"/>
                  <a:pt x="24457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7720" y="4303800"/>
            <a:ext cx="1071360" cy="384120"/>
          </a:xfrm>
          <a:custGeom>
            <a:avLst/>
            <a:gdLst/>
            <a:ahLst/>
            <a:rect l="l" t="t" r="r" b="b"/>
            <a:pathLst>
              <a:path w="2977" h="1067">
                <a:moveTo>
                  <a:pt x="9327" y="12105"/>
                </a:moveTo>
                <a:cubicBezTo>
                  <a:pt x="9409" y="12105"/>
                  <a:pt x="9470" y="12092"/>
                  <a:pt x="9550" y="12080"/>
                </a:cubicBezTo>
                <a:cubicBezTo>
                  <a:pt x="9699" y="12058"/>
                  <a:pt x="9871" y="12066"/>
                  <a:pt x="10021" y="12055"/>
                </a:cubicBezTo>
                <a:cubicBezTo>
                  <a:pt x="10253" y="12038"/>
                  <a:pt x="10485" y="12035"/>
                  <a:pt x="10716" y="12005"/>
                </a:cubicBezTo>
                <a:cubicBezTo>
                  <a:pt x="10961" y="11973"/>
                  <a:pt x="11214" y="11961"/>
                  <a:pt x="11460" y="11956"/>
                </a:cubicBezTo>
                <a:cubicBezTo>
                  <a:pt x="11678" y="11952"/>
                  <a:pt x="11891" y="11967"/>
                  <a:pt x="12105" y="11981"/>
                </a:cubicBezTo>
                <a:cubicBezTo>
                  <a:pt x="12120" y="11982"/>
                  <a:pt x="12301" y="12010"/>
                  <a:pt x="12303" y="11956"/>
                </a:cubicBezTo>
                <a:cubicBezTo>
                  <a:pt x="12278" y="11956"/>
                  <a:pt x="12270" y="11956"/>
                  <a:pt x="12254" y="11956"/>
                </a:cubicBezTo>
              </a:path>
              <a:path w="2977" h="1067">
                <a:moveTo>
                  <a:pt x="9996" y="12452"/>
                </a:moveTo>
                <a:cubicBezTo>
                  <a:pt x="9939" y="12438"/>
                  <a:pt x="9953" y="12446"/>
                  <a:pt x="9897" y="12452"/>
                </a:cubicBezTo>
                <a:cubicBezTo>
                  <a:pt x="9848" y="12457"/>
                  <a:pt x="9811" y="12469"/>
                  <a:pt x="9773" y="12477"/>
                </a:cubicBezTo>
                <a:cubicBezTo>
                  <a:pt x="9730" y="12486"/>
                  <a:pt x="9680" y="12482"/>
                  <a:pt x="9674" y="12526"/>
                </a:cubicBezTo>
                <a:cubicBezTo>
                  <a:pt x="9668" y="12577"/>
                  <a:pt x="9737" y="12607"/>
                  <a:pt x="9773" y="12626"/>
                </a:cubicBezTo>
                <a:cubicBezTo>
                  <a:pt x="9855" y="12668"/>
                  <a:pt x="9905" y="12708"/>
                  <a:pt x="9971" y="12774"/>
                </a:cubicBezTo>
                <a:cubicBezTo>
                  <a:pt x="10018" y="12821"/>
                  <a:pt x="10058" y="12895"/>
                  <a:pt x="10021" y="12948"/>
                </a:cubicBezTo>
                <a:cubicBezTo>
                  <a:pt x="9995" y="12985"/>
                  <a:pt x="9912" y="12984"/>
                  <a:pt x="9872" y="12973"/>
                </a:cubicBezTo>
                <a:cubicBezTo>
                  <a:pt x="9816" y="12957"/>
                  <a:pt x="9788" y="12937"/>
                  <a:pt x="9748" y="12898"/>
                </a:cubicBezTo>
                <a:cubicBezTo>
                  <a:pt x="9700" y="12851"/>
                  <a:pt x="9744" y="12825"/>
                  <a:pt x="9773" y="12774"/>
                </a:cubicBezTo>
              </a:path>
              <a:path w="2977" h="1067">
                <a:moveTo>
                  <a:pt x="10244" y="12626"/>
                </a:moveTo>
                <a:cubicBezTo>
                  <a:pt x="10261" y="12693"/>
                  <a:pt x="10244" y="12725"/>
                  <a:pt x="10244" y="12799"/>
                </a:cubicBezTo>
                <a:cubicBezTo>
                  <a:pt x="10244" y="12840"/>
                  <a:pt x="10244" y="12882"/>
                  <a:pt x="10244" y="12923"/>
                </a:cubicBezTo>
                <a:cubicBezTo>
                  <a:pt x="10271" y="12888"/>
                  <a:pt x="10269" y="12893"/>
                  <a:pt x="10269" y="12849"/>
                </a:cubicBezTo>
              </a:path>
              <a:path w="2977" h="1067">
                <a:moveTo>
                  <a:pt x="10269" y="12378"/>
                </a:moveTo>
                <a:cubicBezTo>
                  <a:pt x="10289" y="12337"/>
                  <a:pt x="10287" y="12321"/>
                  <a:pt x="10319" y="12328"/>
                </a:cubicBezTo>
              </a:path>
              <a:path w="2977" h="1067">
                <a:moveTo>
                  <a:pt x="10492" y="12750"/>
                </a:moveTo>
                <a:cubicBezTo>
                  <a:pt x="10492" y="12799"/>
                  <a:pt x="10492" y="12849"/>
                  <a:pt x="10492" y="12898"/>
                </a:cubicBezTo>
                <a:cubicBezTo>
                  <a:pt x="10492" y="12829"/>
                  <a:pt x="10482" y="12762"/>
                  <a:pt x="10517" y="12700"/>
                </a:cubicBezTo>
                <a:cubicBezTo>
                  <a:pt x="10535" y="12668"/>
                  <a:pt x="10610" y="12548"/>
                  <a:pt x="10666" y="12551"/>
                </a:cubicBezTo>
                <a:cubicBezTo>
                  <a:pt x="10747" y="12556"/>
                  <a:pt x="10765" y="12588"/>
                  <a:pt x="10790" y="12650"/>
                </a:cubicBezTo>
                <a:cubicBezTo>
                  <a:pt x="10821" y="12728"/>
                  <a:pt x="10840" y="12763"/>
                  <a:pt x="10840" y="12849"/>
                </a:cubicBezTo>
                <a:cubicBezTo>
                  <a:pt x="10840" y="12906"/>
                  <a:pt x="10833" y="12929"/>
                  <a:pt x="10864" y="12973"/>
                </a:cubicBezTo>
                <a:cubicBezTo>
                  <a:pt x="10864" y="12930"/>
                  <a:pt x="10870" y="12905"/>
                  <a:pt x="10889" y="12874"/>
                </a:cubicBezTo>
              </a:path>
              <a:path w="2977" h="1067">
                <a:moveTo>
                  <a:pt x="11187" y="12477"/>
                </a:moveTo>
                <a:cubicBezTo>
                  <a:pt x="11194" y="12556"/>
                  <a:pt x="11212" y="12619"/>
                  <a:pt x="11212" y="12700"/>
                </a:cubicBezTo>
                <a:cubicBezTo>
                  <a:pt x="11212" y="12778"/>
                  <a:pt x="11209" y="13002"/>
                  <a:pt x="11212" y="12998"/>
                </a:cubicBezTo>
                <a:cubicBezTo>
                  <a:pt x="11240" y="12970"/>
                  <a:pt x="11249" y="12956"/>
                  <a:pt x="11237" y="12923"/>
                </a:cubicBezTo>
              </a:path>
              <a:path w="2977" h="1067">
                <a:moveTo>
                  <a:pt x="11336" y="12576"/>
                </a:moveTo>
                <a:cubicBezTo>
                  <a:pt x="11402" y="12542"/>
                  <a:pt x="11436" y="12526"/>
                  <a:pt x="11509" y="12526"/>
                </a:cubicBezTo>
                <a:cubicBezTo>
                  <a:pt x="11558" y="12526"/>
                  <a:pt x="11609" y="12521"/>
                  <a:pt x="11633" y="12576"/>
                </a:cubicBezTo>
                <a:cubicBezTo>
                  <a:pt x="11642" y="12597"/>
                  <a:pt x="11616" y="12689"/>
                  <a:pt x="11609" y="12700"/>
                </a:cubicBezTo>
                <a:cubicBezTo>
                  <a:pt x="11571" y="12758"/>
                  <a:pt x="11506" y="12810"/>
                  <a:pt x="11485" y="12874"/>
                </a:cubicBezTo>
                <a:cubicBezTo>
                  <a:pt x="11476" y="12902"/>
                  <a:pt x="11467" y="12919"/>
                  <a:pt x="11460" y="12948"/>
                </a:cubicBezTo>
                <a:cubicBezTo>
                  <a:pt x="11507" y="12983"/>
                  <a:pt x="11547" y="12973"/>
                  <a:pt x="11609" y="12973"/>
                </a:cubicBezTo>
                <a:cubicBezTo>
                  <a:pt x="11686" y="12973"/>
                  <a:pt x="11737" y="12933"/>
                  <a:pt x="11807" y="12898"/>
                </a:cubicBezTo>
              </a:path>
              <a:path w="2977" h="1067">
                <a:moveTo>
                  <a:pt x="11956" y="12576"/>
                </a:moveTo>
                <a:cubicBezTo>
                  <a:pt x="11876" y="12679"/>
                  <a:pt x="11857" y="12682"/>
                  <a:pt x="11857" y="12799"/>
                </a:cubicBezTo>
                <a:cubicBezTo>
                  <a:pt x="11857" y="12827"/>
                  <a:pt x="11881" y="12881"/>
                  <a:pt x="11906" y="12898"/>
                </a:cubicBezTo>
                <a:cubicBezTo>
                  <a:pt x="11940" y="12922"/>
                  <a:pt x="12037" y="12941"/>
                  <a:pt x="12080" y="12923"/>
                </a:cubicBezTo>
                <a:cubicBezTo>
                  <a:pt x="12111" y="12910"/>
                  <a:pt x="12172" y="12826"/>
                  <a:pt x="12179" y="12799"/>
                </a:cubicBezTo>
                <a:cubicBezTo>
                  <a:pt x="12201" y="12717"/>
                  <a:pt x="12152" y="12693"/>
                  <a:pt x="12129" y="12626"/>
                </a:cubicBezTo>
                <a:cubicBezTo>
                  <a:pt x="12125" y="12615"/>
                  <a:pt x="12079" y="12529"/>
                  <a:pt x="12080" y="12526"/>
                </a:cubicBezTo>
                <a:cubicBezTo>
                  <a:pt x="12088" y="12518"/>
                  <a:pt x="12097" y="12510"/>
                  <a:pt x="12105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02120" y="4340160"/>
            <a:ext cx="2411640" cy="401760"/>
          </a:xfrm>
          <a:custGeom>
            <a:avLst/>
            <a:gdLst/>
            <a:ahLst/>
            <a:rect l="l" t="t" r="r" b="b"/>
            <a:pathLst>
              <a:path w="6698" h="1117">
                <a:moveTo>
                  <a:pt x="13618" y="12080"/>
                </a:moveTo>
                <a:cubicBezTo>
                  <a:pt x="13699" y="12080"/>
                  <a:pt x="13773" y="12065"/>
                  <a:pt x="13841" y="12055"/>
                </a:cubicBezTo>
                <a:cubicBezTo>
                  <a:pt x="14057" y="12024"/>
                  <a:pt x="14299" y="12059"/>
                  <a:pt x="14511" y="12080"/>
                </a:cubicBezTo>
                <a:cubicBezTo>
                  <a:pt x="14771" y="12106"/>
                  <a:pt x="15044" y="12087"/>
                  <a:pt x="15304" y="12105"/>
                </a:cubicBezTo>
                <a:cubicBezTo>
                  <a:pt x="15639" y="12128"/>
                  <a:pt x="15988" y="12116"/>
                  <a:pt x="16321" y="12129"/>
                </a:cubicBezTo>
                <a:cubicBezTo>
                  <a:pt x="16327" y="12129"/>
                  <a:pt x="16844" y="12166"/>
                  <a:pt x="16867" y="12105"/>
                </a:cubicBezTo>
                <a:cubicBezTo>
                  <a:pt x="16851" y="12105"/>
                  <a:pt x="16834" y="12105"/>
                  <a:pt x="16818" y="12105"/>
                </a:cubicBezTo>
              </a:path>
              <a:path w="6698" h="1117">
                <a:moveTo>
                  <a:pt x="14684" y="12601"/>
                </a:moveTo>
                <a:cubicBezTo>
                  <a:pt x="14733" y="12601"/>
                  <a:pt x="14663" y="12578"/>
                  <a:pt x="14635" y="12576"/>
                </a:cubicBezTo>
                <a:cubicBezTo>
                  <a:pt x="14572" y="12572"/>
                  <a:pt x="14537" y="12586"/>
                  <a:pt x="14486" y="12601"/>
                </a:cubicBezTo>
                <a:cubicBezTo>
                  <a:pt x="14449" y="12612"/>
                  <a:pt x="14397" y="12622"/>
                  <a:pt x="14362" y="12626"/>
                </a:cubicBezTo>
                <a:cubicBezTo>
                  <a:pt x="14354" y="12626"/>
                  <a:pt x="14345" y="12626"/>
                  <a:pt x="14337" y="12626"/>
                </a:cubicBezTo>
                <a:cubicBezTo>
                  <a:pt x="14337" y="12672"/>
                  <a:pt x="14345" y="12697"/>
                  <a:pt x="14387" y="12725"/>
                </a:cubicBezTo>
                <a:cubicBezTo>
                  <a:pt x="14452" y="12768"/>
                  <a:pt x="14486" y="12817"/>
                  <a:pt x="14536" y="12874"/>
                </a:cubicBezTo>
                <a:cubicBezTo>
                  <a:pt x="14601" y="12948"/>
                  <a:pt x="14671" y="12990"/>
                  <a:pt x="14684" y="13097"/>
                </a:cubicBezTo>
                <a:cubicBezTo>
                  <a:pt x="14690" y="13151"/>
                  <a:pt x="14667" y="13186"/>
                  <a:pt x="14610" y="13171"/>
                </a:cubicBezTo>
                <a:cubicBezTo>
                  <a:pt x="14557" y="13157"/>
                  <a:pt x="14500" y="13131"/>
                  <a:pt x="14461" y="13097"/>
                </a:cubicBezTo>
                <a:cubicBezTo>
                  <a:pt x="14418" y="13059"/>
                  <a:pt x="14395" y="13044"/>
                  <a:pt x="14436" y="12998"/>
                </a:cubicBezTo>
                <a:cubicBezTo>
                  <a:pt x="14444" y="12990"/>
                  <a:pt x="14453" y="12981"/>
                  <a:pt x="14461" y="12973"/>
                </a:cubicBezTo>
              </a:path>
              <a:path w="6698" h="1117">
                <a:moveTo>
                  <a:pt x="14883" y="12750"/>
                </a:moveTo>
                <a:cubicBezTo>
                  <a:pt x="14906" y="12826"/>
                  <a:pt x="14908" y="12870"/>
                  <a:pt x="14908" y="12948"/>
                </a:cubicBezTo>
                <a:cubicBezTo>
                  <a:pt x="14908" y="12958"/>
                  <a:pt x="14908" y="13114"/>
                  <a:pt x="14908" y="13047"/>
                </a:cubicBezTo>
                <a:cubicBezTo>
                  <a:pt x="14908" y="13022"/>
                  <a:pt x="14908" y="13014"/>
                  <a:pt x="14908" y="12998"/>
                </a:cubicBezTo>
              </a:path>
              <a:path w="6698" h="1117">
                <a:moveTo>
                  <a:pt x="14908" y="12452"/>
                </a:moveTo>
                <a:cubicBezTo>
                  <a:pt x="14916" y="12435"/>
                  <a:pt x="14924" y="12419"/>
                  <a:pt x="14932" y="12402"/>
                </a:cubicBezTo>
              </a:path>
              <a:path w="6698" h="1117">
                <a:moveTo>
                  <a:pt x="15081" y="12824"/>
                </a:moveTo>
                <a:cubicBezTo>
                  <a:pt x="15081" y="12898"/>
                  <a:pt x="15081" y="12973"/>
                  <a:pt x="15081" y="13047"/>
                </a:cubicBezTo>
                <a:cubicBezTo>
                  <a:pt x="15081" y="12993"/>
                  <a:pt x="15097" y="12965"/>
                  <a:pt x="15106" y="12923"/>
                </a:cubicBezTo>
                <a:cubicBezTo>
                  <a:pt x="15117" y="12874"/>
                  <a:pt x="15104" y="12819"/>
                  <a:pt x="15131" y="12774"/>
                </a:cubicBezTo>
                <a:cubicBezTo>
                  <a:pt x="15163" y="12721"/>
                  <a:pt x="15161" y="12706"/>
                  <a:pt x="15230" y="12700"/>
                </a:cubicBezTo>
                <a:cubicBezTo>
                  <a:pt x="15271" y="12697"/>
                  <a:pt x="15301" y="12747"/>
                  <a:pt x="15329" y="12774"/>
                </a:cubicBezTo>
                <a:cubicBezTo>
                  <a:pt x="15375" y="12819"/>
                  <a:pt x="15390" y="12888"/>
                  <a:pt x="15404" y="12948"/>
                </a:cubicBezTo>
                <a:cubicBezTo>
                  <a:pt x="15412" y="12984"/>
                  <a:pt x="15404" y="13073"/>
                  <a:pt x="15429" y="13047"/>
                </a:cubicBezTo>
                <a:cubicBezTo>
                  <a:pt x="15435" y="13040"/>
                  <a:pt x="15429" y="12983"/>
                  <a:pt x="15429" y="12973"/>
                </a:cubicBezTo>
              </a:path>
              <a:path w="6698" h="1117">
                <a:moveTo>
                  <a:pt x="15677" y="12502"/>
                </a:moveTo>
                <a:cubicBezTo>
                  <a:pt x="15696" y="12592"/>
                  <a:pt x="15701" y="12660"/>
                  <a:pt x="15701" y="12750"/>
                </a:cubicBezTo>
                <a:cubicBezTo>
                  <a:pt x="15701" y="12819"/>
                  <a:pt x="15677" y="12876"/>
                  <a:pt x="15677" y="12948"/>
                </a:cubicBezTo>
                <a:cubicBezTo>
                  <a:pt x="15677" y="13010"/>
                  <a:pt x="15686" y="13045"/>
                  <a:pt x="15701" y="13097"/>
                </a:cubicBezTo>
                <a:cubicBezTo>
                  <a:pt x="15701" y="13122"/>
                  <a:pt x="15701" y="13130"/>
                  <a:pt x="15726" y="13122"/>
                </a:cubicBezTo>
                <a:cubicBezTo>
                  <a:pt x="15759" y="13111"/>
                  <a:pt x="15749" y="13108"/>
                  <a:pt x="15776" y="13072"/>
                </a:cubicBezTo>
              </a:path>
              <a:path w="6698" h="1117">
                <a:moveTo>
                  <a:pt x="15949" y="12626"/>
                </a:moveTo>
                <a:cubicBezTo>
                  <a:pt x="15995" y="12600"/>
                  <a:pt x="16040" y="12557"/>
                  <a:pt x="16098" y="12576"/>
                </a:cubicBezTo>
                <a:cubicBezTo>
                  <a:pt x="16147" y="12592"/>
                  <a:pt x="16182" y="12604"/>
                  <a:pt x="16197" y="12650"/>
                </a:cubicBezTo>
                <a:cubicBezTo>
                  <a:pt x="16211" y="12694"/>
                  <a:pt x="16188" y="12740"/>
                  <a:pt x="16173" y="12774"/>
                </a:cubicBezTo>
                <a:cubicBezTo>
                  <a:pt x="16148" y="12833"/>
                  <a:pt x="16108" y="12903"/>
                  <a:pt x="16073" y="12948"/>
                </a:cubicBezTo>
                <a:cubicBezTo>
                  <a:pt x="16053" y="12974"/>
                  <a:pt x="16000" y="13005"/>
                  <a:pt x="16024" y="13047"/>
                </a:cubicBezTo>
                <a:cubicBezTo>
                  <a:pt x="16054" y="13102"/>
                  <a:pt x="16093" y="13097"/>
                  <a:pt x="16148" y="13097"/>
                </a:cubicBezTo>
                <a:cubicBezTo>
                  <a:pt x="16216" y="13097"/>
                  <a:pt x="16244" y="13089"/>
                  <a:pt x="16297" y="13047"/>
                </a:cubicBezTo>
              </a:path>
              <a:path w="6698" h="1117">
                <a:moveTo>
                  <a:pt x="16446" y="12750"/>
                </a:moveTo>
                <a:cubicBezTo>
                  <a:pt x="16413" y="12831"/>
                  <a:pt x="16396" y="12861"/>
                  <a:pt x="16396" y="12948"/>
                </a:cubicBezTo>
                <a:cubicBezTo>
                  <a:pt x="16396" y="13048"/>
                  <a:pt x="16416" y="13008"/>
                  <a:pt x="16470" y="13072"/>
                </a:cubicBezTo>
                <a:cubicBezTo>
                  <a:pt x="16529" y="13141"/>
                  <a:pt x="16570" y="13157"/>
                  <a:pt x="16669" y="13171"/>
                </a:cubicBezTo>
                <a:cubicBezTo>
                  <a:pt x="16702" y="13176"/>
                  <a:pt x="16798" y="13169"/>
                  <a:pt x="16818" y="13146"/>
                </a:cubicBezTo>
                <a:cubicBezTo>
                  <a:pt x="16852" y="13106"/>
                  <a:pt x="16834" y="13033"/>
                  <a:pt x="16793" y="12998"/>
                </a:cubicBezTo>
                <a:cubicBezTo>
                  <a:pt x="16712" y="12958"/>
                  <a:pt x="16669" y="12928"/>
                  <a:pt x="16619" y="12874"/>
                </a:cubicBezTo>
              </a:path>
              <a:path w="6698" h="1117">
                <a:moveTo>
                  <a:pt x="17338" y="12278"/>
                </a:moveTo>
                <a:cubicBezTo>
                  <a:pt x="17322" y="12295"/>
                  <a:pt x="17305" y="12311"/>
                  <a:pt x="17289" y="12328"/>
                </a:cubicBezTo>
                <a:cubicBezTo>
                  <a:pt x="17353" y="12350"/>
                  <a:pt x="17410" y="12353"/>
                  <a:pt x="17487" y="12353"/>
                </a:cubicBezTo>
                <a:cubicBezTo>
                  <a:pt x="17687" y="12353"/>
                  <a:pt x="17880" y="12394"/>
                  <a:pt x="18083" y="12378"/>
                </a:cubicBezTo>
                <a:cubicBezTo>
                  <a:pt x="18396" y="12353"/>
                  <a:pt x="18711" y="12333"/>
                  <a:pt x="19025" y="12328"/>
                </a:cubicBezTo>
                <a:cubicBezTo>
                  <a:pt x="19235" y="12325"/>
                  <a:pt x="19438" y="12318"/>
                  <a:pt x="19645" y="12303"/>
                </a:cubicBezTo>
                <a:cubicBezTo>
                  <a:pt x="19737" y="12296"/>
                  <a:pt x="19807" y="12300"/>
                  <a:pt x="19893" y="12278"/>
                </a:cubicBezTo>
                <a:cubicBezTo>
                  <a:pt x="19864" y="12269"/>
                  <a:pt x="19818" y="12254"/>
                  <a:pt x="19745" y="12254"/>
                </a:cubicBezTo>
              </a:path>
              <a:path w="6698" h="1117">
                <a:moveTo>
                  <a:pt x="18579" y="12551"/>
                </a:moveTo>
                <a:cubicBezTo>
                  <a:pt x="18503" y="12569"/>
                  <a:pt x="18400" y="12588"/>
                  <a:pt x="18331" y="12626"/>
                </a:cubicBezTo>
                <a:cubicBezTo>
                  <a:pt x="18271" y="12665"/>
                  <a:pt x="18259" y="12669"/>
                  <a:pt x="18231" y="12700"/>
                </a:cubicBezTo>
                <a:cubicBezTo>
                  <a:pt x="18244" y="12752"/>
                  <a:pt x="18291" y="12783"/>
                  <a:pt x="18331" y="12824"/>
                </a:cubicBezTo>
                <a:cubicBezTo>
                  <a:pt x="18397" y="12890"/>
                  <a:pt x="18500" y="12895"/>
                  <a:pt x="18529" y="12998"/>
                </a:cubicBezTo>
                <a:cubicBezTo>
                  <a:pt x="18545" y="13056"/>
                  <a:pt x="18539" y="13128"/>
                  <a:pt x="18479" y="13146"/>
                </a:cubicBezTo>
                <a:cubicBezTo>
                  <a:pt x="18411" y="13167"/>
                  <a:pt x="18292" y="13149"/>
                  <a:pt x="18231" y="13122"/>
                </a:cubicBezTo>
                <a:cubicBezTo>
                  <a:pt x="18154" y="13088"/>
                  <a:pt x="18142" y="13052"/>
                  <a:pt x="18132" y="12973"/>
                </a:cubicBezTo>
              </a:path>
              <a:path w="6698" h="1117">
                <a:moveTo>
                  <a:pt x="18678" y="12948"/>
                </a:moveTo>
                <a:cubicBezTo>
                  <a:pt x="18703" y="13029"/>
                  <a:pt x="18731" y="13202"/>
                  <a:pt x="18703" y="13122"/>
                </a:cubicBezTo>
              </a:path>
              <a:path w="6698" h="1117">
                <a:moveTo>
                  <a:pt x="18777" y="12626"/>
                </a:moveTo>
                <a:cubicBezTo>
                  <a:pt x="18818" y="12606"/>
                  <a:pt x="18824" y="12597"/>
                  <a:pt x="18852" y="12601"/>
                </a:cubicBezTo>
              </a:path>
              <a:path w="6698" h="1117">
                <a:moveTo>
                  <a:pt x="18926" y="13022"/>
                </a:moveTo>
                <a:cubicBezTo>
                  <a:pt x="18904" y="13066"/>
                  <a:pt x="18891" y="13087"/>
                  <a:pt x="18926" y="13047"/>
                </a:cubicBezTo>
                <a:cubicBezTo>
                  <a:pt x="18935" y="12982"/>
                  <a:pt x="18968" y="12937"/>
                  <a:pt x="19000" y="12874"/>
                </a:cubicBezTo>
                <a:cubicBezTo>
                  <a:pt x="19027" y="12820"/>
                  <a:pt x="19079" y="12734"/>
                  <a:pt x="19149" y="12799"/>
                </a:cubicBezTo>
                <a:cubicBezTo>
                  <a:pt x="19186" y="12834"/>
                  <a:pt x="19221" y="12928"/>
                  <a:pt x="19248" y="12973"/>
                </a:cubicBezTo>
                <a:cubicBezTo>
                  <a:pt x="19282" y="13029"/>
                  <a:pt x="19273" y="13083"/>
                  <a:pt x="19273" y="13146"/>
                </a:cubicBezTo>
                <a:cubicBezTo>
                  <a:pt x="19273" y="13212"/>
                  <a:pt x="19273" y="13131"/>
                  <a:pt x="19273" y="13122"/>
                </a:cubicBezTo>
              </a:path>
              <a:path w="6698" h="1117">
                <a:moveTo>
                  <a:pt x="19422" y="12700"/>
                </a:moveTo>
                <a:cubicBezTo>
                  <a:pt x="19448" y="12774"/>
                  <a:pt x="19520" y="12908"/>
                  <a:pt x="19496" y="12998"/>
                </a:cubicBezTo>
                <a:cubicBezTo>
                  <a:pt x="19475" y="13077"/>
                  <a:pt x="19475" y="13080"/>
                  <a:pt x="19496" y="13146"/>
                </a:cubicBezTo>
                <a:cubicBezTo>
                  <a:pt x="19496" y="13154"/>
                  <a:pt x="19496" y="13163"/>
                  <a:pt x="19496" y="13171"/>
                </a:cubicBezTo>
              </a:path>
              <a:path w="6698" h="1117">
                <a:moveTo>
                  <a:pt x="19645" y="12725"/>
                </a:moveTo>
                <a:cubicBezTo>
                  <a:pt x="19763" y="12715"/>
                  <a:pt x="19872" y="12662"/>
                  <a:pt x="19918" y="12799"/>
                </a:cubicBezTo>
                <a:cubicBezTo>
                  <a:pt x="19939" y="12862"/>
                  <a:pt x="19897" y="12901"/>
                  <a:pt x="19869" y="12948"/>
                </a:cubicBezTo>
                <a:cubicBezTo>
                  <a:pt x="19838" y="13000"/>
                  <a:pt x="19798" y="13027"/>
                  <a:pt x="19769" y="13072"/>
                </a:cubicBezTo>
                <a:cubicBezTo>
                  <a:pt x="19736" y="13124"/>
                  <a:pt x="19789" y="13097"/>
                  <a:pt x="19844" y="13097"/>
                </a:cubicBezTo>
              </a:path>
              <a:path w="6698" h="1117">
                <a:moveTo>
                  <a:pt x="20042" y="12948"/>
                </a:moveTo>
                <a:cubicBezTo>
                  <a:pt x="20023" y="13001"/>
                  <a:pt x="19960" y="13116"/>
                  <a:pt x="20067" y="13146"/>
                </a:cubicBezTo>
                <a:cubicBezTo>
                  <a:pt x="20131" y="13164"/>
                  <a:pt x="20196" y="13171"/>
                  <a:pt x="20265" y="13171"/>
                </a:cubicBezTo>
                <a:cubicBezTo>
                  <a:pt x="20328" y="13171"/>
                  <a:pt x="20315" y="13119"/>
                  <a:pt x="20315" y="13072"/>
                </a:cubicBezTo>
                <a:cubicBezTo>
                  <a:pt x="20315" y="13026"/>
                  <a:pt x="20279" y="12931"/>
                  <a:pt x="20241" y="12898"/>
                </a:cubicBezTo>
                <a:cubicBezTo>
                  <a:pt x="20227" y="12886"/>
                  <a:pt x="20109" y="12834"/>
                  <a:pt x="20191" y="12824"/>
                </a:cubicBezTo>
                <a:cubicBezTo>
                  <a:pt x="20199" y="12824"/>
                  <a:pt x="20208" y="12824"/>
                  <a:pt x="2021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67800" y="4446720"/>
            <a:ext cx="990360" cy="339480"/>
          </a:xfrm>
          <a:custGeom>
            <a:avLst/>
            <a:gdLst/>
            <a:ahLst/>
            <a:rect l="l" t="t" r="r" b="b"/>
            <a:pathLst>
              <a:path w="2754" h="943">
                <a:moveTo>
                  <a:pt x="24606" y="12353"/>
                </a:moveTo>
                <a:cubicBezTo>
                  <a:pt x="24438" y="12389"/>
                  <a:pt x="24281" y="12422"/>
                  <a:pt x="24110" y="12427"/>
                </a:cubicBezTo>
                <a:cubicBezTo>
                  <a:pt x="23901" y="12433"/>
                  <a:pt x="23696" y="12414"/>
                  <a:pt x="23490" y="12402"/>
                </a:cubicBezTo>
                <a:cubicBezTo>
                  <a:pt x="23268" y="12389"/>
                  <a:pt x="23042" y="12382"/>
                  <a:pt x="22820" y="12378"/>
                </a:cubicBezTo>
                <a:cubicBezTo>
                  <a:pt x="22585" y="12374"/>
                  <a:pt x="22356" y="12408"/>
                  <a:pt x="22126" y="12452"/>
                </a:cubicBezTo>
                <a:cubicBezTo>
                  <a:pt x="22059" y="12465"/>
                  <a:pt x="21898" y="12455"/>
                  <a:pt x="21853" y="12526"/>
                </a:cubicBezTo>
                <a:cubicBezTo>
                  <a:pt x="21853" y="12551"/>
                  <a:pt x="21853" y="12559"/>
                  <a:pt x="21878" y="12551"/>
                </a:cubicBezTo>
              </a:path>
              <a:path w="2754" h="943">
                <a:moveTo>
                  <a:pt x="22796" y="12799"/>
                </a:moveTo>
                <a:cubicBezTo>
                  <a:pt x="22695" y="12779"/>
                  <a:pt x="22552" y="12748"/>
                  <a:pt x="22448" y="12774"/>
                </a:cubicBezTo>
                <a:cubicBezTo>
                  <a:pt x="22421" y="12781"/>
                  <a:pt x="22379" y="12845"/>
                  <a:pt x="22399" y="12874"/>
                </a:cubicBezTo>
                <a:cubicBezTo>
                  <a:pt x="22453" y="12950"/>
                  <a:pt x="22532" y="13029"/>
                  <a:pt x="22597" y="13097"/>
                </a:cubicBezTo>
                <a:cubicBezTo>
                  <a:pt x="22657" y="13160"/>
                  <a:pt x="22684" y="13212"/>
                  <a:pt x="22671" y="13271"/>
                </a:cubicBezTo>
                <a:cubicBezTo>
                  <a:pt x="22671" y="13279"/>
                  <a:pt x="22671" y="13287"/>
                  <a:pt x="22671" y="13295"/>
                </a:cubicBezTo>
                <a:cubicBezTo>
                  <a:pt x="22586" y="13295"/>
                  <a:pt x="22528" y="13281"/>
                  <a:pt x="22448" y="13246"/>
                </a:cubicBezTo>
                <a:cubicBezTo>
                  <a:pt x="22414" y="13231"/>
                  <a:pt x="22321" y="13144"/>
                  <a:pt x="22324" y="13097"/>
                </a:cubicBezTo>
                <a:cubicBezTo>
                  <a:pt x="22332" y="13080"/>
                  <a:pt x="22341" y="13064"/>
                  <a:pt x="22349" y="13047"/>
                </a:cubicBezTo>
              </a:path>
              <a:path w="2754" h="943">
                <a:moveTo>
                  <a:pt x="22895" y="12973"/>
                </a:moveTo>
                <a:cubicBezTo>
                  <a:pt x="22895" y="13040"/>
                  <a:pt x="22927" y="13184"/>
                  <a:pt x="22870" y="13146"/>
                </a:cubicBezTo>
              </a:path>
              <a:path w="2754" h="943">
                <a:moveTo>
                  <a:pt x="22920" y="12551"/>
                </a:moveTo>
                <a:cubicBezTo>
                  <a:pt x="22997" y="12512"/>
                  <a:pt x="22944" y="12534"/>
                  <a:pt x="22994" y="12551"/>
                </a:cubicBezTo>
              </a:path>
              <a:path w="2754" h="943">
                <a:moveTo>
                  <a:pt x="23093" y="13072"/>
                </a:moveTo>
                <a:cubicBezTo>
                  <a:pt x="23093" y="13097"/>
                  <a:pt x="23093" y="13121"/>
                  <a:pt x="23093" y="13146"/>
                </a:cubicBezTo>
                <a:cubicBezTo>
                  <a:pt x="23093" y="13093"/>
                  <a:pt x="23109" y="13072"/>
                  <a:pt x="23118" y="13022"/>
                </a:cubicBezTo>
                <a:cubicBezTo>
                  <a:pt x="23126" y="12976"/>
                  <a:pt x="23131" y="12886"/>
                  <a:pt x="23168" y="12849"/>
                </a:cubicBezTo>
                <a:cubicBezTo>
                  <a:pt x="23187" y="12830"/>
                  <a:pt x="23294" y="12802"/>
                  <a:pt x="23316" y="12824"/>
                </a:cubicBezTo>
                <a:cubicBezTo>
                  <a:pt x="23366" y="12875"/>
                  <a:pt x="23389" y="12984"/>
                  <a:pt x="23416" y="13047"/>
                </a:cubicBezTo>
                <a:cubicBezTo>
                  <a:pt x="23424" y="13066"/>
                  <a:pt x="23480" y="13196"/>
                  <a:pt x="23490" y="13196"/>
                </a:cubicBezTo>
                <a:cubicBezTo>
                  <a:pt x="23490" y="13188"/>
                  <a:pt x="23490" y="13179"/>
                  <a:pt x="23490" y="13171"/>
                </a:cubicBezTo>
              </a:path>
              <a:path w="2754" h="943">
                <a:moveTo>
                  <a:pt x="23639" y="12799"/>
                </a:moveTo>
                <a:cubicBezTo>
                  <a:pt x="23639" y="12948"/>
                  <a:pt x="23639" y="13345"/>
                  <a:pt x="23639" y="13196"/>
                </a:cubicBezTo>
              </a:path>
              <a:path w="2754" h="943">
                <a:moveTo>
                  <a:pt x="23812" y="12725"/>
                </a:moveTo>
                <a:cubicBezTo>
                  <a:pt x="23814" y="12725"/>
                  <a:pt x="24040" y="12699"/>
                  <a:pt x="24011" y="12799"/>
                </a:cubicBezTo>
                <a:cubicBezTo>
                  <a:pt x="23998" y="12843"/>
                  <a:pt x="23978" y="12897"/>
                  <a:pt x="23937" y="12923"/>
                </a:cubicBezTo>
                <a:cubicBezTo>
                  <a:pt x="23900" y="12947"/>
                  <a:pt x="23847" y="13001"/>
                  <a:pt x="23837" y="13022"/>
                </a:cubicBezTo>
                <a:cubicBezTo>
                  <a:pt x="23837" y="13030"/>
                  <a:pt x="23837" y="13039"/>
                  <a:pt x="23837" y="13047"/>
                </a:cubicBezTo>
                <a:cubicBezTo>
                  <a:pt x="23847" y="13076"/>
                  <a:pt x="23871" y="13092"/>
                  <a:pt x="23912" y="13097"/>
                </a:cubicBezTo>
                <a:cubicBezTo>
                  <a:pt x="23940" y="13097"/>
                  <a:pt x="23951" y="13095"/>
                  <a:pt x="23961" y="13072"/>
                </a:cubicBezTo>
              </a:path>
              <a:path w="2754" h="943">
                <a:moveTo>
                  <a:pt x="24185" y="12874"/>
                </a:moveTo>
                <a:cubicBezTo>
                  <a:pt x="24146" y="13003"/>
                  <a:pt x="24133" y="13036"/>
                  <a:pt x="24284" y="13122"/>
                </a:cubicBezTo>
                <a:cubicBezTo>
                  <a:pt x="24300" y="13131"/>
                  <a:pt x="24408" y="13160"/>
                  <a:pt x="24433" y="13146"/>
                </a:cubicBezTo>
                <a:cubicBezTo>
                  <a:pt x="24509" y="13105"/>
                  <a:pt x="24476" y="13030"/>
                  <a:pt x="24457" y="12973"/>
                </a:cubicBezTo>
                <a:cubicBezTo>
                  <a:pt x="24414" y="12846"/>
                  <a:pt x="24313" y="12783"/>
                  <a:pt x="24209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8960" y="4429080"/>
            <a:ext cx="357120" cy="330120"/>
          </a:xfrm>
          <a:custGeom>
            <a:avLst/>
            <a:gdLst/>
            <a:ahLst/>
            <a:rect l="l" t="t" r="r" b="b"/>
            <a:pathLst>
              <a:path w="993" h="919">
                <a:moveTo>
                  <a:pt x="5085" y="12626"/>
                </a:moveTo>
                <a:cubicBezTo>
                  <a:pt x="5037" y="12708"/>
                  <a:pt x="4993" y="12790"/>
                  <a:pt x="4961" y="12874"/>
                </a:cubicBezTo>
                <a:cubicBezTo>
                  <a:pt x="4937" y="12937"/>
                  <a:pt x="4898" y="13014"/>
                  <a:pt x="4887" y="13072"/>
                </a:cubicBezTo>
                <a:cubicBezTo>
                  <a:pt x="4882" y="13100"/>
                  <a:pt x="4887" y="13141"/>
                  <a:pt x="4887" y="13171"/>
                </a:cubicBezTo>
                <a:cubicBezTo>
                  <a:pt x="4897" y="13128"/>
                  <a:pt x="4928" y="13095"/>
                  <a:pt x="4936" y="13047"/>
                </a:cubicBezTo>
                <a:cubicBezTo>
                  <a:pt x="4952" y="12958"/>
                  <a:pt x="4966" y="12861"/>
                  <a:pt x="4986" y="12774"/>
                </a:cubicBezTo>
                <a:cubicBezTo>
                  <a:pt x="5005" y="12691"/>
                  <a:pt x="5040" y="12607"/>
                  <a:pt x="5060" y="12526"/>
                </a:cubicBezTo>
                <a:cubicBezTo>
                  <a:pt x="5078" y="12457"/>
                  <a:pt x="5117" y="12388"/>
                  <a:pt x="5135" y="12328"/>
                </a:cubicBezTo>
                <a:cubicBezTo>
                  <a:pt x="5135" y="12320"/>
                  <a:pt x="5135" y="12311"/>
                  <a:pt x="5135" y="12303"/>
                </a:cubicBezTo>
                <a:cubicBezTo>
                  <a:pt x="5166" y="12357"/>
                  <a:pt x="5164" y="12417"/>
                  <a:pt x="5184" y="12477"/>
                </a:cubicBezTo>
                <a:cubicBezTo>
                  <a:pt x="5216" y="12572"/>
                  <a:pt x="5238" y="12654"/>
                  <a:pt x="5259" y="12750"/>
                </a:cubicBezTo>
                <a:cubicBezTo>
                  <a:pt x="5279" y="12844"/>
                  <a:pt x="5327" y="12932"/>
                  <a:pt x="5358" y="13022"/>
                </a:cubicBezTo>
                <a:cubicBezTo>
                  <a:pt x="5369" y="13052"/>
                  <a:pt x="5390" y="13204"/>
                  <a:pt x="5407" y="13221"/>
                </a:cubicBezTo>
                <a:cubicBezTo>
                  <a:pt x="5427" y="13241"/>
                  <a:pt x="5399" y="13169"/>
                  <a:pt x="5383" y="13146"/>
                </a:cubicBezTo>
              </a:path>
              <a:path w="993" h="919">
                <a:moveTo>
                  <a:pt x="4936" y="12799"/>
                </a:moveTo>
                <a:cubicBezTo>
                  <a:pt x="5068" y="12799"/>
                  <a:pt x="5201" y="12799"/>
                  <a:pt x="5333" y="12799"/>
                </a:cubicBezTo>
              </a:path>
              <a:path w="993" h="919">
                <a:moveTo>
                  <a:pt x="5631" y="12750"/>
                </a:moveTo>
                <a:cubicBezTo>
                  <a:pt x="5709" y="12750"/>
                  <a:pt x="5757" y="12762"/>
                  <a:pt x="5829" y="12774"/>
                </a:cubicBezTo>
                <a:cubicBezTo>
                  <a:pt x="5846" y="12774"/>
                  <a:pt x="5862" y="12774"/>
                  <a:pt x="5879" y="12774"/>
                </a:cubicBezTo>
              </a:path>
              <a:path w="993" h="919">
                <a:moveTo>
                  <a:pt x="5606" y="12948"/>
                </a:moveTo>
                <a:cubicBezTo>
                  <a:pt x="5701" y="12957"/>
                  <a:pt x="5780" y="12973"/>
                  <a:pt x="5879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6640" y="4527720"/>
            <a:ext cx="385560" cy="285480"/>
          </a:xfrm>
          <a:custGeom>
            <a:avLst/>
            <a:gdLst/>
            <a:ahLst/>
            <a:rect l="l" t="t" r="r" b="b"/>
            <a:pathLst>
              <a:path w="1068" h="795">
                <a:moveTo>
                  <a:pt x="6375" y="12650"/>
                </a:moveTo>
                <a:cubicBezTo>
                  <a:pt x="6375" y="12707"/>
                  <a:pt x="6359" y="12747"/>
                  <a:pt x="6350" y="12799"/>
                </a:cubicBezTo>
                <a:cubicBezTo>
                  <a:pt x="6334" y="12891"/>
                  <a:pt x="6325" y="12976"/>
                  <a:pt x="6325" y="13072"/>
                </a:cubicBezTo>
                <a:cubicBezTo>
                  <a:pt x="6325" y="13156"/>
                  <a:pt x="6332" y="13218"/>
                  <a:pt x="6350" y="13295"/>
                </a:cubicBezTo>
                <a:cubicBezTo>
                  <a:pt x="6355" y="13317"/>
                  <a:pt x="6350" y="13348"/>
                  <a:pt x="6350" y="13370"/>
                </a:cubicBezTo>
                <a:cubicBezTo>
                  <a:pt x="6385" y="13335"/>
                  <a:pt x="6398" y="13313"/>
                  <a:pt x="6400" y="13271"/>
                </a:cubicBezTo>
              </a:path>
              <a:path w="1068" h="795">
                <a:moveTo>
                  <a:pt x="6573" y="12626"/>
                </a:moveTo>
                <a:cubicBezTo>
                  <a:pt x="6690" y="12605"/>
                  <a:pt x="6778" y="12601"/>
                  <a:pt x="6896" y="12601"/>
                </a:cubicBezTo>
                <a:cubicBezTo>
                  <a:pt x="6940" y="12601"/>
                  <a:pt x="6935" y="12603"/>
                  <a:pt x="6970" y="12576"/>
                </a:cubicBezTo>
              </a:path>
              <a:path w="1068" h="795">
                <a:moveTo>
                  <a:pt x="6598" y="12650"/>
                </a:moveTo>
                <a:cubicBezTo>
                  <a:pt x="6561" y="12693"/>
                  <a:pt x="6504" y="12757"/>
                  <a:pt x="6524" y="12824"/>
                </a:cubicBezTo>
                <a:cubicBezTo>
                  <a:pt x="6545" y="12895"/>
                  <a:pt x="6589" y="12860"/>
                  <a:pt x="6623" y="12849"/>
                </a:cubicBezTo>
                <a:cubicBezTo>
                  <a:pt x="6668" y="12834"/>
                  <a:pt x="6741" y="12846"/>
                  <a:pt x="6772" y="12874"/>
                </a:cubicBezTo>
                <a:cubicBezTo>
                  <a:pt x="6816" y="12913"/>
                  <a:pt x="6837" y="12993"/>
                  <a:pt x="6846" y="13047"/>
                </a:cubicBezTo>
                <a:cubicBezTo>
                  <a:pt x="6858" y="13117"/>
                  <a:pt x="6862" y="13233"/>
                  <a:pt x="6821" y="13295"/>
                </a:cubicBezTo>
                <a:cubicBezTo>
                  <a:pt x="6799" y="13327"/>
                  <a:pt x="6733" y="13343"/>
                  <a:pt x="6697" y="13345"/>
                </a:cubicBezTo>
                <a:cubicBezTo>
                  <a:pt x="6655" y="13348"/>
                  <a:pt x="6583" y="13316"/>
                  <a:pt x="6548" y="13295"/>
                </a:cubicBezTo>
                <a:cubicBezTo>
                  <a:pt x="6526" y="13273"/>
                  <a:pt x="6518" y="13268"/>
                  <a:pt x="6524" y="13246"/>
                </a:cubicBezTo>
              </a:path>
              <a:path w="1068" h="795">
                <a:moveTo>
                  <a:pt x="7317" y="12725"/>
                </a:moveTo>
                <a:cubicBezTo>
                  <a:pt x="7278" y="12764"/>
                  <a:pt x="7262" y="12765"/>
                  <a:pt x="7268" y="12799"/>
                </a:cubicBezTo>
                <a:cubicBezTo>
                  <a:pt x="7278" y="12828"/>
                  <a:pt x="7302" y="12844"/>
                  <a:pt x="7342" y="12849"/>
                </a:cubicBezTo>
                <a:cubicBezTo>
                  <a:pt x="7395" y="12855"/>
                  <a:pt x="7392" y="12812"/>
                  <a:pt x="7392" y="12774"/>
                </a:cubicBezTo>
                <a:cubicBezTo>
                  <a:pt x="7392" y="12732"/>
                  <a:pt x="7407" y="12677"/>
                  <a:pt x="7367" y="12650"/>
                </a:cubicBezTo>
                <a:cubicBezTo>
                  <a:pt x="7350" y="12642"/>
                  <a:pt x="7334" y="12634"/>
                  <a:pt x="7317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0920" y="4714920"/>
            <a:ext cx="706320" cy="455400"/>
          </a:xfrm>
          <a:custGeom>
            <a:avLst/>
            <a:gdLst/>
            <a:ahLst/>
            <a:rect l="l" t="t" r="r" b="b"/>
            <a:pathLst>
              <a:path w="1960" h="1266">
                <a:moveTo>
                  <a:pt x="10244" y="13395"/>
                </a:moveTo>
                <a:cubicBezTo>
                  <a:pt x="10298" y="13412"/>
                  <a:pt x="10256" y="13445"/>
                  <a:pt x="10244" y="13494"/>
                </a:cubicBezTo>
                <a:cubicBezTo>
                  <a:pt x="10230" y="13551"/>
                  <a:pt x="10191" y="13570"/>
                  <a:pt x="10170" y="13618"/>
                </a:cubicBezTo>
                <a:cubicBezTo>
                  <a:pt x="10152" y="13659"/>
                  <a:pt x="10110" y="13699"/>
                  <a:pt x="10096" y="13742"/>
                </a:cubicBezTo>
                <a:cubicBezTo>
                  <a:pt x="10085" y="13777"/>
                  <a:pt x="10102" y="13791"/>
                  <a:pt x="10120" y="13816"/>
                </a:cubicBezTo>
                <a:cubicBezTo>
                  <a:pt x="10138" y="13763"/>
                  <a:pt x="10133" y="13811"/>
                  <a:pt x="10170" y="13816"/>
                </a:cubicBezTo>
                <a:cubicBezTo>
                  <a:pt x="10212" y="13821"/>
                  <a:pt x="10231" y="13837"/>
                  <a:pt x="10269" y="13841"/>
                </a:cubicBezTo>
                <a:cubicBezTo>
                  <a:pt x="10314" y="13846"/>
                  <a:pt x="10339" y="13866"/>
                  <a:pt x="10393" y="13866"/>
                </a:cubicBezTo>
                <a:cubicBezTo>
                  <a:pt x="10437" y="13866"/>
                  <a:pt x="10462" y="13821"/>
                  <a:pt x="10492" y="13791"/>
                </a:cubicBezTo>
              </a:path>
              <a:path w="1960" h="1266">
                <a:moveTo>
                  <a:pt x="10567" y="13271"/>
                </a:moveTo>
                <a:cubicBezTo>
                  <a:pt x="10545" y="13321"/>
                  <a:pt x="10524" y="13392"/>
                  <a:pt x="10517" y="13444"/>
                </a:cubicBezTo>
                <a:cubicBezTo>
                  <a:pt x="10505" y="13533"/>
                  <a:pt x="10508" y="13629"/>
                  <a:pt x="10492" y="13717"/>
                </a:cubicBezTo>
                <a:cubicBezTo>
                  <a:pt x="10472" y="13826"/>
                  <a:pt x="10468" y="13927"/>
                  <a:pt x="10468" y="14039"/>
                </a:cubicBezTo>
                <a:cubicBezTo>
                  <a:pt x="10468" y="14109"/>
                  <a:pt x="10474" y="14156"/>
                  <a:pt x="10492" y="14213"/>
                </a:cubicBezTo>
                <a:cubicBezTo>
                  <a:pt x="10492" y="14221"/>
                  <a:pt x="10492" y="14230"/>
                  <a:pt x="10492" y="14238"/>
                </a:cubicBezTo>
              </a:path>
              <a:path w="1960" h="1266">
                <a:moveTo>
                  <a:pt x="10914" y="14139"/>
                </a:moveTo>
                <a:cubicBezTo>
                  <a:pt x="10891" y="14161"/>
                  <a:pt x="10883" y="14166"/>
                  <a:pt x="10889" y="14188"/>
                </a:cubicBezTo>
                <a:cubicBezTo>
                  <a:pt x="10903" y="14183"/>
                  <a:pt x="10951" y="14163"/>
                  <a:pt x="10939" y="14139"/>
                </a:cubicBezTo>
                <a:cubicBezTo>
                  <a:pt x="10931" y="14131"/>
                  <a:pt x="10922" y="14122"/>
                  <a:pt x="10914" y="14114"/>
                </a:cubicBezTo>
              </a:path>
              <a:path w="1960" h="1266">
                <a:moveTo>
                  <a:pt x="11311" y="13543"/>
                </a:moveTo>
                <a:cubicBezTo>
                  <a:pt x="11392" y="13543"/>
                  <a:pt x="11522" y="13568"/>
                  <a:pt x="11584" y="13519"/>
                </a:cubicBezTo>
                <a:cubicBezTo>
                  <a:pt x="11592" y="13511"/>
                  <a:pt x="11601" y="13502"/>
                  <a:pt x="11609" y="13494"/>
                </a:cubicBezTo>
              </a:path>
              <a:path w="1960" h="1266">
                <a:moveTo>
                  <a:pt x="11311" y="13444"/>
                </a:moveTo>
                <a:cubicBezTo>
                  <a:pt x="11286" y="13505"/>
                  <a:pt x="11253" y="13562"/>
                  <a:pt x="11237" y="13618"/>
                </a:cubicBezTo>
                <a:cubicBezTo>
                  <a:pt x="11233" y="13631"/>
                  <a:pt x="11211" y="13716"/>
                  <a:pt x="11212" y="13717"/>
                </a:cubicBezTo>
                <a:cubicBezTo>
                  <a:pt x="11226" y="13731"/>
                  <a:pt x="11252" y="13763"/>
                  <a:pt x="11286" y="13767"/>
                </a:cubicBezTo>
                <a:cubicBezTo>
                  <a:pt x="11358" y="13775"/>
                  <a:pt x="11454" y="13742"/>
                  <a:pt x="11509" y="13791"/>
                </a:cubicBezTo>
                <a:cubicBezTo>
                  <a:pt x="11552" y="13829"/>
                  <a:pt x="11583" y="13865"/>
                  <a:pt x="11609" y="13915"/>
                </a:cubicBezTo>
                <a:cubicBezTo>
                  <a:pt x="11644" y="13982"/>
                  <a:pt x="11654" y="14064"/>
                  <a:pt x="11658" y="14139"/>
                </a:cubicBezTo>
                <a:cubicBezTo>
                  <a:pt x="11660" y="14184"/>
                  <a:pt x="11644" y="14285"/>
                  <a:pt x="11609" y="14312"/>
                </a:cubicBezTo>
                <a:cubicBezTo>
                  <a:pt x="11577" y="14337"/>
                  <a:pt x="11498" y="14359"/>
                  <a:pt x="11460" y="14362"/>
                </a:cubicBezTo>
                <a:cubicBezTo>
                  <a:pt x="11385" y="14367"/>
                  <a:pt x="11328" y="14316"/>
                  <a:pt x="11261" y="14288"/>
                </a:cubicBezTo>
                <a:cubicBezTo>
                  <a:pt x="11154" y="14245"/>
                  <a:pt x="11130" y="14234"/>
                  <a:pt x="11063" y="14213"/>
                </a:cubicBezTo>
              </a:path>
              <a:path w="1960" h="1266">
                <a:moveTo>
                  <a:pt x="9773" y="13097"/>
                </a:moveTo>
                <a:cubicBezTo>
                  <a:pt x="9773" y="13201"/>
                  <a:pt x="9751" y="13293"/>
                  <a:pt x="9748" y="13395"/>
                </a:cubicBezTo>
                <a:cubicBezTo>
                  <a:pt x="9743" y="13556"/>
                  <a:pt x="9738" y="13708"/>
                  <a:pt x="9723" y="13866"/>
                </a:cubicBezTo>
                <a:cubicBezTo>
                  <a:pt x="9714" y="13958"/>
                  <a:pt x="9710" y="14052"/>
                  <a:pt x="9699" y="14139"/>
                </a:cubicBezTo>
                <a:cubicBezTo>
                  <a:pt x="9697" y="14155"/>
                  <a:pt x="9699" y="14345"/>
                  <a:pt x="9699" y="14288"/>
                </a:cubicBezTo>
                <a:cubicBezTo>
                  <a:pt x="9699" y="14280"/>
                  <a:pt x="9699" y="14271"/>
                  <a:pt x="9699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0200" y="4884840"/>
            <a:ext cx="2455920" cy="706320"/>
          </a:xfrm>
          <a:custGeom>
            <a:avLst/>
            <a:gdLst/>
            <a:ahLst/>
            <a:rect l="l" t="t" r="r" b="b"/>
            <a:pathLst>
              <a:path w="6822" h="1961">
                <a:moveTo>
                  <a:pt x="18852" y="13965"/>
                </a:moveTo>
                <a:cubicBezTo>
                  <a:pt x="18858" y="14103"/>
                  <a:pt x="18876" y="14225"/>
                  <a:pt x="18876" y="14362"/>
                </a:cubicBezTo>
                <a:cubicBezTo>
                  <a:pt x="18876" y="14448"/>
                  <a:pt x="18883" y="14506"/>
                  <a:pt x="18901" y="14585"/>
                </a:cubicBezTo>
                <a:cubicBezTo>
                  <a:pt x="18901" y="14610"/>
                  <a:pt x="18901" y="14618"/>
                  <a:pt x="18901" y="14635"/>
                </a:cubicBezTo>
              </a:path>
              <a:path w="6822" h="1961">
                <a:moveTo>
                  <a:pt x="19149" y="13990"/>
                </a:moveTo>
                <a:cubicBezTo>
                  <a:pt x="19277" y="13996"/>
                  <a:pt x="19375" y="13988"/>
                  <a:pt x="19447" y="14114"/>
                </a:cubicBezTo>
                <a:cubicBezTo>
                  <a:pt x="19479" y="14170"/>
                  <a:pt x="19535" y="14297"/>
                  <a:pt x="19521" y="14362"/>
                </a:cubicBezTo>
                <a:cubicBezTo>
                  <a:pt x="19511" y="14408"/>
                  <a:pt x="19461" y="14509"/>
                  <a:pt x="19422" y="14536"/>
                </a:cubicBezTo>
                <a:cubicBezTo>
                  <a:pt x="19357" y="14581"/>
                  <a:pt x="19351" y="14553"/>
                  <a:pt x="19298" y="14536"/>
                </a:cubicBezTo>
                <a:cubicBezTo>
                  <a:pt x="19271" y="14527"/>
                  <a:pt x="19259" y="14500"/>
                  <a:pt x="19273" y="14461"/>
                </a:cubicBezTo>
                <a:cubicBezTo>
                  <a:pt x="19281" y="14445"/>
                  <a:pt x="19290" y="14428"/>
                  <a:pt x="19298" y="14412"/>
                </a:cubicBezTo>
                <a:cubicBezTo>
                  <a:pt x="19340" y="14422"/>
                  <a:pt x="19378" y="14440"/>
                  <a:pt x="19422" y="14461"/>
                </a:cubicBezTo>
                <a:cubicBezTo>
                  <a:pt x="19470" y="14483"/>
                  <a:pt x="19523" y="14531"/>
                  <a:pt x="19571" y="14536"/>
                </a:cubicBezTo>
                <a:cubicBezTo>
                  <a:pt x="19596" y="14536"/>
                  <a:pt x="19604" y="14536"/>
                  <a:pt x="19621" y="14536"/>
                </a:cubicBezTo>
              </a:path>
              <a:path w="6822" h="1961">
                <a:moveTo>
                  <a:pt x="19819" y="14461"/>
                </a:moveTo>
                <a:cubicBezTo>
                  <a:pt x="19861" y="14535"/>
                  <a:pt x="19844" y="14550"/>
                  <a:pt x="19893" y="14486"/>
                </a:cubicBezTo>
              </a:path>
              <a:path w="6822" h="1961">
                <a:moveTo>
                  <a:pt x="19993" y="13940"/>
                </a:moveTo>
                <a:cubicBezTo>
                  <a:pt x="20078" y="13925"/>
                  <a:pt x="20175" y="13886"/>
                  <a:pt x="20241" y="13965"/>
                </a:cubicBezTo>
                <a:cubicBezTo>
                  <a:pt x="20286" y="14019"/>
                  <a:pt x="20346" y="14117"/>
                  <a:pt x="20340" y="14188"/>
                </a:cubicBezTo>
                <a:cubicBezTo>
                  <a:pt x="20332" y="14278"/>
                  <a:pt x="20301" y="14347"/>
                  <a:pt x="20241" y="14412"/>
                </a:cubicBezTo>
                <a:cubicBezTo>
                  <a:pt x="20196" y="14460"/>
                  <a:pt x="20156" y="14495"/>
                  <a:pt x="20092" y="14511"/>
                </a:cubicBezTo>
                <a:cubicBezTo>
                  <a:pt x="20064" y="14511"/>
                  <a:pt x="20053" y="14509"/>
                  <a:pt x="20042" y="14486"/>
                </a:cubicBezTo>
                <a:cubicBezTo>
                  <a:pt x="20055" y="14448"/>
                  <a:pt x="20072" y="14461"/>
                  <a:pt x="20117" y="14461"/>
                </a:cubicBezTo>
                <a:cubicBezTo>
                  <a:pt x="20194" y="14461"/>
                  <a:pt x="20267" y="14495"/>
                  <a:pt x="20340" y="14511"/>
                </a:cubicBezTo>
                <a:cubicBezTo>
                  <a:pt x="20371" y="14518"/>
                  <a:pt x="20407" y="14511"/>
                  <a:pt x="20439" y="14511"/>
                </a:cubicBezTo>
              </a:path>
              <a:path w="6822" h="1961">
                <a:moveTo>
                  <a:pt x="18281" y="13692"/>
                </a:moveTo>
                <a:cubicBezTo>
                  <a:pt x="18281" y="14100"/>
                  <a:pt x="18332" y="14560"/>
                  <a:pt x="18256" y="14957"/>
                </a:cubicBezTo>
                <a:cubicBezTo>
                  <a:pt x="18250" y="14988"/>
                  <a:pt x="18231" y="15031"/>
                  <a:pt x="18231" y="15032"/>
                </a:cubicBezTo>
                <a:cubicBezTo>
                  <a:pt x="18231" y="14654"/>
                  <a:pt x="18186" y="14217"/>
                  <a:pt x="18331" y="13866"/>
                </a:cubicBezTo>
                <a:cubicBezTo>
                  <a:pt x="18373" y="13764"/>
                  <a:pt x="18379" y="13750"/>
                  <a:pt x="18479" y="13667"/>
                </a:cubicBezTo>
                <a:cubicBezTo>
                  <a:pt x="18562" y="13599"/>
                  <a:pt x="18673" y="13579"/>
                  <a:pt x="18777" y="13568"/>
                </a:cubicBezTo>
                <a:cubicBezTo>
                  <a:pt x="19238" y="13519"/>
                  <a:pt x="19734" y="13569"/>
                  <a:pt x="20191" y="13618"/>
                </a:cubicBezTo>
                <a:cubicBezTo>
                  <a:pt x="20505" y="13652"/>
                  <a:pt x="20820" y="13644"/>
                  <a:pt x="21134" y="13667"/>
                </a:cubicBezTo>
                <a:cubicBezTo>
                  <a:pt x="21419" y="13688"/>
                  <a:pt x="21691" y="13717"/>
                  <a:pt x="21977" y="13717"/>
                </a:cubicBezTo>
                <a:cubicBezTo>
                  <a:pt x="22269" y="13717"/>
                  <a:pt x="22557" y="13705"/>
                  <a:pt x="22845" y="13692"/>
                </a:cubicBezTo>
                <a:cubicBezTo>
                  <a:pt x="22933" y="13688"/>
                  <a:pt x="23011" y="13688"/>
                  <a:pt x="23093" y="13667"/>
                </a:cubicBezTo>
                <a:cubicBezTo>
                  <a:pt x="23101" y="13659"/>
                  <a:pt x="23110" y="13651"/>
                  <a:pt x="23118" y="13643"/>
                </a:cubicBezTo>
                <a:cubicBezTo>
                  <a:pt x="23125" y="13684"/>
                  <a:pt x="23137" y="13701"/>
                  <a:pt x="23143" y="13742"/>
                </a:cubicBezTo>
                <a:cubicBezTo>
                  <a:pt x="23155" y="13819"/>
                  <a:pt x="23157" y="13889"/>
                  <a:pt x="23168" y="13965"/>
                </a:cubicBezTo>
                <a:cubicBezTo>
                  <a:pt x="23185" y="14091"/>
                  <a:pt x="23187" y="14212"/>
                  <a:pt x="23217" y="14337"/>
                </a:cubicBezTo>
                <a:cubicBezTo>
                  <a:pt x="23271" y="14563"/>
                  <a:pt x="23359" y="14786"/>
                  <a:pt x="23416" y="15007"/>
                </a:cubicBezTo>
                <a:cubicBezTo>
                  <a:pt x="23446" y="15122"/>
                  <a:pt x="23461" y="15244"/>
                  <a:pt x="23490" y="15354"/>
                </a:cubicBezTo>
                <a:cubicBezTo>
                  <a:pt x="23497" y="15379"/>
                  <a:pt x="23508" y="15399"/>
                  <a:pt x="23515" y="15429"/>
                </a:cubicBezTo>
                <a:cubicBezTo>
                  <a:pt x="23483" y="15416"/>
                  <a:pt x="23480" y="15420"/>
                  <a:pt x="23440" y="15404"/>
                </a:cubicBezTo>
                <a:cubicBezTo>
                  <a:pt x="23422" y="15397"/>
                  <a:pt x="23396" y="15355"/>
                  <a:pt x="23366" y="15354"/>
                </a:cubicBezTo>
                <a:cubicBezTo>
                  <a:pt x="23308" y="15351"/>
                  <a:pt x="23270" y="15367"/>
                  <a:pt x="23217" y="15379"/>
                </a:cubicBezTo>
                <a:cubicBezTo>
                  <a:pt x="23153" y="15394"/>
                  <a:pt x="23067" y="15432"/>
                  <a:pt x="22994" y="15453"/>
                </a:cubicBezTo>
                <a:cubicBezTo>
                  <a:pt x="22846" y="15496"/>
                  <a:pt x="22727" y="15523"/>
                  <a:pt x="22572" y="15528"/>
                </a:cubicBezTo>
                <a:cubicBezTo>
                  <a:pt x="22265" y="15538"/>
                  <a:pt x="22020" y="15433"/>
                  <a:pt x="21729" y="15354"/>
                </a:cubicBezTo>
                <a:cubicBezTo>
                  <a:pt x="21071" y="15175"/>
                  <a:pt x="20429" y="15008"/>
                  <a:pt x="19745" y="14957"/>
                </a:cubicBezTo>
                <a:cubicBezTo>
                  <a:pt x="18655" y="14875"/>
                  <a:pt x="17759" y="15107"/>
                  <a:pt x="16694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7840" y="1473120"/>
            <a:ext cx="17928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7094" y="4316"/>
                </a:moveTo>
                <a:cubicBezTo>
                  <a:pt x="7074" y="4404"/>
                  <a:pt x="7049" y="4476"/>
                  <a:pt x="7045" y="4564"/>
                </a:cubicBezTo>
                <a:cubicBezTo>
                  <a:pt x="7039" y="4689"/>
                  <a:pt x="7037" y="4825"/>
                  <a:pt x="7069" y="4936"/>
                </a:cubicBezTo>
                <a:cubicBezTo>
                  <a:pt x="7072" y="4946"/>
                  <a:pt x="7069" y="5054"/>
                  <a:pt x="7069" y="4986"/>
                </a:cubicBezTo>
                <a:cubicBezTo>
                  <a:pt x="7069" y="4937"/>
                  <a:pt x="7086" y="4900"/>
                  <a:pt x="7094" y="4862"/>
                </a:cubicBezTo>
                <a:cubicBezTo>
                  <a:pt x="7129" y="4688"/>
                  <a:pt x="7091" y="4493"/>
                  <a:pt x="7119" y="4316"/>
                </a:cubicBezTo>
                <a:cubicBezTo>
                  <a:pt x="7127" y="4265"/>
                  <a:pt x="7162" y="4210"/>
                  <a:pt x="7193" y="4167"/>
                </a:cubicBezTo>
                <a:cubicBezTo>
                  <a:pt x="7221" y="4129"/>
                  <a:pt x="7298" y="4104"/>
                  <a:pt x="7342" y="4093"/>
                </a:cubicBezTo>
                <a:cubicBezTo>
                  <a:pt x="7388" y="4081"/>
                  <a:pt x="7430" y="4119"/>
                  <a:pt x="7441" y="4142"/>
                </a:cubicBezTo>
                <a:cubicBezTo>
                  <a:pt x="7478" y="4222"/>
                  <a:pt x="7441" y="4276"/>
                  <a:pt x="7392" y="4341"/>
                </a:cubicBezTo>
                <a:cubicBezTo>
                  <a:pt x="7320" y="4436"/>
                  <a:pt x="7260" y="4495"/>
                  <a:pt x="7169" y="4564"/>
                </a:cubicBezTo>
                <a:cubicBezTo>
                  <a:pt x="7130" y="4594"/>
                  <a:pt x="7128" y="4627"/>
                  <a:pt x="7094" y="4638"/>
                </a:cubicBezTo>
                <a:cubicBezTo>
                  <a:pt x="7147" y="4638"/>
                  <a:pt x="7155" y="4627"/>
                  <a:pt x="7193" y="4589"/>
                </a:cubicBezTo>
                <a:cubicBezTo>
                  <a:pt x="7219" y="4562"/>
                  <a:pt x="7279" y="4527"/>
                  <a:pt x="7317" y="4514"/>
                </a:cubicBezTo>
                <a:cubicBezTo>
                  <a:pt x="7351" y="4503"/>
                  <a:pt x="7449" y="4505"/>
                  <a:pt x="7466" y="4539"/>
                </a:cubicBezTo>
                <a:cubicBezTo>
                  <a:pt x="7486" y="4578"/>
                  <a:pt x="7491" y="4613"/>
                  <a:pt x="7491" y="4663"/>
                </a:cubicBezTo>
                <a:cubicBezTo>
                  <a:pt x="7491" y="4731"/>
                  <a:pt x="7462" y="4786"/>
                  <a:pt x="7417" y="4837"/>
                </a:cubicBezTo>
                <a:cubicBezTo>
                  <a:pt x="7377" y="4882"/>
                  <a:pt x="7315" y="4900"/>
                  <a:pt x="7268" y="4936"/>
                </a:cubicBezTo>
                <a:cubicBezTo>
                  <a:pt x="7222" y="4971"/>
                  <a:pt x="7168" y="4996"/>
                  <a:pt x="7119" y="5011"/>
                </a:cubicBezTo>
                <a:cubicBezTo>
                  <a:pt x="7079" y="5023"/>
                  <a:pt x="7030" y="5049"/>
                  <a:pt x="7045" y="5011"/>
                </a:cubicBezTo>
                <a:cubicBezTo>
                  <a:pt x="7045" y="4978"/>
                  <a:pt x="7037" y="4969"/>
                  <a:pt x="6995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2240" y="3295800"/>
            <a:ext cx="1152720" cy="490320"/>
          </a:xfrm>
          <a:custGeom>
            <a:avLst/>
            <a:gdLst/>
            <a:ahLst/>
            <a:rect l="l" t="t" r="r" b="b"/>
            <a:pathLst>
              <a:path w="3201" h="1365">
                <a:moveTo>
                  <a:pt x="12551" y="9475"/>
                </a:moveTo>
                <a:cubicBezTo>
                  <a:pt x="12615" y="9475"/>
                  <a:pt x="12649" y="9490"/>
                  <a:pt x="12700" y="9500"/>
                </a:cubicBezTo>
                <a:cubicBezTo>
                  <a:pt x="12823" y="9525"/>
                  <a:pt x="12974" y="9512"/>
                  <a:pt x="13097" y="9525"/>
                </a:cubicBezTo>
                <a:cubicBezTo>
                  <a:pt x="13226" y="9539"/>
                  <a:pt x="13365" y="9540"/>
                  <a:pt x="13494" y="9550"/>
                </a:cubicBezTo>
                <a:cubicBezTo>
                  <a:pt x="13669" y="9564"/>
                  <a:pt x="13841" y="9590"/>
                  <a:pt x="14015" y="9599"/>
                </a:cubicBezTo>
                <a:cubicBezTo>
                  <a:pt x="14143" y="9605"/>
                  <a:pt x="14439" y="9644"/>
                  <a:pt x="14486" y="9550"/>
                </a:cubicBezTo>
                <a:cubicBezTo>
                  <a:pt x="14469" y="9564"/>
                  <a:pt x="14429" y="9585"/>
                  <a:pt x="14412" y="9599"/>
                </a:cubicBezTo>
              </a:path>
              <a:path w="3201" h="1365">
                <a:moveTo>
                  <a:pt x="13345" y="9897"/>
                </a:moveTo>
                <a:cubicBezTo>
                  <a:pt x="13338" y="9974"/>
                  <a:pt x="13320" y="10042"/>
                  <a:pt x="13320" y="10120"/>
                </a:cubicBezTo>
                <a:cubicBezTo>
                  <a:pt x="13320" y="10200"/>
                  <a:pt x="13295" y="10265"/>
                  <a:pt x="13295" y="10344"/>
                </a:cubicBezTo>
                <a:cubicBezTo>
                  <a:pt x="13295" y="10377"/>
                  <a:pt x="13295" y="10393"/>
                  <a:pt x="13295" y="10418"/>
                </a:cubicBezTo>
                <a:cubicBezTo>
                  <a:pt x="13295" y="10362"/>
                  <a:pt x="13280" y="10357"/>
                  <a:pt x="13320" y="10344"/>
                </a:cubicBezTo>
              </a:path>
              <a:path w="3201" h="1365">
                <a:moveTo>
                  <a:pt x="13667" y="9823"/>
                </a:moveTo>
                <a:cubicBezTo>
                  <a:pt x="13793" y="9823"/>
                  <a:pt x="13855" y="9830"/>
                  <a:pt x="13940" y="9773"/>
                </a:cubicBezTo>
                <a:cubicBezTo>
                  <a:pt x="13951" y="9766"/>
                  <a:pt x="14001" y="9773"/>
                  <a:pt x="14015" y="9773"/>
                </a:cubicBezTo>
              </a:path>
              <a:path w="3201" h="1365">
                <a:moveTo>
                  <a:pt x="13568" y="9823"/>
                </a:moveTo>
                <a:cubicBezTo>
                  <a:pt x="13547" y="9876"/>
                  <a:pt x="13504" y="9947"/>
                  <a:pt x="13494" y="9996"/>
                </a:cubicBezTo>
                <a:cubicBezTo>
                  <a:pt x="13494" y="10013"/>
                  <a:pt x="13494" y="10029"/>
                  <a:pt x="13494" y="10046"/>
                </a:cubicBezTo>
                <a:cubicBezTo>
                  <a:pt x="13534" y="10019"/>
                  <a:pt x="13502" y="9996"/>
                  <a:pt x="13568" y="9996"/>
                </a:cubicBezTo>
                <a:cubicBezTo>
                  <a:pt x="13661" y="9996"/>
                  <a:pt x="13675" y="10006"/>
                  <a:pt x="13742" y="10046"/>
                </a:cubicBezTo>
                <a:cubicBezTo>
                  <a:pt x="13790" y="10075"/>
                  <a:pt x="13853" y="10096"/>
                  <a:pt x="13891" y="10145"/>
                </a:cubicBezTo>
                <a:cubicBezTo>
                  <a:pt x="13942" y="10210"/>
                  <a:pt x="13960" y="10263"/>
                  <a:pt x="13965" y="10344"/>
                </a:cubicBezTo>
                <a:cubicBezTo>
                  <a:pt x="13970" y="10415"/>
                  <a:pt x="13930" y="10461"/>
                  <a:pt x="13891" y="10492"/>
                </a:cubicBezTo>
                <a:cubicBezTo>
                  <a:pt x="13845" y="10528"/>
                  <a:pt x="13801" y="10517"/>
                  <a:pt x="13742" y="10517"/>
                </a:cubicBezTo>
                <a:cubicBezTo>
                  <a:pt x="13672" y="10517"/>
                  <a:pt x="13626" y="10511"/>
                  <a:pt x="13568" y="10492"/>
                </a:cubicBezTo>
                <a:cubicBezTo>
                  <a:pt x="13526" y="10478"/>
                  <a:pt x="13505" y="10492"/>
                  <a:pt x="13568" y="10492"/>
                </a:cubicBezTo>
              </a:path>
              <a:path w="3201" h="1365">
                <a:moveTo>
                  <a:pt x="11733" y="9227"/>
                </a:moveTo>
                <a:cubicBezTo>
                  <a:pt x="11801" y="9261"/>
                  <a:pt x="11854" y="9282"/>
                  <a:pt x="11906" y="9327"/>
                </a:cubicBezTo>
                <a:cubicBezTo>
                  <a:pt x="11965" y="9377"/>
                  <a:pt x="12058" y="9416"/>
                  <a:pt x="12129" y="9451"/>
                </a:cubicBezTo>
                <a:cubicBezTo>
                  <a:pt x="12248" y="9510"/>
                  <a:pt x="12365" y="9564"/>
                  <a:pt x="12477" y="9624"/>
                </a:cubicBezTo>
                <a:cubicBezTo>
                  <a:pt x="12585" y="9682"/>
                  <a:pt x="12667" y="9787"/>
                  <a:pt x="12774" y="9823"/>
                </a:cubicBezTo>
                <a:cubicBezTo>
                  <a:pt x="12856" y="9850"/>
                  <a:pt x="12893" y="9898"/>
                  <a:pt x="12973" y="9922"/>
                </a:cubicBezTo>
                <a:cubicBezTo>
                  <a:pt x="12981" y="9922"/>
                  <a:pt x="12990" y="9922"/>
                  <a:pt x="12998" y="9922"/>
                </a:cubicBezTo>
                <a:cubicBezTo>
                  <a:pt x="12969" y="9905"/>
                  <a:pt x="12948" y="9920"/>
                  <a:pt x="12923" y="9897"/>
                </a:cubicBezTo>
                <a:cubicBezTo>
                  <a:pt x="12915" y="9880"/>
                  <a:pt x="12906" y="9864"/>
                  <a:pt x="12898" y="9847"/>
                </a:cubicBezTo>
              </a:path>
              <a:path w="3201" h="1365">
                <a:moveTo>
                  <a:pt x="12452" y="9153"/>
                </a:moveTo>
                <a:cubicBezTo>
                  <a:pt x="12425" y="9172"/>
                  <a:pt x="12370" y="9205"/>
                  <a:pt x="12353" y="9227"/>
                </a:cubicBezTo>
                <a:cubicBezTo>
                  <a:pt x="12275" y="9328"/>
                  <a:pt x="12193" y="9380"/>
                  <a:pt x="12105" y="9475"/>
                </a:cubicBezTo>
                <a:cubicBezTo>
                  <a:pt x="12025" y="9561"/>
                  <a:pt x="11934" y="9684"/>
                  <a:pt x="11832" y="9748"/>
                </a:cubicBezTo>
                <a:cubicBezTo>
                  <a:pt x="11737" y="9808"/>
                  <a:pt x="11624" y="9857"/>
                  <a:pt x="11534" y="9922"/>
                </a:cubicBezTo>
                <a:cubicBezTo>
                  <a:pt x="11478" y="9963"/>
                  <a:pt x="11380" y="10020"/>
                  <a:pt x="11336" y="10071"/>
                </a:cubicBezTo>
                <a:cubicBezTo>
                  <a:pt x="11268" y="10149"/>
                  <a:pt x="11303" y="10104"/>
                  <a:pt x="11336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4920" y="4071960"/>
            <a:ext cx="1330200" cy="1231920"/>
          </a:xfrm>
          <a:custGeom>
            <a:avLst/>
            <a:gdLst/>
            <a:ahLst/>
            <a:rect l="l" t="t" r="r" b="b"/>
            <a:pathLst>
              <a:path w="3697" h="3424">
                <a:moveTo>
                  <a:pt x="14337" y="12824"/>
                </a:moveTo>
                <a:cubicBezTo>
                  <a:pt x="14408" y="12817"/>
                  <a:pt x="14464" y="12801"/>
                  <a:pt x="14536" y="12799"/>
                </a:cubicBezTo>
                <a:cubicBezTo>
                  <a:pt x="14687" y="12795"/>
                  <a:pt x="14835" y="12783"/>
                  <a:pt x="14982" y="12750"/>
                </a:cubicBezTo>
                <a:cubicBezTo>
                  <a:pt x="15136" y="12716"/>
                  <a:pt x="15281" y="12668"/>
                  <a:pt x="15429" y="12626"/>
                </a:cubicBezTo>
                <a:cubicBezTo>
                  <a:pt x="15593" y="12579"/>
                  <a:pt x="15762" y="12554"/>
                  <a:pt x="15925" y="12502"/>
                </a:cubicBezTo>
                <a:cubicBezTo>
                  <a:pt x="16005" y="12477"/>
                  <a:pt x="16093" y="12445"/>
                  <a:pt x="16173" y="12427"/>
                </a:cubicBezTo>
                <a:cubicBezTo>
                  <a:pt x="16215" y="12417"/>
                  <a:pt x="16235" y="12416"/>
                  <a:pt x="16272" y="12402"/>
                </a:cubicBezTo>
                <a:cubicBezTo>
                  <a:pt x="16219" y="12385"/>
                  <a:pt x="16218" y="12384"/>
                  <a:pt x="16148" y="12378"/>
                </a:cubicBezTo>
              </a:path>
              <a:path w="3697" h="3424">
                <a:moveTo>
                  <a:pt x="14908" y="11881"/>
                </a:moveTo>
                <a:cubicBezTo>
                  <a:pt x="14947" y="11835"/>
                  <a:pt x="14939" y="11842"/>
                  <a:pt x="15007" y="11807"/>
                </a:cubicBezTo>
                <a:cubicBezTo>
                  <a:pt x="15089" y="11765"/>
                  <a:pt x="15213" y="11739"/>
                  <a:pt x="15304" y="11708"/>
                </a:cubicBezTo>
                <a:cubicBezTo>
                  <a:pt x="15497" y="11642"/>
                  <a:pt x="15707" y="11623"/>
                  <a:pt x="15900" y="11559"/>
                </a:cubicBezTo>
                <a:cubicBezTo>
                  <a:pt x="16056" y="11508"/>
                  <a:pt x="16209" y="11474"/>
                  <a:pt x="16371" y="11435"/>
                </a:cubicBezTo>
                <a:cubicBezTo>
                  <a:pt x="16466" y="11412"/>
                  <a:pt x="16578" y="11390"/>
                  <a:pt x="16669" y="11361"/>
                </a:cubicBezTo>
                <a:cubicBezTo>
                  <a:pt x="16714" y="11347"/>
                  <a:pt x="16805" y="11356"/>
                  <a:pt x="16793" y="11311"/>
                </a:cubicBezTo>
                <a:cubicBezTo>
                  <a:pt x="16784" y="11277"/>
                  <a:pt x="16727" y="11324"/>
                  <a:pt x="16694" y="11336"/>
                </a:cubicBezTo>
              </a:path>
              <a:path w="3697" h="3424">
                <a:moveTo>
                  <a:pt x="13097" y="14139"/>
                </a:moveTo>
                <a:cubicBezTo>
                  <a:pt x="13171" y="14139"/>
                  <a:pt x="13234" y="14127"/>
                  <a:pt x="13295" y="14114"/>
                </a:cubicBezTo>
                <a:cubicBezTo>
                  <a:pt x="13358" y="14100"/>
                  <a:pt x="13392" y="14128"/>
                  <a:pt x="13444" y="14089"/>
                </a:cubicBezTo>
              </a:path>
              <a:path w="3697" h="3424">
                <a:moveTo>
                  <a:pt x="13171" y="14312"/>
                </a:moveTo>
                <a:cubicBezTo>
                  <a:pt x="13219" y="14360"/>
                  <a:pt x="13226" y="14362"/>
                  <a:pt x="13295" y="14362"/>
                </a:cubicBezTo>
                <a:cubicBezTo>
                  <a:pt x="13345" y="14362"/>
                  <a:pt x="13378" y="14362"/>
                  <a:pt x="13419" y="14362"/>
                </a:cubicBezTo>
              </a:path>
              <a:path w="3697" h="3424">
                <a:moveTo>
                  <a:pt x="14015" y="14213"/>
                </a:moveTo>
                <a:cubicBezTo>
                  <a:pt x="14015" y="14280"/>
                  <a:pt x="14015" y="14174"/>
                  <a:pt x="14015" y="14163"/>
                </a:cubicBezTo>
                <a:cubicBezTo>
                  <a:pt x="14015" y="14129"/>
                  <a:pt x="13987" y="14089"/>
                  <a:pt x="13965" y="14064"/>
                </a:cubicBezTo>
                <a:cubicBezTo>
                  <a:pt x="13940" y="14036"/>
                  <a:pt x="13877" y="14021"/>
                  <a:pt x="13841" y="14039"/>
                </a:cubicBezTo>
                <a:cubicBezTo>
                  <a:pt x="13790" y="14064"/>
                  <a:pt x="13750" y="14124"/>
                  <a:pt x="13717" y="14163"/>
                </a:cubicBezTo>
                <a:cubicBezTo>
                  <a:pt x="13691" y="14194"/>
                  <a:pt x="13651" y="14251"/>
                  <a:pt x="13643" y="14288"/>
                </a:cubicBezTo>
                <a:cubicBezTo>
                  <a:pt x="13628" y="14361"/>
                  <a:pt x="13650" y="14359"/>
                  <a:pt x="13692" y="14387"/>
                </a:cubicBezTo>
                <a:cubicBezTo>
                  <a:pt x="13732" y="14413"/>
                  <a:pt x="13742" y="14412"/>
                  <a:pt x="13791" y="14412"/>
                </a:cubicBezTo>
                <a:cubicBezTo>
                  <a:pt x="13861" y="14412"/>
                  <a:pt x="13867" y="14411"/>
                  <a:pt x="13915" y="14362"/>
                </a:cubicBezTo>
                <a:cubicBezTo>
                  <a:pt x="13940" y="14337"/>
                  <a:pt x="13965" y="14312"/>
                  <a:pt x="13990" y="14288"/>
                </a:cubicBezTo>
                <a:cubicBezTo>
                  <a:pt x="13990" y="14329"/>
                  <a:pt x="14001" y="14353"/>
                  <a:pt x="14015" y="14387"/>
                </a:cubicBezTo>
                <a:cubicBezTo>
                  <a:pt x="14045" y="14459"/>
                  <a:pt x="14131" y="14483"/>
                  <a:pt x="14188" y="14536"/>
                </a:cubicBezTo>
                <a:cubicBezTo>
                  <a:pt x="14251" y="14595"/>
                  <a:pt x="14356" y="14678"/>
                  <a:pt x="14436" y="14709"/>
                </a:cubicBezTo>
                <a:cubicBezTo>
                  <a:pt x="14486" y="14728"/>
                  <a:pt x="14504" y="14741"/>
                  <a:pt x="14461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24880" y="4205160"/>
            <a:ext cx="1098360" cy="1125720"/>
          </a:xfrm>
          <a:custGeom>
            <a:avLst/>
            <a:gdLst/>
            <a:ahLst/>
            <a:rect l="l" t="t" r="r" b="b"/>
            <a:pathLst>
              <a:path w="3052" h="3126">
                <a:moveTo>
                  <a:pt x="22175" y="13146"/>
                </a:moveTo>
                <a:cubicBezTo>
                  <a:pt x="22325" y="13097"/>
                  <a:pt x="22473" y="13050"/>
                  <a:pt x="22622" y="12998"/>
                </a:cubicBezTo>
                <a:cubicBezTo>
                  <a:pt x="22873" y="12911"/>
                  <a:pt x="23136" y="12855"/>
                  <a:pt x="23391" y="12774"/>
                </a:cubicBezTo>
                <a:cubicBezTo>
                  <a:pt x="23580" y="12714"/>
                  <a:pt x="23768" y="12649"/>
                  <a:pt x="23961" y="12601"/>
                </a:cubicBezTo>
                <a:cubicBezTo>
                  <a:pt x="24082" y="12571"/>
                  <a:pt x="24221" y="12535"/>
                  <a:pt x="24333" y="12477"/>
                </a:cubicBezTo>
                <a:cubicBezTo>
                  <a:pt x="24415" y="12434"/>
                  <a:pt x="24456" y="12373"/>
                  <a:pt x="24507" y="12303"/>
                </a:cubicBezTo>
              </a:path>
              <a:path w="3052" h="3126">
                <a:moveTo>
                  <a:pt x="22771" y="12080"/>
                </a:moveTo>
                <a:cubicBezTo>
                  <a:pt x="22874" y="12034"/>
                  <a:pt x="22986" y="11990"/>
                  <a:pt x="23093" y="11956"/>
                </a:cubicBezTo>
                <a:cubicBezTo>
                  <a:pt x="23252" y="11906"/>
                  <a:pt x="23426" y="11865"/>
                  <a:pt x="23589" y="11832"/>
                </a:cubicBezTo>
                <a:cubicBezTo>
                  <a:pt x="23752" y="11799"/>
                  <a:pt x="23922" y="11758"/>
                  <a:pt x="24085" y="11733"/>
                </a:cubicBezTo>
                <a:cubicBezTo>
                  <a:pt x="24149" y="11723"/>
                  <a:pt x="24163" y="11739"/>
                  <a:pt x="24135" y="11683"/>
                </a:cubicBezTo>
              </a:path>
              <a:path w="3052" h="3126">
                <a:moveTo>
                  <a:pt x="21456" y="14412"/>
                </a:moveTo>
                <a:cubicBezTo>
                  <a:pt x="21527" y="14426"/>
                  <a:pt x="21577" y="14436"/>
                  <a:pt x="21654" y="14436"/>
                </a:cubicBezTo>
                <a:cubicBezTo>
                  <a:pt x="21737" y="14436"/>
                  <a:pt x="21820" y="14436"/>
                  <a:pt x="21903" y="14436"/>
                </a:cubicBezTo>
              </a:path>
              <a:path w="3052" h="3126">
                <a:moveTo>
                  <a:pt x="21506" y="14610"/>
                </a:moveTo>
                <a:cubicBezTo>
                  <a:pt x="21574" y="14636"/>
                  <a:pt x="21654" y="14651"/>
                  <a:pt x="21729" y="14635"/>
                </a:cubicBezTo>
                <a:cubicBezTo>
                  <a:pt x="21754" y="14627"/>
                  <a:pt x="21778" y="14618"/>
                  <a:pt x="21803" y="14610"/>
                </a:cubicBezTo>
              </a:path>
              <a:path w="3052" h="3126">
                <a:moveTo>
                  <a:pt x="22126" y="13940"/>
                </a:moveTo>
                <a:cubicBezTo>
                  <a:pt x="22118" y="14060"/>
                  <a:pt x="22132" y="14360"/>
                  <a:pt x="22101" y="14511"/>
                </a:cubicBezTo>
                <a:cubicBezTo>
                  <a:pt x="22090" y="14567"/>
                  <a:pt x="22046" y="14675"/>
                  <a:pt x="22076" y="14734"/>
                </a:cubicBezTo>
                <a:cubicBezTo>
                  <a:pt x="22099" y="14757"/>
                  <a:pt x="22107" y="14761"/>
                  <a:pt x="22101" y="14784"/>
                </a:cubicBezTo>
                <a:cubicBezTo>
                  <a:pt x="22147" y="14773"/>
                  <a:pt x="22169" y="14728"/>
                  <a:pt x="22175" y="14684"/>
                </a:cubicBezTo>
                <a:cubicBezTo>
                  <a:pt x="22187" y="14604"/>
                  <a:pt x="22191" y="14536"/>
                  <a:pt x="22225" y="14461"/>
                </a:cubicBezTo>
                <a:cubicBezTo>
                  <a:pt x="22254" y="14396"/>
                  <a:pt x="22277" y="14336"/>
                  <a:pt x="22349" y="14312"/>
                </a:cubicBezTo>
                <a:cubicBezTo>
                  <a:pt x="22380" y="14302"/>
                  <a:pt x="22465" y="14393"/>
                  <a:pt x="22473" y="14412"/>
                </a:cubicBezTo>
                <a:cubicBezTo>
                  <a:pt x="22505" y="14489"/>
                  <a:pt x="22516" y="14640"/>
                  <a:pt x="22448" y="14709"/>
                </a:cubicBezTo>
                <a:cubicBezTo>
                  <a:pt x="22395" y="14762"/>
                  <a:pt x="22356" y="14805"/>
                  <a:pt x="22275" y="14808"/>
                </a:cubicBezTo>
                <a:cubicBezTo>
                  <a:pt x="22155" y="14813"/>
                  <a:pt x="22041" y="14798"/>
                  <a:pt x="21927" y="14759"/>
                </a:cubicBezTo>
                <a:cubicBezTo>
                  <a:pt x="21886" y="14742"/>
                  <a:pt x="21844" y="14726"/>
                  <a:pt x="21803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A = 24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3 and a = 7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473040" y="1374840"/>
            <a:ext cx="1857240" cy="2295360"/>
          </a:xfrm>
          <a:custGeom>
            <a:avLst/>
            <a:gdLst/>
            <a:ahLst/>
            <a:rect l="l" t="t" r="r" b="b"/>
            <a:pathLst>
              <a:path w="5160" h="6376">
                <a:moveTo>
                  <a:pt x="1786" y="6375"/>
                </a:moveTo>
                <a:cubicBezTo>
                  <a:pt x="1773" y="6491"/>
                  <a:pt x="1755" y="6605"/>
                  <a:pt x="1736" y="6722"/>
                </a:cubicBezTo>
                <a:cubicBezTo>
                  <a:pt x="1692" y="6990"/>
                  <a:pt x="1638" y="7246"/>
                  <a:pt x="1612" y="7516"/>
                </a:cubicBezTo>
                <a:cubicBezTo>
                  <a:pt x="1579" y="7864"/>
                  <a:pt x="1520" y="8211"/>
                  <a:pt x="1488" y="8558"/>
                </a:cubicBezTo>
                <a:cubicBezTo>
                  <a:pt x="1467" y="8783"/>
                  <a:pt x="1451" y="9003"/>
                  <a:pt x="1414" y="9227"/>
                </a:cubicBezTo>
                <a:cubicBezTo>
                  <a:pt x="1389" y="9374"/>
                  <a:pt x="1369" y="9526"/>
                  <a:pt x="1364" y="9674"/>
                </a:cubicBezTo>
                <a:cubicBezTo>
                  <a:pt x="1359" y="9823"/>
                  <a:pt x="1359" y="9749"/>
                  <a:pt x="1389" y="9699"/>
                </a:cubicBezTo>
              </a:path>
              <a:path w="5160" h="6376">
                <a:moveTo>
                  <a:pt x="1736" y="6524"/>
                </a:moveTo>
                <a:cubicBezTo>
                  <a:pt x="1780" y="6495"/>
                  <a:pt x="1835" y="6456"/>
                  <a:pt x="1885" y="6424"/>
                </a:cubicBezTo>
                <a:cubicBezTo>
                  <a:pt x="2186" y="6232"/>
                  <a:pt x="2478" y="6025"/>
                  <a:pt x="2778" y="5829"/>
                </a:cubicBezTo>
                <a:cubicBezTo>
                  <a:pt x="2980" y="5697"/>
                  <a:pt x="3194" y="5586"/>
                  <a:pt x="3398" y="5457"/>
                </a:cubicBezTo>
                <a:cubicBezTo>
                  <a:pt x="3730" y="5248"/>
                  <a:pt x="4070" y="5044"/>
                  <a:pt x="4415" y="4862"/>
                </a:cubicBezTo>
                <a:cubicBezTo>
                  <a:pt x="4689" y="4718"/>
                  <a:pt x="4957" y="4576"/>
                  <a:pt x="5234" y="4440"/>
                </a:cubicBezTo>
                <a:cubicBezTo>
                  <a:pt x="5416" y="4350"/>
                  <a:pt x="5596" y="4253"/>
                  <a:pt x="5779" y="4167"/>
                </a:cubicBezTo>
                <a:cubicBezTo>
                  <a:pt x="5965" y="4080"/>
                  <a:pt x="6145" y="3988"/>
                  <a:pt x="6325" y="3894"/>
                </a:cubicBezTo>
                <a:cubicBezTo>
                  <a:pt x="6368" y="3872"/>
                  <a:pt x="6413" y="3865"/>
                  <a:pt x="6449" y="3845"/>
                </a:cubicBezTo>
                <a:cubicBezTo>
                  <a:pt x="6457" y="3837"/>
                  <a:pt x="6466" y="3828"/>
                  <a:pt x="6474" y="3820"/>
                </a:cubicBezTo>
                <a:cubicBezTo>
                  <a:pt x="6445" y="3865"/>
                  <a:pt x="6407" y="3918"/>
                  <a:pt x="6375" y="3969"/>
                </a:cubicBezTo>
                <a:cubicBezTo>
                  <a:pt x="6333" y="4035"/>
                  <a:pt x="6294" y="4100"/>
                  <a:pt x="6251" y="4167"/>
                </a:cubicBezTo>
                <a:cubicBezTo>
                  <a:pt x="6194" y="4256"/>
                  <a:pt x="6139" y="4349"/>
                  <a:pt x="6077" y="4440"/>
                </a:cubicBezTo>
                <a:cubicBezTo>
                  <a:pt x="5863" y="4751"/>
                  <a:pt x="5637" y="5063"/>
                  <a:pt x="5407" y="5358"/>
                </a:cubicBezTo>
                <a:cubicBezTo>
                  <a:pt x="5269" y="5535"/>
                  <a:pt x="5125" y="5705"/>
                  <a:pt x="4986" y="5879"/>
                </a:cubicBezTo>
                <a:cubicBezTo>
                  <a:pt x="4682" y="6261"/>
                  <a:pt x="4381" y="6644"/>
                  <a:pt x="4068" y="7020"/>
                </a:cubicBezTo>
                <a:cubicBezTo>
                  <a:pt x="3861" y="7268"/>
                  <a:pt x="3658" y="7520"/>
                  <a:pt x="3448" y="7764"/>
                </a:cubicBezTo>
                <a:cubicBezTo>
                  <a:pt x="3252" y="7992"/>
                  <a:pt x="3098" y="8259"/>
                  <a:pt x="2902" y="8483"/>
                </a:cubicBezTo>
                <a:cubicBezTo>
                  <a:pt x="2709" y="8704"/>
                  <a:pt x="2513" y="8921"/>
                  <a:pt x="2332" y="9153"/>
                </a:cubicBezTo>
                <a:cubicBezTo>
                  <a:pt x="2237" y="9275"/>
                  <a:pt x="2099" y="9382"/>
                  <a:pt x="2009" y="9500"/>
                </a:cubicBezTo>
                <a:cubicBezTo>
                  <a:pt x="1937" y="9595"/>
                  <a:pt x="1887" y="9683"/>
                  <a:pt x="1811" y="9773"/>
                </a:cubicBezTo>
                <a:cubicBezTo>
                  <a:pt x="1753" y="9842"/>
                  <a:pt x="1711" y="9901"/>
                  <a:pt x="1662" y="9971"/>
                </a:cubicBezTo>
                <a:cubicBezTo>
                  <a:pt x="1631" y="10015"/>
                  <a:pt x="1600" y="10080"/>
                  <a:pt x="1563" y="10120"/>
                </a:cubicBezTo>
                <a:cubicBezTo>
                  <a:pt x="1549" y="10136"/>
                  <a:pt x="1507" y="10176"/>
                  <a:pt x="1488" y="10195"/>
                </a:cubicBezTo>
                <a:cubicBezTo>
                  <a:pt x="1480" y="10195"/>
                  <a:pt x="1471" y="10195"/>
                  <a:pt x="1463" y="10195"/>
                </a:cubicBezTo>
                <a:cubicBezTo>
                  <a:pt x="1449" y="10176"/>
                  <a:pt x="1384" y="10174"/>
                  <a:pt x="1364" y="10120"/>
                </a:cubicBezTo>
                <a:cubicBezTo>
                  <a:pt x="1333" y="10034"/>
                  <a:pt x="1330" y="10017"/>
                  <a:pt x="1315" y="9922"/>
                </a:cubicBezTo>
                <a:cubicBezTo>
                  <a:pt x="1293" y="9782"/>
                  <a:pt x="1346" y="9636"/>
                  <a:pt x="1364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4120" y="1473120"/>
            <a:ext cx="2098800" cy="839880"/>
          </a:xfrm>
          <a:custGeom>
            <a:avLst/>
            <a:gdLst/>
            <a:ahLst/>
            <a:rect l="l" t="t" r="r" b="b"/>
            <a:pathLst>
              <a:path w="5830" h="2332">
                <a:moveTo>
                  <a:pt x="6325" y="4762"/>
                </a:moveTo>
                <a:cubicBezTo>
                  <a:pt x="6349" y="4826"/>
                  <a:pt x="6350" y="4867"/>
                  <a:pt x="6350" y="4936"/>
                </a:cubicBezTo>
                <a:cubicBezTo>
                  <a:pt x="6350" y="4984"/>
                  <a:pt x="6361" y="4997"/>
                  <a:pt x="6375" y="5035"/>
                </a:cubicBezTo>
                <a:cubicBezTo>
                  <a:pt x="6375" y="4994"/>
                  <a:pt x="6375" y="5002"/>
                  <a:pt x="6375" y="4961"/>
                </a:cubicBezTo>
                <a:cubicBezTo>
                  <a:pt x="6375" y="4762"/>
                  <a:pt x="6344" y="4527"/>
                  <a:pt x="6400" y="4341"/>
                </a:cubicBezTo>
                <a:cubicBezTo>
                  <a:pt x="6422" y="4269"/>
                  <a:pt x="6448" y="4198"/>
                  <a:pt x="6499" y="4142"/>
                </a:cubicBezTo>
                <a:cubicBezTo>
                  <a:pt x="6543" y="4094"/>
                  <a:pt x="6618" y="4085"/>
                  <a:pt x="6672" y="4118"/>
                </a:cubicBezTo>
                <a:cubicBezTo>
                  <a:pt x="6734" y="4155"/>
                  <a:pt x="6761" y="4226"/>
                  <a:pt x="6772" y="4291"/>
                </a:cubicBezTo>
                <a:cubicBezTo>
                  <a:pt x="6783" y="4355"/>
                  <a:pt x="6737" y="4420"/>
                  <a:pt x="6697" y="4465"/>
                </a:cubicBezTo>
                <a:cubicBezTo>
                  <a:pt x="6671" y="4494"/>
                  <a:pt x="6618" y="4573"/>
                  <a:pt x="6598" y="4589"/>
                </a:cubicBezTo>
                <a:cubicBezTo>
                  <a:pt x="6590" y="4589"/>
                  <a:pt x="6581" y="4589"/>
                  <a:pt x="6573" y="4589"/>
                </a:cubicBezTo>
                <a:cubicBezTo>
                  <a:pt x="6610" y="4568"/>
                  <a:pt x="6661" y="4557"/>
                  <a:pt x="6697" y="4539"/>
                </a:cubicBezTo>
                <a:cubicBezTo>
                  <a:pt x="6761" y="4507"/>
                  <a:pt x="6783" y="4517"/>
                  <a:pt x="6846" y="4564"/>
                </a:cubicBezTo>
                <a:cubicBezTo>
                  <a:pt x="6923" y="4622"/>
                  <a:pt x="6896" y="4723"/>
                  <a:pt x="6846" y="4787"/>
                </a:cubicBezTo>
                <a:cubicBezTo>
                  <a:pt x="6772" y="4882"/>
                  <a:pt x="6702" y="4890"/>
                  <a:pt x="6598" y="4936"/>
                </a:cubicBezTo>
                <a:cubicBezTo>
                  <a:pt x="6449" y="5002"/>
                  <a:pt x="6313" y="5031"/>
                  <a:pt x="6152" y="5060"/>
                </a:cubicBezTo>
              </a:path>
              <a:path w="5830" h="2332">
                <a:moveTo>
                  <a:pt x="1290" y="5680"/>
                </a:moveTo>
                <a:cubicBezTo>
                  <a:pt x="1315" y="5680"/>
                  <a:pt x="1323" y="5680"/>
                  <a:pt x="1339" y="5680"/>
                </a:cubicBezTo>
                <a:cubicBezTo>
                  <a:pt x="1271" y="5680"/>
                  <a:pt x="1222" y="5686"/>
                  <a:pt x="1166" y="5705"/>
                </a:cubicBezTo>
                <a:cubicBezTo>
                  <a:pt x="1087" y="5731"/>
                  <a:pt x="1110" y="5812"/>
                  <a:pt x="1091" y="5879"/>
                </a:cubicBezTo>
                <a:cubicBezTo>
                  <a:pt x="1060" y="5990"/>
                  <a:pt x="1059" y="6087"/>
                  <a:pt x="1091" y="6201"/>
                </a:cubicBezTo>
                <a:cubicBezTo>
                  <a:pt x="1111" y="6273"/>
                  <a:pt x="1130" y="6370"/>
                  <a:pt x="1191" y="6400"/>
                </a:cubicBezTo>
                <a:cubicBezTo>
                  <a:pt x="1301" y="6454"/>
                  <a:pt x="1353" y="6331"/>
                  <a:pt x="1439" y="6276"/>
                </a:cubicBezTo>
                <a:cubicBezTo>
                  <a:pt x="1510" y="6231"/>
                  <a:pt x="1626" y="6146"/>
                  <a:pt x="1712" y="6127"/>
                </a:cubicBezTo>
                <a:cubicBezTo>
                  <a:pt x="1728" y="6127"/>
                  <a:pt x="1745" y="6127"/>
                  <a:pt x="1761" y="6127"/>
                </a:cubicBezTo>
              </a:path>
              <a:path w="5830" h="2332">
                <a:moveTo>
                  <a:pt x="2952" y="4762"/>
                </a:moveTo>
                <a:cubicBezTo>
                  <a:pt x="2939" y="4725"/>
                  <a:pt x="2927" y="4741"/>
                  <a:pt x="2927" y="4688"/>
                </a:cubicBezTo>
                <a:cubicBezTo>
                  <a:pt x="2927" y="4644"/>
                  <a:pt x="2968" y="4633"/>
                  <a:pt x="3001" y="4614"/>
                </a:cubicBezTo>
                <a:cubicBezTo>
                  <a:pt x="3073" y="4573"/>
                  <a:pt x="3157" y="4537"/>
                  <a:pt x="3225" y="4490"/>
                </a:cubicBezTo>
                <a:cubicBezTo>
                  <a:pt x="3274" y="4456"/>
                  <a:pt x="3325" y="4447"/>
                  <a:pt x="3373" y="4415"/>
                </a:cubicBezTo>
                <a:cubicBezTo>
                  <a:pt x="3406" y="4393"/>
                  <a:pt x="3430" y="4305"/>
                  <a:pt x="3448" y="4341"/>
                </a:cubicBezTo>
                <a:cubicBezTo>
                  <a:pt x="3460" y="4365"/>
                  <a:pt x="3470" y="4487"/>
                  <a:pt x="3473" y="4514"/>
                </a:cubicBezTo>
                <a:cubicBezTo>
                  <a:pt x="3493" y="4702"/>
                  <a:pt x="3439" y="4901"/>
                  <a:pt x="3497" y="5085"/>
                </a:cubicBezTo>
                <a:cubicBezTo>
                  <a:pt x="3514" y="5139"/>
                  <a:pt x="3535" y="5184"/>
                  <a:pt x="3547" y="5234"/>
                </a:cubicBezTo>
              </a:path>
              <a:path w="5830" h="2332">
                <a:moveTo>
                  <a:pt x="4539" y="5060"/>
                </a:moveTo>
                <a:cubicBezTo>
                  <a:pt x="4550" y="5144"/>
                  <a:pt x="4564" y="5225"/>
                  <a:pt x="4589" y="5308"/>
                </a:cubicBezTo>
                <a:cubicBezTo>
                  <a:pt x="4615" y="5396"/>
                  <a:pt x="4625" y="5494"/>
                  <a:pt x="4638" y="5581"/>
                </a:cubicBezTo>
                <a:cubicBezTo>
                  <a:pt x="4639" y="5590"/>
                  <a:pt x="4638" y="5747"/>
                  <a:pt x="4638" y="5680"/>
                </a:cubicBezTo>
                <a:cubicBezTo>
                  <a:pt x="4638" y="5655"/>
                  <a:pt x="4638" y="5647"/>
                  <a:pt x="4638" y="5631"/>
                </a:cubicBezTo>
              </a:path>
              <a:path w="5830" h="2332">
                <a:moveTo>
                  <a:pt x="4688" y="5011"/>
                </a:moveTo>
                <a:cubicBezTo>
                  <a:pt x="4706" y="5099"/>
                  <a:pt x="4713" y="5170"/>
                  <a:pt x="4713" y="5259"/>
                </a:cubicBezTo>
                <a:cubicBezTo>
                  <a:pt x="4713" y="5283"/>
                  <a:pt x="4713" y="5292"/>
                  <a:pt x="4713" y="5308"/>
                </a:cubicBezTo>
                <a:cubicBezTo>
                  <a:pt x="4749" y="5308"/>
                  <a:pt x="4785" y="5301"/>
                  <a:pt x="4812" y="5283"/>
                </a:cubicBezTo>
                <a:cubicBezTo>
                  <a:pt x="4851" y="5258"/>
                  <a:pt x="4903" y="5231"/>
                  <a:pt x="4936" y="5209"/>
                </a:cubicBezTo>
                <a:cubicBezTo>
                  <a:pt x="4961" y="5184"/>
                  <a:pt x="4969" y="5176"/>
                  <a:pt x="4986" y="5159"/>
                </a:cubicBezTo>
              </a:path>
              <a:path w="5830" h="2332">
                <a:moveTo>
                  <a:pt x="4911" y="4787"/>
                </a:moveTo>
                <a:cubicBezTo>
                  <a:pt x="4942" y="4859"/>
                  <a:pt x="4944" y="4911"/>
                  <a:pt x="4961" y="4986"/>
                </a:cubicBezTo>
                <a:cubicBezTo>
                  <a:pt x="4983" y="5079"/>
                  <a:pt x="5011" y="5170"/>
                  <a:pt x="5035" y="5259"/>
                </a:cubicBezTo>
                <a:cubicBezTo>
                  <a:pt x="5040" y="5277"/>
                  <a:pt x="5050" y="5415"/>
                  <a:pt x="5085" y="5432"/>
                </a:cubicBezTo>
                <a:cubicBezTo>
                  <a:pt x="5115" y="5447"/>
                  <a:pt x="5121" y="5356"/>
                  <a:pt x="5135" y="5333"/>
                </a:cubicBezTo>
              </a:path>
              <a:path w="5830" h="2332">
                <a:moveTo>
                  <a:pt x="5209" y="4638"/>
                </a:moveTo>
                <a:cubicBezTo>
                  <a:pt x="5186" y="4743"/>
                  <a:pt x="5184" y="4828"/>
                  <a:pt x="5184" y="4936"/>
                </a:cubicBezTo>
                <a:cubicBezTo>
                  <a:pt x="5184" y="5008"/>
                  <a:pt x="5193" y="5098"/>
                  <a:pt x="5234" y="5159"/>
                </a:cubicBezTo>
                <a:cubicBezTo>
                  <a:pt x="5262" y="5201"/>
                  <a:pt x="5303" y="5201"/>
                  <a:pt x="5333" y="5184"/>
                </a:cubicBezTo>
                <a:cubicBezTo>
                  <a:pt x="5434" y="5125"/>
                  <a:pt x="5481" y="5113"/>
                  <a:pt x="5507" y="5011"/>
                </a:cubicBezTo>
                <a:cubicBezTo>
                  <a:pt x="5518" y="4966"/>
                  <a:pt x="5483" y="4920"/>
                  <a:pt x="5457" y="4911"/>
                </a:cubicBezTo>
                <a:cubicBezTo>
                  <a:pt x="5424" y="4956"/>
                  <a:pt x="5430" y="4988"/>
                  <a:pt x="5407" y="5035"/>
                </a:cubicBezTo>
                <a:cubicBezTo>
                  <a:pt x="5402" y="5045"/>
                  <a:pt x="5386" y="5118"/>
                  <a:pt x="5407" y="5135"/>
                </a:cubicBezTo>
                <a:cubicBezTo>
                  <a:pt x="5432" y="5155"/>
                  <a:pt x="5468" y="5121"/>
                  <a:pt x="5482" y="5110"/>
                </a:cubicBezTo>
              </a:path>
              <a:path w="5830" h="2332">
                <a:moveTo>
                  <a:pt x="5531" y="4490"/>
                </a:moveTo>
                <a:cubicBezTo>
                  <a:pt x="5550" y="4547"/>
                  <a:pt x="5541" y="4572"/>
                  <a:pt x="5581" y="4564"/>
                </a:cubicBezTo>
                <a:cubicBezTo>
                  <a:pt x="5599" y="4559"/>
                  <a:pt x="5672" y="4525"/>
                  <a:pt x="5680" y="4514"/>
                </a:cubicBezTo>
                <a:cubicBezTo>
                  <a:pt x="5710" y="4470"/>
                  <a:pt x="5673" y="4403"/>
                  <a:pt x="5655" y="4390"/>
                </a:cubicBezTo>
                <a:cubicBezTo>
                  <a:pt x="5608" y="4355"/>
                  <a:pt x="5598" y="4381"/>
                  <a:pt x="5556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040" y="2732040"/>
            <a:ext cx="1071720" cy="723960"/>
          </a:xfrm>
          <a:custGeom>
            <a:avLst/>
            <a:gdLst/>
            <a:ahLst/>
            <a:rect l="l" t="t" r="r" b="b"/>
            <a:pathLst>
              <a:path w="2978" h="2010">
                <a:moveTo>
                  <a:pt x="1637" y="9252"/>
                </a:moveTo>
                <a:cubicBezTo>
                  <a:pt x="1625" y="9216"/>
                  <a:pt x="1612" y="9212"/>
                  <a:pt x="1612" y="9153"/>
                </a:cubicBezTo>
                <a:cubicBezTo>
                  <a:pt x="1612" y="9090"/>
                  <a:pt x="1609" y="9056"/>
                  <a:pt x="1637" y="9004"/>
                </a:cubicBezTo>
                <a:cubicBezTo>
                  <a:pt x="1657" y="8963"/>
                  <a:pt x="1655" y="8947"/>
                  <a:pt x="1687" y="8954"/>
                </a:cubicBezTo>
                <a:cubicBezTo>
                  <a:pt x="1777" y="8990"/>
                  <a:pt x="1763" y="9005"/>
                  <a:pt x="1811" y="9079"/>
                </a:cubicBezTo>
                <a:cubicBezTo>
                  <a:pt x="1851" y="9140"/>
                  <a:pt x="1857" y="9224"/>
                  <a:pt x="1860" y="9302"/>
                </a:cubicBezTo>
                <a:cubicBezTo>
                  <a:pt x="1862" y="9345"/>
                  <a:pt x="1852" y="9458"/>
                  <a:pt x="1836" y="9500"/>
                </a:cubicBezTo>
                <a:cubicBezTo>
                  <a:pt x="1824" y="9531"/>
                  <a:pt x="1801" y="9564"/>
                  <a:pt x="1786" y="9599"/>
                </a:cubicBezTo>
                <a:cubicBezTo>
                  <a:pt x="1838" y="9578"/>
                  <a:pt x="1862" y="9531"/>
                  <a:pt x="1910" y="9500"/>
                </a:cubicBezTo>
                <a:cubicBezTo>
                  <a:pt x="1996" y="9445"/>
                  <a:pt x="1986" y="9473"/>
                  <a:pt x="2034" y="9376"/>
                </a:cubicBezTo>
              </a:path>
              <a:path w="2978" h="2010">
                <a:moveTo>
                  <a:pt x="1935" y="8781"/>
                </a:moveTo>
                <a:cubicBezTo>
                  <a:pt x="1935" y="8873"/>
                  <a:pt x="1940" y="8880"/>
                  <a:pt x="1984" y="8954"/>
                </a:cubicBezTo>
                <a:cubicBezTo>
                  <a:pt x="2027" y="9025"/>
                  <a:pt x="2045" y="9004"/>
                  <a:pt x="2133" y="9004"/>
                </a:cubicBezTo>
                <a:cubicBezTo>
                  <a:pt x="2179" y="9004"/>
                  <a:pt x="2180" y="8951"/>
                  <a:pt x="2208" y="8930"/>
                </a:cubicBezTo>
              </a:path>
              <a:path w="2978" h="2010">
                <a:moveTo>
                  <a:pt x="1984" y="8508"/>
                </a:moveTo>
                <a:cubicBezTo>
                  <a:pt x="2031" y="8615"/>
                  <a:pt x="2077" y="8704"/>
                  <a:pt x="2133" y="8806"/>
                </a:cubicBezTo>
                <a:cubicBezTo>
                  <a:pt x="2183" y="8897"/>
                  <a:pt x="2220" y="8997"/>
                  <a:pt x="2282" y="9079"/>
                </a:cubicBezTo>
                <a:cubicBezTo>
                  <a:pt x="2312" y="9108"/>
                  <a:pt x="2324" y="9122"/>
                  <a:pt x="2332" y="9153"/>
                </a:cubicBezTo>
                <a:cubicBezTo>
                  <a:pt x="2352" y="9081"/>
                  <a:pt x="2342" y="9104"/>
                  <a:pt x="2332" y="9029"/>
                </a:cubicBezTo>
              </a:path>
              <a:path w="2978" h="2010">
                <a:moveTo>
                  <a:pt x="2208" y="8334"/>
                </a:moveTo>
                <a:cubicBezTo>
                  <a:pt x="2234" y="8402"/>
                  <a:pt x="2252" y="8467"/>
                  <a:pt x="2332" y="8483"/>
                </a:cubicBezTo>
                <a:cubicBezTo>
                  <a:pt x="2379" y="8492"/>
                  <a:pt x="2420" y="8451"/>
                  <a:pt x="2431" y="8409"/>
                </a:cubicBezTo>
                <a:cubicBezTo>
                  <a:pt x="2443" y="8363"/>
                  <a:pt x="2427" y="8305"/>
                  <a:pt x="2381" y="8285"/>
                </a:cubicBezTo>
                <a:cubicBezTo>
                  <a:pt x="2356" y="8274"/>
                  <a:pt x="2310" y="8285"/>
                  <a:pt x="2282" y="8285"/>
                </a:cubicBezTo>
              </a:path>
              <a:path w="2978" h="2010">
                <a:moveTo>
                  <a:pt x="4118" y="7739"/>
                </a:moveTo>
                <a:cubicBezTo>
                  <a:pt x="4129" y="7694"/>
                  <a:pt x="4158" y="7674"/>
                  <a:pt x="4192" y="7640"/>
                </a:cubicBezTo>
                <a:cubicBezTo>
                  <a:pt x="4228" y="7604"/>
                  <a:pt x="4266" y="7594"/>
                  <a:pt x="4316" y="7590"/>
                </a:cubicBezTo>
                <a:cubicBezTo>
                  <a:pt x="4369" y="7586"/>
                  <a:pt x="4396" y="7617"/>
                  <a:pt x="4415" y="7665"/>
                </a:cubicBezTo>
                <a:cubicBezTo>
                  <a:pt x="4423" y="7684"/>
                  <a:pt x="4379" y="7792"/>
                  <a:pt x="4366" y="7813"/>
                </a:cubicBezTo>
                <a:cubicBezTo>
                  <a:pt x="4331" y="7870"/>
                  <a:pt x="4169" y="7892"/>
                  <a:pt x="4217" y="7938"/>
                </a:cubicBezTo>
                <a:cubicBezTo>
                  <a:pt x="4245" y="7965"/>
                  <a:pt x="4273" y="7914"/>
                  <a:pt x="4291" y="7913"/>
                </a:cubicBezTo>
                <a:cubicBezTo>
                  <a:pt x="4345" y="7909"/>
                  <a:pt x="4362" y="7888"/>
                  <a:pt x="4415" y="7888"/>
                </a:cubicBezTo>
                <a:cubicBezTo>
                  <a:pt x="4469" y="7888"/>
                  <a:pt x="4476" y="7900"/>
                  <a:pt x="4514" y="7938"/>
                </a:cubicBezTo>
                <a:cubicBezTo>
                  <a:pt x="4551" y="7975"/>
                  <a:pt x="4603" y="8001"/>
                  <a:pt x="4589" y="8062"/>
                </a:cubicBezTo>
                <a:cubicBezTo>
                  <a:pt x="4579" y="8105"/>
                  <a:pt x="4546" y="8205"/>
                  <a:pt x="4514" y="8235"/>
                </a:cubicBezTo>
                <a:cubicBezTo>
                  <a:pt x="4471" y="8275"/>
                  <a:pt x="4349" y="8317"/>
                  <a:pt x="4291" y="8334"/>
                </a:cubicBezTo>
                <a:cubicBezTo>
                  <a:pt x="4221" y="8355"/>
                  <a:pt x="4103" y="8327"/>
                  <a:pt x="4068" y="8310"/>
                </a:cubicBezTo>
                <a:cubicBezTo>
                  <a:pt x="4017" y="8286"/>
                  <a:pt x="4100" y="8310"/>
                  <a:pt x="4043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8280" y="3643200"/>
            <a:ext cx="2241720" cy="2714760"/>
          </a:xfrm>
          <a:custGeom>
            <a:avLst/>
            <a:gdLst/>
            <a:ahLst/>
            <a:rect l="l" t="t" r="r" b="b"/>
            <a:pathLst>
              <a:path w="6227" h="7542">
                <a:moveTo>
                  <a:pt x="4068" y="11137"/>
                </a:moveTo>
                <a:cubicBezTo>
                  <a:pt x="4272" y="11137"/>
                  <a:pt x="4463" y="11124"/>
                  <a:pt x="4663" y="11112"/>
                </a:cubicBezTo>
                <a:cubicBezTo>
                  <a:pt x="4836" y="11102"/>
                  <a:pt x="5009" y="11137"/>
                  <a:pt x="5184" y="11137"/>
                </a:cubicBezTo>
                <a:cubicBezTo>
                  <a:pt x="5307" y="11137"/>
                  <a:pt x="5416" y="11137"/>
                  <a:pt x="5531" y="11162"/>
                </a:cubicBezTo>
                <a:cubicBezTo>
                  <a:pt x="5539" y="11162"/>
                  <a:pt x="5548" y="11162"/>
                  <a:pt x="5556" y="11162"/>
                </a:cubicBezTo>
              </a:path>
              <a:path w="6227" h="7542">
                <a:moveTo>
                  <a:pt x="4936" y="11708"/>
                </a:moveTo>
                <a:cubicBezTo>
                  <a:pt x="4936" y="11775"/>
                  <a:pt x="4936" y="11669"/>
                  <a:pt x="4936" y="11658"/>
                </a:cubicBezTo>
                <a:cubicBezTo>
                  <a:pt x="4936" y="11613"/>
                  <a:pt x="4932" y="11559"/>
                  <a:pt x="4887" y="11534"/>
                </a:cubicBezTo>
                <a:cubicBezTo>
                  <a:pt x="4839" y="11507"/>
                  <a:pt x="4793" y="11589"/>
                  <a:pt x="4762" y="11609"/>
                </a:cubicBezTo>
                <a:cubicBezTo>
                  <a:pt x="4693" y="11653"/>
                  <a:pt x="4675" y="11708"/>
                  <a:pt x="4638" y="11782"/>
                </a:cubicBezTo>
                <a:cubicBezTo>
                  <a:pt x="4622" y="11815"/>
                  <a:pt x="4566" y="11889"/>
                  <a:pt x="4589" y="11931"/>
                </a:cubicBezTo>
                <a:cubicBezTo>
                  <a:pt x="4628" y="12001"/>
                  <a:pt x="4662" y="11971"/>
                  <a:pt x="4713" y="11956"/>
                </a:cubicBezTo>
                <a:cubicBezTo>
                  <a:pt x="4765" y="11940"/>
                  <a:pt x="4821" y="11939"/>
                  <a:pt x="4862" y="11906"/>
                </a:cubicBezTo>
                <a:cubicBezTo>
                  <a:pt x="4896" y="11879"/>
                  <a:pt x="4939" y="11797"/>
                  <a:pt x="4961" y="11782"/>
                </a:cubicBezTo>
                <a:cubicBezTo>
                  <a:pt x="4969" y="11782"/>
                  <a:pt x="4978" y="11782"/>
                  <a:pt x="4986" y="11782"/>
                </a:cubicBezTo>
                <a:cubicBezTo>
                  <a:pt x="4986" y="11850"/>
                  <a:pt x="5000" y="11870"/>
                  <a:pt x="5060" y="11906"/>
                </a:cubicBezTo>
                <a:cubicBezTo>
                  <a:pt x="5122" y="11943"/>
                  <a:pt x="5189" y="11931"/>
                  <a:pt x="5259" y="11931"/>
                </a:cubicBezTo>
                <a:cubicBezTo>
                  <a:pt x="5327" y="11931"/>
                  <a:pt x="5346" y="11934"/>
                  <a:pt x="5383" y="11906"/>
                </a:cubicBezTo>
              </a:path>
              <a:path w="6227" h="7542">
                <a:moveTo>
                  <a:pt x="6276" y="11013"/>
                </a:moveTo>
                <a:cubicBezTo>
                  <a:pt x="6359" y="10998"/>
                  <a:pt x="6419" y="10988"/>
                  <a:pt x="6499" y="10988"/>
                </a:cubicBezTo>
              </a:path>
              <a:path w="6227" h="7542">
                <a:moveTo>
                  <a:pt x="6201" y="11261"/>
                </a:moveTo>
                <a:cubicBezTo>
                  <a:pt x="6319" y="11261"/>
                  <a:pt x="6438" y="11273"/>
                  <a:pt x="6548" y="11237"/>
                </a:cubicBezTo>
              </a:path>
              <a:path w="6227" h="7542">
                <a:moveTo>
                  <a:pt x="7392" y="10443"/>
                </a:moveTo>
                <a:cubicBezTo>
                  <a:pt x="7295" y="10417"/>
                  <a:pt x="7274" y="10427"/>
                  <a:pt x="7193" y="10443"/>
                </a:cubicBezTo>
                <a:cubicBezTo>
                  <a:pt x="7133" y="10455"/>
                  <a:pt x="7141" y="10469"/>
                  <a:pt x="7094" y="10492"/>
                </a:cubicBezTo>
                <a:cubicBezTo>
                  <a:pt x="7160" y="10585"/>
                  <a:pt x="7215" y="10682"/>
                  <a:pt x="7293" y="10765"/>
                </a:cubicBezTo>
                <a:cubicBezTo>
                  <a:pt x="7353" y="10828"/>
                  <a:pt x="7385" y="10878"/>
                  <a:pt x="7392" y="10964"/>
                </a:cubicBezTo>
                <a:cubicBezTo>
                  <a:pt x="7396" y="11016"/>
                  <a:pt x="7336" y="11035"/>
                  <a:pt x="7293" y="11038"/>
                </a:cubicBezTo>
                <a:cubicBezTo>
                  <a:pt x="7237" y="11042"/>
                  <a:pt x="7160" y="11020"/>
                  <a:pt x="7119" y="10988"/>
                </a:cubicBezTo>
                <a:cubicBezTo>
                  <a:pt x="7070" y="10949"/>
                  <a:pt x="7058" y="10937"/>
                  <a:pt x="7094" y="10889"/>
                </a:cubicBezTo>
              </a:path>
              <a:path w="6227" h="7542">
                <a:moveTo>
                  <a:pt x="7665" y="10641"/>
                </a:moveTo>
                <a:cubicBezTo>
                  <a:pt x="7649" y="10733"/>
                  <a:pt x="7640" y="10799"/>
                  <a:pt x="7640" y="10889"/>
                </a:cubicBezTo>
                <a:cubicBezTo>
                  <a:pt x="7640" y="10918"/>
                  <a:pt x="7665" y="10987"/>
                  <a:pt x="7665" y="10939"/>
                </a:cubicBezTo>
                <a:cubicBezTo>
                  <a:pt x="7665" y="10914"/>
                  <a:pt x="7665" y="10906"/>
                  <a:pt x="7665" y="10889"/>
                </a:cubicBezTo>
              </a:path>
              <a:path w="6227" h="7542">
                <a:moveTo>
                  <a:pt x="7665" y="10344"/>
                </a:moveTo>
                <a:cubicBezTo>
                  <a:pt x="7694" y="10292"/>
                  <a:pt x="7688" y="10282"/>
                  <a:pt x="7739" y="10269"/>
                </a:cubicBezTo>
              </a:path>
              <a:path w="6227" h="7542">
                <a:moveTo>
                  <a:pt x="7888" y="10765"/>
                </a:moveTo>
                <a:cubicBezTo>
                  <a:pt x="7888" y="10823"/>
                  <a:pt x="7888" y="10831"/>
                  <a:pt x="7888" y="10864"/>
                </a:cubicBezTo>
                <a:cubicBezTo>
                  <a:pt x="7929" y="10851"/>
                  <a:pt x="7920" y="10811"/>
                  <a:pt x="7938" y="10765"/>
                </a:cubicBezTo>
                <a:cubicBezTo>
                  <a:pt x="7966" y="10693"/>
                  <a:pt x="7999" y="10631"/>
                  <a:pt x="8037" y="10567"/>
                </a:cubicBezTo>
                <a:cubicBezTo>
                  <a:pt x="8067" y="10518"/>
                  <a:pt x="8124" y="10449"/>
                  <a:pt x="8186" y="10517"/>
                </a:cubicBezTo>
                <a:cubicBezTo>
                  <a:pt x="8221" y="10555"/>
                  <a:pt x="8273" y="10687"/>
                  <a:pt x="8285" y="10740"/>
                </a:cubicBezTo>
                <a:cubicBezTo>
                  <a:pt x="8295" y="10785"/>
                  <a:pt x="8285" y="10842"/>
                  <a:pt x="8285" y="10889"/>
                </a:cubicBezTo>
                <a:cubicBezTo>
                  <a:pt x="8304" y="10883"/>
                  <a:pt x="8328" y="10845"/>
                  <a:pt x="8334" y="10815"/>
                </a:cubicBezTo>
                <a:cubicBezTo>
                  <a:pt x="8334" y="10798"/>
                  <a:pt x="8334" y="10782"/>
                  <a:pt x="8334" y="10765"/>
                </a:cubicBezTo>
              </a:path>
              <a:path w="6227" h="7542">
                <a:moveTo>
                  <a:pt x="9079" y="10120"/>
                </a:moveTo>
                <a:cubicBezTo>
                  <a:pt x="9087" y="10145"/>
                  <a:pt x="9095" y="10170"/>
                  <a:pt x="9103" y="10195"/>
                </a:cubicBezTo>
                <a:cubicBezTo>
                  <a:pt x="9103" y="10129"/>
                  <a:pt x="9117" y="10120"/>
                  <a:pt x="9054" y="10120"/>
                </a:cubicBezTo>
                <a:cubicBezTo>
                  <a:pt x="8948" y="10120"/>
                  <a:pt x="8940" y="10138"/>
                  <a:pt x="8855" y="10195"/>
                </a:cubicBezTo>
                <a:cubicBezTo>
                  <a:pt x="8762" y="10258"/>
                  <a:pt x="8704" y="10331"/>
                  <a:pt x="8632" y="10418"/>
                </a:cubicBezTo>
                <a:cubicBezTo>
                  <a:pt x="8592" y="10466"/>
                  <a:pt x="8591" y="10545"/>
                  <a:pt x="8632" y="10592"/>
                </a:cubicBezTo>
                <a:cubicBezTo>
                  <a:pt x="8712" y="10683"/>
                  <a:pt x="8801" y="10694"/>
                  <a:pt x="8905" y="10740"/>
                </a:cubicBezTo>
                <a:cubicBezTo>
                  <a:pt x="9034" y="10797"/>
                  <a:pt x="9186" y="10881"/>
                  <a:pt x="9302" y="10765"/>
                </a:cubicBezTo>
              </a:path>
              <a:path w="6227" h="7542">
                <a:moveTo>
                  <a:pt x="7317" y="11112"/>
                </a:moveTo>
                <a:cubicBezTo>
                  <a:pt x="7552" y="11112"/>
                  <a:pt x="7779" y="11122"/>
                  <a:pt x="8012" y="11137"/>
                </a:cubicBezTo>
                <a:cubicBezTo>
                  <a:pt x="8220" y="11150"/>
                  <a:pt x="8426" y="11143"/>
                  <a:pt x="8632" y="11162"/>
                </a:cubicBezTo>
                <a:cubicBezTo>
                  <a:pt x="8671" y="11166"/>
                  <a:pt x="8802" y="11171"/>
                  <a:pt x="8830" y="11137"/>
                </a:cubicBezTo>
                <a:cubicBezTo>
                  <a:pt x="8830" y="11129"/>
                  <a:pt x="8830" y="11120"/>
                  <a:pt x="8830" y="11112"/>
                </a:cubicBezTo>
              </a:path>
              <a:path w="6227" h="7542">
                <a:moveTo>
                  <a:pt x="8161" y="11584"/>
                </a:moveTo>
                <a:cubicBezTo>
                  <a:pt x="8169" y="11592"/>
                  <a:pt x="8178" y="11601"/>
                  <a:pt x="8186" y="11609"/>
                </a:cubicBezTo>
                <a:cubicBezTo>
                  <a:pt x="8186" y="11573"/>
                  <a:pt x="8179" y="11535"/>
                  <a:pt x="8161" y="11509"/>
                </a:cubicBezTo>
                <a:cubicBezTo>
                  <a:pt x="8110" y="11435"/>
                  <a:pt x="8026" y="11535"/>
                  <a:pt x="7987" y="11559"/>
                </a:cubicBezTo>
                <a:cubicBezTo>
                  <a:pt x="7907" y="11608"/>
                  <a:pt x="7842" y="11679"/>
                  <a:pt x="7789" y="11757"/>
                </a:cubicBezTo>
                <a:cubicBezTo>
                  <a:pt x="7769" y="11786"/>
                  <a:pt x="7739" y="11898"/>
                  <a:pt x="7764" y="11931"/>
                </a:cubicBezTo>
                <a:cubicBezTo>
                  <a:pt x="7835" y="12026"/>
                  <a:pt x="7905" y="12044"/>
                  <a:pt x="8012" y="12080"/>
                </a:cubicBezTo>
                <a:cubicBezTo>
                  <a:pt x="8116" y="12115"/>
                  <a:pt x="8227" y="12139"/>
                  <a:pt x="8334" y="12154"/>
                </a:cubicBezTo>
                <a:cubicBezTo>
                  <a:pt x="8393" y="12162"/>
                  <a:pt x="8432" y="12166"/>
                  <a:pt x="8483" y="12179"/>
                </a:cubicBezTo>
                <a:cubicBezTo>
                  <a:pt x="8472" y="12147"/>
                  <a:pt x="8429" y="12123"/>
                  <a:pt x="8384" y="12105"/>
                </a:cubicBezTo>
                <a:cubicBezTo>
                  <a:pt x="8359" y="12097"/>
                  <a:pt x="8335" y="12088"/>
                  <a:pt x="8310" y="12080"/>
                </a:cubicBezTo>
              </a:path>
              <a:path w="6227" h="7542">
                <a:moveTo>
                  <a:pt x="4291" y="12526"/>
                </a:moveTo>
                <a:cubicBezTo>
                  <a:pt x="4316" y="12477"/>
                  <a:pt x="4280" y="12468"/>
                  <a:pt x="4217" y="12452"/>
                </a:cubicBezTo>
                <a:cubicBezTo>
                  <a:pt x="4163" y="12438"/>
                  <a:pt x="4108" y="12480"/>
                  <a:pt x="4068" y="12502"/>
                </a:cubicBezTo>
                <a:cubicBezTo>
                  <a:pt x="3997" y="12541"/>
                  <a:pt x="3981" y="12542"/>
                  <a:pt x="3994" y="12601"/>
                </a:cubicBezTo>
                <a:cubicBezTo>
                  <a:pt x="4014" y="12692"/>
                  <a:pt x="4051" y="12673"/>
                  <a:pt x="4118" y="12725"/>
                </a:cubicBezTo>
                <a:cubicBezTo>
                  <a:pt x="4191" y="12782"/>
                  <a:pt x="4307" y="12886"/>
                  <a:pt x="4341" y="12973"/>
                </a:cubicBezTo>
                <a:cubicBezTo>
                  <a:pt x="4358" y="13016"/>
                  <a:pt x="4335" y="13078"/>
                  <a:pt x="4291" y="13097"/>
                </a:cubicBezTo>
                <a:cubicBezTo>
                  <a:pt x="4238" y="13120"/>
                  <a:pt x="4188" y="13080"/>
                  <a:pt x="4142" y="13072"/>
                </a:cubicBezTo>
                <a:cubicBezTo>
                  <a:pt x="4077" y="13060"/>
                  <a:pt x="4054" y="13021"/>
                  <a:pt x="3994" y="12998"/>
                </a:cubicBezTo>
                <a:cubicBezTo>
                  <a:pt x="3986" y="12998"/>
                  <a:pt x="3977" y="12998"/>
                  <a:pt x="3969" y="12998"/>
                </a:cubicBezTo>
                <a:cubicBezTo>
                  <a:pt x="3980" y="12953"/>
                  <a:pt x="3998" y="12934"/>
                  <a:pt x="4043" y="12923"/>
                </a:cubicBezTo>
              </a:path>
              <a:path w="6227" h="7542">
                <a:moveTo>
                  <a:pt x="4638" y="12750"/>
                </a:moveTo>
                <a:cubicBezTo>
                  <a:pt x="4673" y="12829"/>
                  <a:pt x="4643" y="12818"/>
                  <a:pt x="4638" y="12898"/>
                </a:cubicBezTo>
                <a:cubicBezTo>
                  <a:pt x="4634" y="12951"/>
                  <a:pt x="4563" y="13061"/>
                  <a:pt x="4614" y="13047"/>
                </a:cubicBezTo>
                <a:cubicBezTo>
                  <a:pt x="4636" y="13025"/>
                  <a:pt x="4644" y="13020"/>
                  <a:pt x="4638" y="12998"/>
                </a:cubicBezTo>
              </a:path>
              <a:path w="6227" h="7542">
                <a:moveTo>
                  <a:pt x="4738" y="12402"/>
                </a:moveTo>
                <a:cubicBezTo>
                  <a:pt x="4746" y="12402"/>
                  <a:pt x="4754" y="12402"/>
                  <a:pt x="4762" y="12402"/>
                </a:cubicBezTo>
              </a:path>
              <a:path w="6227" h="7542">
                <a:moveTo>
                  <a:pt x="4911" y="12898"/>
                </a:moveTo>
                <a:cubicBezTo>
                  <a:pt x="4911" y="12939"/>
                  <a:pt x="4911" y="12981"/>
                  <a:pt x="4911" y="13022"/>
                </a:cubicBezTo>
                <a:cubicBezTo>
                  <a:pt x="4875" y="13010"/>
                  <a:pt x="4887" y="12992"/>
                  <a:pt x="4887" y="12948"/>
                </a:cubicBezTo>
                <a:cubicBezTo>
                  <a:pt x="4887" y="12916"/>
                  <a:pt x="4900" y="12855"/>
                  <a:pt x="4911" y="12824"/>
                </a:cubicBezTo>
                <a:cubicBezTo>
                  <a:pt x="4931" y="12769"/>
                  <a:pt x="4978" y="12687"/>
                  <a:pt x="5035" y="12675"/>
                </a:cubicBezTo>
                <a:cubicBezTo>
                  <a:pt x="5120" y="12657"/>
                  <a:pt x="5117" y="12694"/>
                  <a:pt x="5159" y="12750"/>
                </a:cubicBezTo>
                <a:cubicBezTo>
                  <a:pt x="5205" y="12811"/>
                  <a:pt x="5212" y="12856"/>
                  <a:pt x="5234" y="12923"/>
                </a:cubicBezTo>
                <a:cubicBezTo>
                  <a:pt x="5257" y="12992"/>
                  <a:pt x="5273" y="13008"/>
                  <a:pt x="5234" y="13072"/>
                </a:cubicBezTo>
                <a:cubicBezTo>
                  <a:pt x="5234" y="13047"/>
                  <a:pt x="5234" y="13023"/>
                  <a:pt x="5234" y="12998"/>
                </a:cubicBezTo>
              </a:path>
              <a:path w="6227" h="7542">
                <a:moveTo>
                  <a:pt x="5482" y="12452"/>
                </a:moveTo>
                <a:cubicBezTo>
                  <a:pt x="5505" y="12456"/>
                  <a:pt x="5685" y="12456"/>
                  <a:pt x="5705" y="12526"/>
                </a:cubicBezTo>
                <a:cubicBezTo>
                  <a:pt x="5726" y="12600"/>
                  <a:pt x="5686" y="12641"/>
                  <a:pt x="5655" y="12700"/>
                </a:cubicBezTo>
                <a:cubicBezTo>
                  <a:pt x="5623" y="12762"/>
                  <a:pt x="5547" y="12805"/>
                  <a:pt x="5531" y="12874"/>
                </a:cubicBezTo>
                <a:cubicBezTo>
                  <a:pt x="5522" y="12910"/>
                  <a:pt x="5490" y="12981"/>
                  <a:pt x="5507" y="13022"/>
                </a:cubicBezTo>
                <a:cubicBezTo>
                  <a:pt x="5535" y="13092"/>
                  <a:pt x="5624" y="13072"/>
                  <a:pt x="5680" y="13072"/>
                </a:cubicBezTo>
                <a:cubicBezTo>
                  <a:pt x="5725" y="13072"/>
                  <a:pt x="5738" y="13075"/>
                  <a:pt x="5755" y="13047"/>
                </a:cubicBezTo>
              </a:path>
              <a:path w="6227" h="7542">
                <a:moveTo>
                  <a:pt x="5978" y="12576"/>
                </a:moveTo>
                <a:cubicBezTo>
                  <a:pt x="5987" y="12662"/>
                  <a:pt x="5993" y="12678"/>
                  <a:pt x="6052" y="12725"/>
                </a:cubicBezTo>
                <a:cubicBezTo>
                  <a:pt x="6093" y="12757"/>
                  <a:pt x="6111" y="12762"/>
                  <a:pt x="6152" y="12725"/>
                </a:cubicBezTo>
                <a:cubicBezTo>
                  <a:pt x="6176" y="12700"/>
                  <a:pt x="6184" y="12691"/>
                  <a:pt x="6201" y="12675"/>
                </a:cubicBezTo>
              </a:path>
              <a:path w="6227" h="7542">
                <a:moveTo>
                  <a:pt x="6276" y="12378"/>
                </a:moveTo>
                <a:cubicBezTo>
                  <a:pt x="6276" y="12481"/>
                  <a:pt x="6265" y="12552"/>
                  <a:pt x="6251" y="12650"/>
                </a:cubicBezTo>
                <a:cubicBezTo>
                  <a:pt x="6245" y="12692"/>
                  <a:pt x="6222" y="12816"/>
                  <a:pt x="6226" y="12849"/>
                </a:cubicBezTo>
                <a:cubicBezTo>
                  <a:pt x="6233" y="12907"/>
                  <a:pt x="6251" y="12957"/>
                  <a:pt x="6251" y="13022"/>
                </a:cubicBezTo>
                <a:cubicBezTo>
                  <a:pt x="6251" y="13047"/>
                  <a:pt x="6251" y="13055"/>
                  <a:pt x="6251" y="13072"/>
                </a:cubicBezTo>
              </a:path>
              <a:path w="6227" h="7542">
                <a:moveTo>
                  <a:pt x="4316" y="13146"/>
                </a:moveTo>
                <a:cubicBezTo>
                  <a:pt x="3803" y="13232"/>
                  <a:pt x="4185" y="13151"/>
                  <a:pt x="4118" y="13196"/>
                </a:cubicBezTo>
                <a:cubicBezTo>
                  <a:pt x="4360" y="13196"/>
                  <a:pt x="4598" y="13207"/>
                  <a:pt x="4837" y="13221"/>
                </a:cubicBezTo>
                <a:cubicBezTo>
                  <a:pt x="5161" y="13241"/>
                  <a:pt x="5591" y="13279"/>
                  <a:pt x="5904" y="13246"/>
                </a:cubicBezTo>
                <a:cubicBezTo>
                  <a:pt x="5947" y="13241"/>
                  <a:pt x="5990" y="13287"/>
                  <a:pt x="6003" y="13246"/>
                </a:cubicBezTo>
                <a:cubicBezTo>
                  <a:pt x="6017" y="13201"/>
                  <a:pt x="5953" y="13225"/>
                  <a:pt x="5928" y="13221"/>
                </a:cubicBezTo>
              </a:path>
              <a:path w="6227" h="7542">
                <a:moveTo>
                  <a:pt x="4961" y="13419"/>
                </a:moveTo>
                <a:cubicBezTo>
                  <a:pt x="5008" y="13385"/>
                  <a:pt x="5049" y="13395"/>
                  <a:pt x="5110" y="13395"/>
                </a:cubicBezTo>
                <a:cubicBezTo>
                  <a:pt x="5197" y="13395"/>
                  <a:pt x="5274" y="13432"/>
                  <a:pt x="5358" y="13444"/>
                </a:cubicBezTo>
                <a:cubicBezTo>
                  <a:pt x="5393" y="13449"/>
                  <a:pt x="5463" y="13456"/>
                  <a:pt x="5482" y="13494"/>
                </a:cubicBezTo>
                <a:cubicBezTo>
                  <a:pt x="5506" y="13542"/>
                  <a:pt x="5470" y="13679"/>
                  <a:pt x="5457" y="13717"/>
                </a:cubicBezTo>
                <a:cubicBezTo>
                  <a:pt x="5434" y="13783"/>
                  <a:pt x="5428" y="13851"/>
                  <a:pt x="5407" y="13915"/>
                </a:cubicBezTo>
                <a:cubicBezTo>
                  <a:pt x="5386" y="13978"/>
                  <a:pt x="5383" y="14021"/>
                  <a:pt x="5383" y="14089"/>
                </a:cubicBezTo>
                <a:cubicBezTo>
                  <a:pt x="5383" y="14112"/>
                  <a:pt x="5383" y="14268"/>
                  <a:pt x="5383" y="14213"/>
                </a:cubicBezTo>
                <a:cubicBezTo>
                  <a:pt x="5383" y="14168"/>
                  <a:pt x="5426" y="14144"/>
                  <a:pt x="5457" y="14114"/>
                </a:cubicBezTo>
              </a:path>
              <a:path w="6227" h="7542">
                <a:moveTo>
                  <a:pt x="6722" y="12948"/>
                </a:moveTo>
                <a:cubicBezTo>
                  <a:pt x="6796" y="12948"/>
                  <a:pt x="6871" y="12948"/>
                  <a:pt x="6945" y="12948"/>
                </a:cubicBezTo>
              </a:path>
              <a:path w="6227" h="7542">
                <a:moveTo>
                  <a:pt x="6896" y="13246"/>
                </a:moveTo>
                <a:cubicBezTo>
                  <a:pt x="6946" y="13276"/>
                  <a:pt x="6983" y="13271"/>
                  <a:pt x="7045" y="13271"/>
                </a:cubicBezTo>
                <a:cubicBezTo>
                  <a:pt x="7078" y="13271"/>
                  <a:pt x="7111" y="13271"/>
                  <a:pt x="7144" y="13271"/>
                </a:cubicBezTo>
              </a:path>
              <a:path w="6227" h="7542">
                <a:moveTo>
                  <a:pt x="7938" y="12700"/>
                </a:moveTo>
                <a:cubicBezTo>
                  <a:pt x="7855" y="12682"/>
                  <a:pt x="7797" y="12675"/>
                  <a:pt x="7714" y="12675"/>
                </a:cubicBezTo>
                <a:cubicBezTo>
                  <a:pt x="7668" y="12675"/>
                  <a:pt x="7646" y="12674"/>
                  <a:pt x="7640" y="12725"/>
                </a:cubicBezTo>
                <a:cubicBezTo>
                  <a:pt x="7635" y="12768"/>
                  <a:pt x="7714" y="12838"/>
                  <a:pt x="7739" y="12874"/>
                </a:cubicBezTo>
                <a:cubicBezTo>
                  <a:pt x="7802" y="12962"/>
                  <a:pt x="7846" y="13042"/>
                  <a:pt x="7863" y="13146"/>
                </a:cubicBezTo>
                <a:cubicBezTo>
                  <a:pt x="7870" y="13185"/>
                  <a:pt x="7841" y="13257"/>
                  <a:pt x="7789" y="13246"/>
                </a:cubicBezTo>
                <a:cubicBezTo>
                  <a:pt x="7712" y="13230"/>
                  <a:pt x="7668" y="13224"/>
                  <a:pt x="7615" y="13171"/>
                </a:cubicBezTo>
                <a:cubicBezTo>
                  <a:pt x="7576" y="13132"/>
                  <a:pt x="7585" y="13112"/>
                  <a:pt x="7615" y="13072"/>
                </a:cubicBezTo>
              </a:path>
              <a:path w="6227" h="7542">
                <a:moveTo>
                  <a:pt x="8136" y="12799"/>
                </a:moveTo>
                <a:cubicBezTo>
                  <a:pt x="8154" y="12882"/>
                  <a:pt x="8161" y="12939"/>
                  <a:pt x="8161" y="13022"/>
                </a:cubicBezTo>
                <a:cubicBezTo>
                  <a:pt x="8161" y="13026"/>
                  <a:pt x="8172" y="13182"/>
                  <a:pt x="8136" y="13097"/>
                </a:cubicBezTo>
                <a:cubicBezTo>
                  <a:pt x="8136" y="13089"/>
                  <a:pt x="8136" y="13080"/>
                  <a:pt x="8136" y="13072"/>
                </a:cubicBezTo>
              </a:path>
              <a:path w="6227" h="7542">
                <a:moveTo>
                  <a:pt x="8186" y="12452"/>
                </a:moveTo>
                <a:lnTo>
                  <a:pt x="8186" y="12452"/>
                </a:lnTo>
              </a:path>
              <a:path w="6227" h="7542">
                <a:moveTo>
                  <a:pt x="8359" y="13022"/>
                </a:moveTo>
                <a:cubicBezTo>
                  <a:pt x="8359" y="13098"/>
                  <a:pt x="8347" y="13098"/>
                  <a:pt x="8384" y="13146"/>
                </a:cubicBezTo>
                <a:cubicBezTo>
                  <a:pt x="8416" y="13125"/>
                  <a:pt x="8429" y="13076"/>
                  <a:pt x="8434" y="13022"/>
                </a:cubicBezTo>
                <a:cubicBezTo>
                  <a:pt x="8439" y="12968"/>
                  <a:pt x="8476" y="12895"/>
                  <a:pt x="8508" y="12849"/>
                </a:cubicBezTo>
                <a:cubicBezTo>
                  <a:pt x="8525" y="12825"/>
                  <a:pt x="8574" y="12765"/>
                  <a:pt x="8607" y="12774"/>
                </a:cubicBezTo>
                <a:cubicBezTo>
                  <a:pt x="8682" y="12795"/>
                  <a:pt x="8720" y="12876"/>
                  <a:pt x="8731" y="12948"/>
                </a:cubicBezTo>
                <a:cubicBezTo>
                  <a:pt x="8743" y="13029"/>
                  <a:pt x="8763" y="13093"/>
                  <a:pt x="8781" y="13171"/>
                </a:cubicBezTo>
                <a:cubicBezTo>
                  <a:pt x="8784" y="13183"/>
                  <a:pt x="8800" y="13296"/>
                  <a:pt x="8806" y="13221"/>
                </a:cubicBezTo>
                <a:cubicBezTo>
                  <a:pt x="8806" y="13176"/>
                  <a:pt x="8802" y="13163"/>
                  <a:pt x="8830" y="13146"/>
                </a:cubicBezTo>
              </a:path>
              <a:path w="6227" h="7542">
                <a:moveTo>
                  <a:pt x="9376" y="12551"/>
                </a:moveTo>
                <a:cubicBezTo>
                  <a:pt x="9393" y="12568"/>
                  <a:pt x="9409" y="12584"/>
                  <a:pt x="9426" y="12601"/>
                </a:cubicBezTo>
                <a:cubicBezTo>
                  <a:pt x="9426" y="12567"/>
                  <a:pt x="9439" y="12521"/>
                  <a:pt x="9401" y="12502"/>
                </a:cubicBezTo>
                <a:cubicBezTo>
                  <a:pt x="9363" y="12484"/>
                  <a:pt x="9284" y="12505"/>
                  <a:pt x="9252" y="12526"/>
                </a:cubicBezTo>
                <a:cubicBezTo>
                  <a:pt x="9183" y="12571"/>
                  <a:pt x="9106" y="12634"/>
                  <a:pt x="9054" y="12700"/>
                </a:cubicBezTo>
                <a:cubicBezTo>
                  <a:pt x="8997" y="12772"/>
                  <a:pt x="8956" y="12853"/>
                  <a:pt x="8979" y="12948"/>
                </a:cubicBezTo>
                <a:cubicBezTo>
                  <a:pt x="8997" y="13023"/>
                  <a:pt x="9094" y="13108"/>
                  <a:pt x="9153" y="13146"/>
                </a:cubicBezTo>
                <a:cubicBezTo>
                  <a:pt x="9222" y="13191"/>
                  <a:pt x="9320" y="13231"/>
                  <a:pt x="9401" y="13246"/>
                </a:cubicBezTo>
                <a:cubicBezTo>
                  <a:pt x="9429" y="13251"/>
                  <a:pt x="9511" y="13243"/>
                  <a:pt x="9525" y="13221"/>
                </a:cubicBezTo>
                <a:cubicBezTo>
                  <a:pt x="9551" y="13181"/>
                  <a:pt x="9496" y="13189"/>
                  <a:pt x="9550" y="13171"/>
                </a:cubicBezTo>
              </a:path>
              <a:path w="6227" h="7542">
                <a:moveTo>
                  <a:pt x="9748" y="13469"/>
                </a:moveTo>
                <a:cubicBezTo>
                  <a:pt x="9637" y="13469"/>
                  <a:pt x="9533" y="13464"/>
                  <a:pt x="9426" y="13444"/>
                </a:cubicBezTo>
                <a:cubicBezTo>
                  <a:pt x="9235" y="13407"/>
                  <a:pt x="9047" y="13355"/>
                  <a:pt x="8855" y="13320"/>
                </a:cubicBezTo>
                <a:cubicBezTo>
                  <a:pt x="8672" y="13287"/>
                  <a:pt x="8471" y="13262"/>
                  <a:pt x="8285" y="13246"/>
                </a:cubicBezTo>
                <a:cubicBezTo>
                  <a:pt x="8131" y="13233"/>
                  <a:pt x="7966" y="13242"/>
                  <a:pt x="7813" y="13221"/>
                </a:cubicBezTo>
                <a:cubicBezTo>
                  <a:pt x="7722" y="13208"/>
                  <a:pt x="7610" y="13171"/>
                  <a:pt x="7516" y="13196"/>
                </a:cubicBezTo>
                <a:cubicBezTo>
                  <a:pt x="7430" y="13219"/>
                  <a:pt x="7488" y="13218"/>
                  <a:pt x="7466" y="13196"/>
                </a:cubicBezTo>
              </a:path>
              <a:path w="6227" h="7542">
                <a:moveTo>
                  <a:pt x="8310" y="13618"/>
                </a:moveTo>
                <a:cubicBezTo>
                  <a:pt x="8302" y="13601"/>
                  <a:pt x="8293" y="13585"/>
                  <a:pt x="8285" y="13568"/>
                </a:cubicBezTo>
                <a:cubicBezTo>
                  <a:pt x="8385" y="13568"/>
                  <a:pt x="8519" y="13543"/>
                  <a:pt x="8607" y="13593"/>
                </a:cubicBezTo>
                <a:cubicBezTo>
                  <a:pt x="8676" y="13632"/>
                  <a:pt x="8710" y="13661"/>
                  <a:pt x="8682" y="13717"/>
                </a:cubicBezTo>
                <a:cubicBezTo>
                  <a:pt x="8646" y="13790"/>
                  <a:pt x="8605" y="13805"/>
                  <a:pt x="8533" y="13841"/>
                </a:cubicBezTo>
                <a:cubicBezTo>
                  <a:pt x="8488" y="13863"/>
                  <a:pt x="8429" y="13886"/>
                  <a:pt x="8384" y="13891"/>
                </a:cubicBezTo>
                <a:cubicBezTo>
                  <a:pt x="8359" y="13891"/>
                  <a:pt x="8351" y="13891"/>
                  <a:pt x="8334" y="13891"/>
                </a:cubicBezTo>
                <a:cubicBezTo>
                  <a:pt x="8270" y="13891"/>
                  <a:pt x="8373" y="13891"/>
                  <a:pt x="8384" y="13891"/>
                </a:cubicBezTo>
                <a:cubicBezTo>
                  <a:pt x="8426" y="13891"/>
                  <a:pt x="8518" y="13948"/>
                  <a:pt x="8558" y="13965"/>
                </a:cubicBezTo>
                <a:cubicBezTo>
                  <a:pt x="8628" y="13995"/>
                  <a:pt x="8711" y="14088"/>
                  <a:pt x="8731" y="14163"/>
                </a:cubicBezTo>
                <a:cubicBezTo>
                  <a:pt x="8757" y="14262"/>
                  <a:pt x="8759" y="14366"/>
                  <a:pt x="8706" y="14461"/>
                </a:cubicBezTo>
                <a:cubicBezTo>
                  <a:pt x="8672" y="14523"/>
                  <a:pt x="8619" y="14511"/>
                  <a:pt x="8558" y="14511"/>
                </a:cubicBezTo>
                <a:cubicBezTo>
                  <a:pt x="8492" y="14511"/>
                  <a:pt x="8443" y="14476"/>
                  <a:pt x="8384" y="14461"/>
                </a:cubicBezTo>
                <a:cubicBezTo>
                  <a:pt x="8324" y="14446"/>
                  <a:pt x="8268" y="14416"/>
                  <a:pt x="8210" y="14387"/>
                </a:cubicBezTo>
                <a:cubicBezTo>
                  <a:pt x="8194" y="14379"/>
                  <a:pt x="8177" y="14370"/>
                  <a:pt x="8161" y="14362"/>
                </a:cubicBezTo>
              </a:path>
              <a:path w="6227" h="7542">
                <a:moveTo>
                  <a:pt x="6548" y="12998"/>
                </a:moveTo>
                <a:cubicBezTo>
                  <a:pt x="6593" y="13023"/>
                  <a:pt x="6646" y="13073"/>
                  <a:pt x="6697" y="13097"/>
                </a:cubicBezTo>
                <a:cubicBezTo>
                  <a:pt x="6808" y="13151"/>
                  <a:pt x="6910" y="13229"/>
                  <a:pt x="7020" y="13295"/>
                </a:cubicBezTo>
                <a:cubicBezTo>
                  <a:pt x="7140" y="13367"/>
                  <a:pt x="7263" y="13439"/>
                  <a:pt x="7392" y="13494"/>
                </a:cubicBezTo>
                <a:cubicBezTo>
                  <a:pt x="7480" y="13531"/>
                  <a:pt x="7571" y="13598"/>
                  <a:pt x="7665" y="13618"/>
                </a:cubicBezTo>
                <a:cubicBezTo>
                  <a:pt x="7720" y="13630"/>
                  <a:pt x="7731" y="13601"/>
                  <a:pt x="7764" y="13568"/>
                </a:cubicBezTo>
              </a:path>
              <a:path w="6227" h="7542">
                <a:moveTo>
                  <a:pt x="7293" y="12948"/>
                </a:moveTo>
                <a:cubicBezTo>
                  <a:pt x="7177" y="13058"/>
                  <a:pt x="7058" y="13158"/>
                  <a:pt x="6945" y="13271"/>
                </a:cubicBezTo>
                <a:cubicBezTo>
                  <a:pt x="6848" y="13368"/>
                  <a:pt x="6752" y="13480"/>
                  <a:pt x="6648" y="13568"/>
                </a:cubicBezTo>
                <a:cubicBezTo>
                  <a:pt x="6561" y="13641"/>
                  <a:pt x="6497" y="13705"/>
                  <a:pt x="6400" y="13767"/>
                </a:cubicBezTo>
              </a:path>
              <a:path w="6227" h="7542">
                <a:moveTo>
                  <a:pt x="3522" y="15354"/>
                </a:moveTo>
                <a:cubicBezTo>
                  <a:pt x="3617" y="15335"/>
                  <a:pt x="3696" y="15329"/>
                  <a:pt x="3795" y="15329"/>
                </a:cubicBezTo>
                <a:cubicBezTo>
                  <a:pt x="3971" y="15329"/>
                  <a:pt x="4142" y="15344"/>
                  <a:pt x="4316" y="15354"/>
                </a:cubicBezTo>
                <a:cubicBezTo>
                  <a:pt x="4522" y="15366"/>
                  <a:pt x="4730" y="15375"/>
                  <a:pt x="4936" y="15379"/>
                </a:cubicBezTo>
                <a:cubicBezTo>
                  <a:pt x="5136" y="15383"/>
                  <a:pt x="5329" y="15404"/>
                  <a:pt x="5531" y="15404"/>
                </a:cubicBezTo>
                <a:cubicBezTo>
                  <a:pt x="5681" y="15404"/>
                  <a:pt x="5844" y="15416"/>
                  <a:pt x="5978" y="15379"/>
                </a:cubicBezTo>
                <a:cubicBezTo>
                  <a:pt x="6032" y="15364"/>
                  <a:pt x="5973" y="15384"/>
                  <a:pt x="5953" y="15379"/>
                </a:cubicBezTo>
              </a:path>
              <a:path w="6227" h="7542">
                <a:moveTo>
                  <a:pt x="5135" y="15652"/>
                </a:moveTo>
                <a:cubicBezTo>
                  <a:pt x="5197" y="15652"/>
                  <a:pt x="5275" y="15661"/>
                  <a:pt x="5333" y="15677"/>
                </a:cubicBezTo>
                <a:cubicBezTo>
                  <a:pt x="5399" y="15695"/>
                  <a:pt x="5499" y="15716"/>
                  <a:pt x="5556" y="15751"/>
                </a:cubicBezTo>
                <a:cubicBezTo>
                  <a:pt x="5616" y="15789"/>
                  <a:pt x="5606" y="15837"/>
                  <a:pt x="5606" y="15900"/>
                </a:cubicBezTo>
                <a:cubicBezTo>
                  <a:pt x="5606" y="15994"/>
                  <a:pt x="5560" y="16085"/>
                  <a:pt x="5531" y="16173"/>
                </a:cubicBezTo>
                <a:cubicBezTo>
                  <a:pt x="5505" y="16252"/>
                  <a:pt x="5467" y="16387"/>
                  <a:pt x="5482" y="16470"/>
                </a:cubicBezTo>
                <a:cubicBezTo>
                  <a:pt x="5490" y="16513"/>
                  <a:pt x="5501" y="16584"/>
                  <a:pt x="5531" y="16594"/>
                </a:cubicBezTo>
              </a:path>
              <a:path w="6227" h="7542">
                <a:moveTo>
                  <a:pt x="7218" y="14486"/>
                </a:moveTo>
                <a:cubicBezTo>
                  <a:pt x="7269" y="14518"/>
                  <a:pt x="7315" y="14567"/>
                  <a:pt x="7367" y="14610"/>
                </a:cubicBezTo>
                <a:cubicBezTo>
                  <a:pt x="7517" y="14733"/>
                  <a:pt x="7633" y="14866"/>
                  <a:pt x="7764" y="15007"/>
                </a:cubicBezTo>
                <a:cubicBezTo>
                  <a:pt x="7927" y="15182"/>
                  <a:pt x="8097" y="15353"/>
                  <a:pt x="8260" y="15528"/>
                </a:cubicBezTo>
                <a:cubicBezTo>
                  <a:pt x="8387" y="15664"/>
                  <a:pt x="8532" y="15790"/>
                  <a:pt x="8657" y="15925"/>
                </a:cubicBezTo>
                <a:cubicBezTo>
                  <a:pt x="8724" y="15998"/>
                  <a:pt x="8779" y="16062"/>
                  <a:pt x="8855" y="16123"/>
                </a:cubicBezTo>
                <a:cubicBezTo>
                  <a:pt x="8893" y="16154"/>
                  <a:pt x="8870" y="16149"/>
                  <a:pt x="8880" y="16098"/>
                </a:cubicBezTo>
              </a:path>
              <a:path w="6227" h="7542">
                <a:moveTo>
                  <a:pt x="7541" y="17190"/>
                </a:moveTo>
                <a:cubicBezTo>
                  <a:pt x="7675" y="17171"/>
                  <a:pt x="7697" y="17180"/>
                  <a:pt x="7764" y="17140"/>
                </a:cubicBezTo>
              </a:path>
              <a:path w="6227" h="7542">
                <a:moveTo>
                  <a:pt x="7417" y="17363"/>
                </a:moveTo>
                <a:cubicBezTo>
                  <a:pt x="7546" y="17432"/>
                  <a:pt x="7523" y="17438"/>
                  <a:pt x="7640" y="17438"/>
                </a:cubicBezTo>
              </a:path>
              <a:path w="6227" h="7542">
                <a:moveTo>
                  <a:pt x="8186" y="17066"/>
                </a:moveTo>
                <a:cubicBezTo>
                  <a:pt x="8165" y="17045"/>
                  <a:pt x="8084" y="16944"/>
                  <a:pt x="8037" y="16991"/>
                </a:cubicBezTo>
                <a:cubicBezTo>
                  <a:pt x="8011" y="17017"/>
                  <a:pt x="8020" y="17132"/>
                  <a:pt x="8037" y="17165"/>
                </a:cubicBezTo>
                <a:cubicBezTo>
                  <a:pt x="8089" y="17265"/>
                  <a:pt x="8131" y="17340"/>
                  <a:pt x="8136" y="17462"/>
                </a:cubicBezTo>
                <a:cubicBezTo>
                  <a:pt x="8138" y="17512"/>
                  <a:pt x="8154" y="17636"/>
                  <a:pt x="8086" y="17661"/>
                </a:cubicBezTo>
                <a:cubicBezTo>
                  <a:pt x="8034" y="17680"/>
                  <a:pt x="7975" y="17664"/>
                  <a:pt x="7962" y="17611"/>
                </a:cubicBezTo>
                <a:cubicBezTo>
                  <a:pt x="7950" y="17564"/>
                  <a:pt x="7962" y="17485"/>
                  <a:pt x="7962" y="17438"/>
                </a:cubicBezTo>
              </a:path>
              <a:path w="6227" h="7542">
                <a:moveTo>
                  <a:pt x="8359" y="17314"/>
                </a:moveTo>
                <a:cubicBezTo>
                  <a:pt x="8346" y="17396"/>
                  <a:pt x="8334" y="17645"/>
                  <a:pt x="8334" y="17562"/>
                </a:cubicBezTo>
                <a:cubicBezTo>
                  <a:pt x="8334" y="17554"/>
                  <a:pt x="8334" y="17545"/>
                  <a:pt x="8334" y="17537"/>
                </a:cubicBezTo>
              </a:path>
              <a:path w="6227" h="7542">
                <a:moveTo>
                  <a:pt x="8508" y="16867"/>
                </a:moveTo>
                <a:cubicBezTo>
                  <a:pt x="8531" y="16844"/>
                  <a:pt x="8539" y="16833"/>
                  <a:pt x="8533" y="16867"/>
                </a:cubicBezTo>
              </a:path>
              <a:path w="6227" h="7542">
                <a:moveTo>
                  <a:pt x="8533" y="17487"/>
                </a:moveTo>
                <a:cubicBezTo>
                  <a:pt x="8533" y="17504"/>
                  <a:pt x="8533" y="17520"/>
                  <a:pt x="8533" y="17537"/>
                </a:cubicBezTo>
                <a:cubicBezTo>
                  <a:pt x="8585" y="17453"/>
                  <a:pt x="8609" y="17367"/>
                  <a:pt x="8657" y="17289"/>
                </a:cubicBezTo>
                <a:cubicBezTo>
                  <a:pt x="8684" y="17245"/>
                  <a:pt x="8699" y="17205"/>
                  <a:pt x="8731" y="17165"/>
                </a:cubicBezTo>
                <a:cubicBezTo>
                  <a:pt x="8781" y="17178"/>
                  <a:pt x="8820" y="17233"/>
                  <a:pt x="8830" y="17289"/>
                </a:cubicBezTo>
                <a:cubicBezTo>
                  <a:pt x="8846" y="17382"/>
                  <a:pt x="8843" y="17475"/>
                  <a:pt x="8880" y="17562"/>
                </a:cubicBezTo>
                <a:cubicBezTo>
                  <a:pt x="8919" y="17653"/>
                  <a:pt x="8930" y="17548"/>
                  <a:pt x="8954" y="17487"/>
                </a:cubicBezTo>
              </a:path>
              <a:path w="6227" h="7542">
                <a:moveTo>
                  <a:pt x="9401" y="16966"/>
                </a:moveTo>
                <a:cubicBezTo>
                  <a:pt x="9441" y="17026"/>
                  <a:pt x="9445" y="17064"/>
                  <a:pt x="9475" y="17016"/>
                </a:cubicBezTo>
                <a:cubicBezTo>
                  <a:pt x="9475" y="16969"/>
                  <a:pt x="9491" y="16879"/>
                  <a:pt x="9451" y="16842"/>
                </a:cubicBezTo>
                <a:cubicBezTo>
                  <a:pt x="9402" y="16797"/>
                  <a:pt x="9278" y="16811"/>
                  <a:pt x="9227" y="16842"/>
                </a:cubicBezTo>
                <a:cubicBezTo>
                  <a:pt x="9149" y="16890"/>
                  <a:pt x="9132" y="16986"/>
                  <a:pt x="9128" y="17066"/>
                </a:cubicBezTo>
                <a:cubicBezTo>
                  <a:pt x="9124" y="17141"/>
                  <a:pt x="9163" y="17274"/>
                  <a:pt x="9203" y="17338"/>
                </a:cubicBezTo>
                <a:cubicBezTo>
                  <a:pt x="9251" y="17414"/>
                  <a:pt x="9349" y="17473"/>
                  <a:pt x="9401" y="17537"/>
                </a:cubicBezTo>
                <a:cubicBezTo>
                  <a:pt x="9447" y="17593"/>
                  <a:pt x="9426" y="17587"/>
                  <a:pt x="9500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68280" y="5170320"/>
            <a:ext cx="2320920" cy="723960"/>
          </a:xfrm>
          <a:custGeom>
            <a:avLst/>
            <a:gdLst/>
            <a:ahLst/>
            <a:rect l="l" t="t" r="r" b="b"/>
            <a:pathLst>
              <a:path w="6450" h="2010">
                <a:moveTo>
                  <a:pt x="3572" y="14412"/>
                </a:moveTo>
                <a:cubicBezTo>
                  <a:pt x="3654" y="14412"/>
                  <a:pt x="3783" y="14387"/>
                  <a:pt x="3845" y="14436"/>
                </a:cubicBezTo>
                <a:cubicBezTo>
                  <a:pt x="3866" y="14452"/>
                  <a:pt x="3933" y="14505"/>
                  <a:pt x="3919" y="14536"/>
                </a:cubicBezTo>
                <a:cubicBezTo>
                  <a:pt x="3889" y="14602"/>
                  <a:pt x="3832" y="14649"/>
                  <a:pt x="3770" y="14684"/>
                </a:cubicBezTo>
                <a:cubicBezTo>
                  <a:pt x="3762" y="14688"/>
                  <a:pt x="3646" y="14734"/>
                  <a:pt x="3646" y="14734"/>
                </a:cubicBezTo>
                <a:cubicBezTo>
                  <a:pt x="3607" y="14782"/>
                  <a:pt x="3637" y="14740"/>
                  <a:pt x="3671" y="14759"/>
                </a:cubicBezTo>
                <a:cubicBezTo>
                  <a:pt x="3736" y="14795"/>
                  <a:pt x="3782" y="14800"/>
                  <a:pt x="3845" y="14858"/>
                </a:cubicBezTo>
                <a:cubicBezTo>
                  <a:pt x="3881" y="14891"/>
                  <a:pt x="3961" y="15006"/>
                  <a:pt x="3944" y="15056"/>
                </a:cubicBezTo>
                <a:cubicBezTo>
                  <a:pt x="3930" y="15098"/>
                  <a:pt x="3884" y="15123"/>
                  <a:pt x="3845" y="15131"/>
                </a:cubicBezTo>
                <a:cubicBezTo>
                  <a:pt x="3771" y="15146"/>
                  <a:pt x="3689" y="15097"/>
                  <a:pt x="3621" y="15081"/>
                </a:cubicBezTo>
                <a:cubicBezTo>
                  <a:pt x="3546" y="15063"/>
                  <a:pt x="3520" y="15049"/>
                  <a:pt x="3547" y="14982"/>
                </a:cubicBezTo>
              </a:path>
              <a:path w="6450" h="2010">
                <a:moveTo>
                  <a:pt x="4242" y="14833"/>
                </a:moveTo>
                <a:cubicBezTo>
                  <a:pt x="4259" y="14868"/>
                  <a:pt x="4304" y="14806"/>
                  <a:pt x="4366" y="14759"/>
                </a:cubicBezTo>
              </a:path>
              <a:path w="6450" h="2010">
                <a:moveTo>
                  <a:pt x="4762" y="14610"/>
                </a:moveTo>
                <a:cubicBezTo>
                  <a:pt x="4687" y="14610"/>
                  <a:pt x="4627" y="14616"/>
                  <a:pt x="4564" y="14635"/>
                </a:cubicBezTo>
                <a:cubicBezTo>
                  <a:pt x="4478" y="14661"/>
                  <a:pt x="4584" y="14733"/>
                  <a:pt x="4614" y="14759"/>
                </a:cubicBezTo>
                <a:cubicBezTo>
                  <a:pt x="4679" y="14817"/>
                  <a:pt x="4691" y="14888"/>
                  <a:pt x="4738" y="14957"/>
                </a:cubicBezTo>
                <a:cubicBezTo>
                  <a:pt x="4759" y="14988"/>
                  <a:pt x="4789" y="15055"/>
                  <a:pt x="4738" y="15081"/>
                </a:cubicBezTo>
                <a:cubicBezTo>
                  <a:pt x="4699" y="15101"/>
                  <a:pt x="4646" y="15064"/>
                  <a:pt x="4614" y="15056"/>
                </a:cubicBezTo>
                <a:cubicBezTo>
                  <a:pt x="4554" y="15041"/>
                  <a:pt x="4544" y="15019"/>
                  <a:pt x="4539" y="14957"/>
                </a:cubicBezTo>
                <a:cubicBezTo>
                  <a:pt x="4539" y="14949"/>
                  <a:pt x="4539" y="14940"/>
                  <a:pt x="4539" y="14932"/>
                </a:cubicBezTo>
              </a:path>
              <a:path w="6450" h="2010">
                <a:moveTo>
                  <a:pt x="4986" y="14759"/>
                </a:moveTo>
                <a:cubicBezTo>
                  <a:pt x="4993" y="14857"/>
                  <a:pt x="4995" y="14896"/>
                  <a:pt x="4986" y="14982"/>
                </a:cubicBezTo>
                <a:cubicBezTo>
                  <a:pt x="4986" y="15007"/>
                  <a:pt x="4986" y="15015"/>
                  <a:pt x="4986" y="14982"/>
                </a:cubicBezTo>
              </a:path>
              <a:path w="6450" h="2010">
                <a:moveTo>
                  <a:pt x="4936" y="14387"/>
                </a:moveTo>
                <a:cubicBezTo>
                  <a:pt x="4977" y="14367"/>
                  <a:pt x="4983" y="14358"/>
                  <a:pt x="5011" y="14362"/>
                </a:cubicBezTo>
              </a:path>
              <a:path w="6450" h="2010">
                <a:moveTo>
                  <a:pt x="5135" y="14883"/>
                </a:moveTo>
                <a:cubicBezTo>
                  <a:pt x="5135" y="14973"/>
                  <a:pt x="5135" y="15056"/>
                  <a:pt x="5135" y="14932"/>
                </a:cubicBezTo>
                <a:cubicBezTo>
                  <a:pt x="5135" y="14876"/>
                  <a:pt x="5151" y="14836"/>
                  <a:pt x="5159" y="14784"/>
                </a:cubicBezTo>
                <a:cubicBezTo>
                  <a:pt x="5168" y="14730"/>
                  <a:pt x="5205" y="14635"/>
                  <a:pt x="5283" y="14660"/>
                </a:cubicBezTo>
                <a:cubicBezTo>
                  <a:pt x="5341" y="14679"/>
                  <a:pt x="5380" y="14733"/>
                  <a:pt x="5407" y="14784"/>
                </a:cubicBezTo>
                <a:cubicBezTo>
                  <a:pt x="5444" y="14854"/>
                  <a:pt x="5478" y="14930"/>
                  <a:pt x="5482" y="15007"/>
                </a:cubicBezTo>
                <a:cubicBezTo>
                  <a:pt x="5483" y="15017"/>
                  <a:pt x="5482" y="15173"/>
                  <a:pt x="5482" y="15106"/>
                </a:cubicBezTo>
              </a:path>
              <a:path w="6450" h="2010">
                <a:moveTo>
                  <a:pt x="5655" y="14536"/>
                </a:moveTo>
                <a:cubicBezTo>
                  <a:pt x="5730" y="14558"/>
                  <a:pt x="5796" y="14556"/>
                  <a:pt x="5829" y="14635"/>
                </a:cubicBezTo>
                <a:cubicBezTo>
                  <a:pt x="5849" y="14683"/>
                  <a:pt x="5824" y="14724"/>
                  <a:pt x="5804" y="14759"/>
                </a:cubicBezTo>
                <a:cubicBezTo>
                  <a:pt x="5768" y="14820"/>
                  <a:pt x="5695" y="14901"/>
                  <a:pt x="5680" y="14957"/>
                </a:cubicBezTo>
                <a:cubicBezTo>
                  <a:pt x="5662" y="15024"/>
                  <a:pt x="5693" y="15060"/>
                  <a:pt x="5755" y="15081"/>
                </a:cubicBezTo>
                <a:cubicBezTo>
                  <a:pt x="5857" y="15115"/>
                  <a:pt x="5881" y="15105"/>
                  <a:pt x="5978" y="15056"/>
                </a:cubicBezTo>
              </a:path>
              <a:path w="6450" h="2010">
                <a:moveTo>
                  <a:pt x="6052" y="14610"/>
                </a:moveTo>
                <a:cubicBezTo>
                  <a:pt x="6052" y="14676"/>
                  <a:pt x="6046" y="14757"/>
                  <a:pt x="6127" y="14784"/>
                </a:cubicBezTo>
                <a:cubicBezTo>
                  <a:pt x="6169" y="14798"/>
                  <a:pt x="6206" y="14802"/>
                  <a:pt x="6251" y="14808"/>
                </a:cubicBezTo>
              </a:path>
              <a:path w="6450" h="2010">
                <a:moveTo>
                  <a:pt x="6350" y="14536"/>
                </a:moveTo>
                <a:cubicBezTo>
                  <a:pt x="6326" y="14488"/>
                  <a:pt x="6306" y="14597"/>
                  <a:pt x="6300" y="14635"/>
                </a:cubicBezTo>
                <a:cubicBezTo>
                  <a:pt x="6284" y="14727"/>
                  <a:pt x="6276" y="14813"/>
                  <a:pt x="6276" y="14908"/>
                </a:cubicBezTo>
                <a:cubicBezTo>
                  <a:pt x="6276" y="14962"/>
                  <a:pt x="6280" y="15080"/>
                  <a:pt x="6300" y="15131"/>
                </a:cubicBezTo>
                <a:cubicBezTo>
                  <a:pt x="6315" y="15171"/>
                  <a:pt x="6325" y="15158"/>
                  <a:pt x="6325" y="15205"/>
                </a:cubicBezTo>
              </a:path>
              <a:path w="6450" h="2010">
                <a:moveTo>
                  <a:pt x="6623" y="14833"/>
                </a:moveTo>
                <a:cubicBezTo>
                  <a:pt x="6742" y="14838"/>
                  <a:pt x="6832" y="14858"/>
                  <a:pt x="6945" y="14858"/>
                </a:cubicBezTo>
              </a:path>
              <a:path w="6450" h="2010">
                <a:moveTo>
                  <a:pt x="6722" y="15131"/>
                </a:moveTo>
                <a:cubicBezTo>
                  <a:pt x="6882" y="15147"/>
                  <a:pt x="6854" y="15165"/>
                  <a:pt x="6970" y="15106"/>
                </a:cubicBezTo>
              </a:path>
              <a:path w="6450" h="2010">
                <a:moveTo>
                  <a:pt x="7169" y="14610"/>
                </a:moveTo>
                <a:cubicBezTo>
                  <a:pt x="7269" y="14596"/>
                  <a:pt x="7318" y="14610"/>
                  <a:pt x="7417" y="14610"/>
                </a:cubicBezTo>
                <a:cubicBezTo>
                  <a:pt x="7480" y="14610"/>
                  <a:pt x="7525" y="14635"/>
                  <a:pt x="7590" y="14635"/>
                </a:cubicBezTo>
                <a:cubicBezTo>
                  <a:pt x="7598" y="14635"/>
                  <a:pt x="7607" y="14635"/>
                  <a:pt x="7615" y="14635"/>
                </a:cubicBezTo>
                <a:cubicBezTo>
                  <a:pt x="7615" y="14678"/>
                  <a:pt x="7606" y="14721"/>
                  <a:pt x="7590" y="14759"/>
                </a:cubicBezTo>
                <a:cubicBezTo>
                  <a:pt x="7556" y="14844"/>
                  <a:pt x="7544" y="14938"/>
                  <a:pt x="7541" y="15032"/>
                </a:cubicBezTo>
                <a:cubicBezTo>
                  <a:pt x="7538" y="15101"/>
                  <a:pt x="7519" y="15361"/>
                  <a:pt x="7565" y="15329"/>
                </a:cubicBezTo>
              </a:path>
              <a:path w="6450" h="2010">
                <a:moveTo>
                  <a:pt x="7813" y="14932"/>
                </a:moveTo>
                <a:cubicBezTo>
                  <a:pt x="7858" y="14966"/>
                  <a:pt x="7868" y="14966"/>
                  <a:pt x="7913" y="14932"/>
                </a:cubicBezTo>
              </a:path>
              <a:path w="6450" h="2010">
                <a:moveTo>
                  <a:pt x="8409" y="14808"/>
                </a:moveTo>
                <a:cubicBezTo>
                  <a:pt x="8401" y="14760"/>
                  <a:pt x="8394" y="14738"/>
                  <a:pt x="8334" y="14734"/>
                </a:cubicBezTo>
                <a:cubicBezTo>
                  <a:pt x="8297" y="14731"/>
                  <a:pt x="8206" y="14718"/>
                  <a:pt x="8186" y="14759"/>
                </a:cubicBezTo>
                <a:cubicBezTo>
                  <a:pt x="8166" y="14800"/>
                  <a:pt x="8195" y="14873"/>
                  <a:pt x="8210" y="14908"/>
                </a:cubicBezTo>
                <a:cubicBezTo>
                  <a:pt x="8247" y="14992"/>
                  <a:pt x="8294" y="15072"/>
                  <a:pt x="8334" y="15156"/>
                </a:cubicBezTo>
                <a:cubicBezTo>
                  <a:pt x="8359" y="15208"/>
                  <a:pt x="8381" y="15273"/>
                  <a:pt x="8310" y="15304"/>
                </a:cubicBezTo>
                <a:cubicBezTo>
                  <a:pt x="8265" y="15324"/>
                  <a:pt x="8215" y="15282"/>
                  <a:pt x="8186" y="15255"/>
                </a:cubicBezTo>
                <a:cubicBezTo>
                  <a:pt x="8164" y="15235"/>
                  <a:pt x="8124" y="15162"/>
                  <a:pt x="8136" y="15131"/>
                </a:cubicBezTo>
                <a:cubicBezTo>
                  <a:pt x="8144" y="15123"/>
                  <a:pt x="8153" y="15114"/>
                  <a:pt x="8161" y="15106"/>
                </a:cubicBezTo>
              </a:path>
              <a:path w="6450" h="2010">
                <a:moveTo>
                  <a:pt x="8558" y="14932"/>
                </a:moveTo>
                <a:cubicBezTo>
                  <a:pt x="8564" y="15042"/>
                  <a:pt x="8579" y="15136"/>
                  <a:pt x="8607" y="15230"/>
                </a:cubicBezTo>
                <a:cubicBezTo>
                  <a:pt x="8607" y="15258"/>
                  <a:pt x="8609" y="15264"/>
                  <a:pt x="8632" y="15230"/>
                </a:cubicBezTo>
              </a:path>
              <a:path w="6450" h="2010">
                <a:moveTo>
                  <a:pt x="8632" y="14585"/>
                </a:moveTo>
                <a:cubicBezTo>
                  <a:pt x="8665" y="14585"/>
                  <a:pt x="8698" y="14585"/>
                  <a:pt x="8731" y="14585"/>
                </a:cubicBezTo>
              </a:path>
              <a:path w="6450" h="2010">
                <a:moveTo>
                  <a:pt x="8806" y="14982"/>
                </a:moveTo>
                <a:cubicBezTo>
                  <a:pt x="8806" y="15065"/>
                  <a:pt x="8806" y="15147"/>
                  <a:pt x="8806" y="15230"/>
                </a:cubicBezTo>
                <a:cubicBezTo>
                  <a:pt x="8815" y="15191"/>
                  <a:pt x="8818" y="15147"/>
                  <a:pt x="8830" y="15106"/>
                </a:cubicBezTo>
                <a:cubicBezTo>
                  <a:pt x="8844" y="15058"/>
                  <a:pt x="8855" y="14973"/>
                  <a:pt x="8880" y="14932"/>
                </a:cubicBezTo>
                <a:cubicBezTo>
                  <a:pt x="8898" y="14902"/>
                  <a:pt x="8968" y="14863"/>
                  <a:pt x="9004" y="14883"/>
                </a:cubicBezTo>
                <a:cubicBezTo>
                  <a:pt x="9115" y="14945"/>
                  <a:pt x="9080" y="14989"/>
                  <a:pt x="9128" y="15106"/>
                </a:cubicBezTo>
                <a:cubicBezTo>
                  <a:pt x="9146" y="15149"/>
                  <a:pt x="9132" y="15239"/>
                  <a:pt x="9178" y="15230"/>
                </a:cubicBezTo>
                <a:cubicBezTo>
                  <a:pt x="9196" y="15226"/>
                  <a:pt x="9217" y="15170"/>
                  <a:pt x="9227" y="15156"/>
                </a:cubicBezTo>
              </a:path>
              <a:path w="6450" h="2010">
                <a:moveTo>
                  <a:pt x="9649" y="14709"/>
                </a:moveTo>
                <a:cubicBezTo>
                  <a:pt x="9666" y="14687"/>
                  <a:pt x="9693" y="14644"/>
                  <a:pt x="9674" y="14610"/>
                </a:cubicBezTo>
                <a:cubicBezTo>
                  <a:pt x="9640" y="14550"/>
                  <a:pt x="9584" y="14605"/>
                  <a:pt x="9550" y="14610"/>
                </a:cubicBezTo>
                <a:cubicBezTo>
                  <a:pt x="9483" y="14620"/>
                  <a:pt x="9394" y="14660"/>
                  <a:pt x="9351" y="14734"/>
                </a:cubicBezTo>
                <a:cubicBezTo>
                  <a:pt x="9303" y="14815"/>
                  <a:pt x="9327" y="14951"/>
                  <a:pt x="9351" y="15032"/>
                </a:cubicBezTo>
                <a:cubicBezTo>
                  <a:pt x="9373" y="15106"/>
                  <a:pt x="9471" y="15135"/>
                  <a:pt x="9525" y="15180"/>
                </a:cubicBezTo>
                <a:cubicBezTo>
                  <a:pt x="9600" y="15242"/>
                  <a:pt x="9637" y="15252"/>
                  <a:pt x="9723" y="15280"/>
                </a:cubicBezTo>
                <a:cubicBezTo>
                  <a:pt x="9794" y="15303"/>
                  <a:pt x="9846" y="15304"/>
                  <a:pt x="9922" y="15304"/>
                </a:cubicBezTo>
                <a:cubicBezTo>
                  <a:pt x="9958" y="15304"/>
                  <a:pt x="10000" y="15298"/>
                  <a:pt x="9947" y="15280"/>
                </a:cubicBezTo>
              </a:path>
              <a:path w="6450" h="2010">
                <a:moveTo>
                  <a:pt x="7441" y="15404"/>
                </a:moveTo>
                <a:cubicBezTo>
                  <a:pt x="7473" y="15385"/>
                  <a:pt x="7485" y="15382"/>
                  <a:pt x="7541" y="15379"/>
                </a:cubicBezTo>
                <a:cubicBezTo>
                  <a:pt x="7616" y="15375"/>
                  <a:pt x="7715" y="15368"/>
                  <a:pt x="7789" y="15354"/>
                </a:cubicBezTo>
                <a:cubicBezTo>
                  <a:pt x="7929" y="15327"/>
                  <a:pt x="8068" y="15319"/>
                  <a:pt x="8210" y="15304"/>
                </a:cubicBezTo>
                <a:cubicBezTo>
                  <a:pt x="8382" y="15286"/>
                  <a:pt x="8561" y="15277"/>
                  <a:pt x="8731" y="15255"/>
                </a:cubicBezTo>
                <a:cubicBezTo>
                  <a:pt x="8850" y="15240"/>
                  <a:pt x="8957" y="15230"/>
                  <a:pt x="9079" y="15230"/>
                </a:cubicBezTo>
                <a:cubicBezTo>
                  <a:pt x="9156" y="15230"/>
                  <a:pt x="9275" y="15225"/>
                  <a:pt x="9351" y="15205"/>
                </a:cubicBezTo>
                <a:cubicBezTo>
                  <a:pt x="9416" y="15188"/>
                  <a:pt x="9456" y="15180"/>
                  <a:pt x="9525" y="15180"/>
                </a:cubicBezTo>
                <a:cubicBezTo>
                  <a:pt x="9572" y="15180"/>
                  <a:pt x="9557" y="15165"/>
                  <a:pt x="9575" y="15156"/>
                </a:cubicBezTo>
              </a:path>
              <a:path w="6450" h="2010">
                <a:moveTo>
                  <a:pt x="8285" y="15503"/>
                </a:moveTo>
                <a:cubicBezTo>
                  <a:pt x="8375" y="15503"/>
                  <a:pt x="8446" y="15515"/>
                  <a:pt x="8533" y="15528"/>
                </a:cubicBezTo>
                <a:cubicBezTo>
                  <a:pt x="8607" y="15539"/>
                  <a:pt x="8685" y="15531"/>
                  <a:pt x="8756" y="15553"/>
                </a:cubicBezTo>
                <a:cubicBezTo>
                  <a:pt x="8781" y="15561"/>
                  <a:pt x="8841" y="15604"/>
                  <a:pt x="8830" y="15627"/>
                </a:cubicBezTo>
                <a:cubicBezTo>
                  <a:pt x="8805" y="15679"/>
                  <a:pt x="8786" y="15720"/>
                  <a:pt x="8756" y="15776"/>
                </a:cubicBezTo>
                <a:cubicBezTo>
                  <a:pt x="8724" y="15836"/>
                  <a:pt x="8696" y="15982"/>
                  <a:pt x="8706" y="16049"/>
                </a:cubicBezTo>
                <a:cubicBezTo>
                  <a:pt x="8720" y="16138"/>
                  <a:pt x="8758" y="16253"/>
                  <a:pt x="8731" y="16346"/>
                </a:cubicBezTo>
                <a:cubicBezTo>
                  <a:pt x="8723" y="16354"/>
                  <a:pt x="8714" y="16363"/>
                  <a:pt x="8706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4760" y="3786120"/>
            <a:ext cx="241200" cy="384120"/>
          </a:xfrm>
          <a:custGeom>
            <a:avLst/>
            <a:gdLst/>
            <a:ahLst/>
            <a:rect l="l" t="t" r="r" b="b"/>
            <a:pathLst>
              <a:path w="671" h="1068">
                <a:moveTo>
                  <a:pt x="1166" y="10914"/>
                </a:moveTo>
                <a:cubicBezTo>
                  <a:pt x="1152" y="11035"/>
                  <a:pt x="1159" y="11165"/>
                  <a:pt x="1141" y="11286"/>
                </a:cubicBezTo>
                <a:cubicBezTo>
                  <a:pt x="1127" y="11380"/>
                  <a:pt x="1116" y="11461"/>
                  <a:pt x="1116" y="11559"/>
                </a:cubicBezTo>
                <a:cubicBezTo>
                  <a:pt x="1116" y="11567"/>
                  <a:pt x="1116" y="11576"/>
                  <a:pt x="1116" y="11584"/>
                </a:cubicBezTo>
                <a:cubicBezTo>
                  <a:pt x="1103" y="11565"/>
                  <a:pt x="1075" y="11534"/>
                  <a:pt x="1067" y="11485"/>
                </a:cubicBezTo>
                <a:cubicBezTo>
                  <a:pt x="1051" y="11387"/>
                  <a:pt x="1036" y="11209"/>
                  <a:pt x="1042" y="11112"/>
                </a:cubicBezTo>
                <a:cubicBezTo>
                  <a:pt x="1049" y="10992"/>
                  <a:pt x="1061" y="10887"/>
                  <a:pt x="1067" y="10765"/>
                </a:cubicBezTo>
                <a:cubicBezTo>
                  <a:pt x="1071" y="10676"/>
                  <a:pt x="1088" y="10623"/>
                  <a:pt x="1116" y="10567"/>
                </a:cubicBezTo>
                <a:cubicBezTo>
                  <a:pt x="1136" y="10526"/>
                  <a:pt x="1134" y="10510"/>
                  <a:pt x="1166" y="10517"/>
                </a:cubicBezTo>
                <a:cubicBezTo>
                  <a:pt x="1255" y="10566"/>
                  <a:pt x="1256" y="10566"/>
                  <a:pt x="1315" y="10641"/>
                </a:cubicBezTo>
                <a:cubicBezTo>
                  <a:pt x="1376" y="10719"/>
                  <a:pt x="1453" y="10785"/>
                  <a:pt x="1513" y="10864"/>
                </a:cubicBezTo>
                <a:cubicBezTo>
                  <a:pt x="1565" y="10934"/>
                  <a:pt x="1613" y="11003"/>
                  <a:pt x="1662" y="11063"/>
                </a:cubicBezTo>
                <a:cubicBezTo>
                  <a:pt x="1678" y="11082"/>
                  <a:pt x="1714" y="11164"/>
                  <a:pt x="1712" y="11187"/>
                </a:cubicBezTo>
                <a:cubicBezTo>
                  <a:pt x="1704" y="11195"/>
                  <a:pt x="1695" y="11204"/>
                  <a:pt x="1687" y="11212"/>
                </a:cubicBezTo>
              </a:path>
              <a:path w="671" h="1068">
                <a:moveTo>
                  <a:pt x="1067" y="11237"/>
                </a:moveTo>
                <a:cubicBezTo>
                  <a:pt x="1122" y="11192"/>
                  <a:pt x="1180" y="11151"/>
                  <a:pt x="1240" y="11112"/>
                </a:cubicBezTo>
                <a:cubicBezTo>
                  <a:pt x="1363" y="11032"/>
                  <a:pt x="1491" y="10972"/>
                  <a:pt x="161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0200" y="3589200"/>
            <a:ext cx="795600" cy="376200"/>
          </a:xfrm>
          <a:custGeom>
            <a:avLst/>
            <a:gdLst/>
            <a:ahLst/>
            <a:rect l="l" t="t" r="r" b="b"/>
            <a:pathLst>
              <a:path w="2209" h="1043">
                <a:moveTo>
                  <a:pt x="4142" y="10492"/>
                </a:moveTo>
                <a:cubicBezTo>
                  <a:pt x="4101" y="10419"/>
                  <a:pt x="4100" y="10418"/>
                  <a:pt x="4018" y="10418"/>
                </a:cubicBezTo>
                <a:cubicBezTo>
                  <a:pt x="3945" y="10418"/>
                  <a:pt x="3912" y="10426"/>
                  <a:pt x="3845" y="10443"/>
                </a:cubicBezTo>
                <a:cubicBezTo>
                  <a:pt x="3797" y="10455"/>
                  <a:pt x="3765" y="10507"/>
                  <a:pt x="3746" y="10517"/>
                </a:cubicBezTo>
                <a:cubicBezTo>
                  <a:pt x="3738" y="10517"/>
                  <a:pt x="3729" y="10517"/>
                  <a:pt x="3721" y="10517"/>
                </a:cubicBezTo>
                <a:cubicBezTo>
                  <a:pt x="3748" y="10558"/>
                  <a:pt x="3819" y="10621"/>
                  <a:pt x="3870" y="10641"/>
                </a:cubicBezTo>
                <a:cubicBezTo>
                  <a:pt x="3930" y="10664"/>
                  <a:pt x="4019" y="10726"/>
                  <a:pt x="4068" y="10790"/>
                </a:cubicBezTo>
                <a:cubicBezTo>
                  <a:pt x="4104" y="10837"/>
                  <a:pt x="4183" y="10931"/>
                  <a:pt x="4118" y="10988"/>
                </a:cubicBezTo>
                <a:cubicBezTo>
                  <a:pt x="4084" y="11018"/>
                  <a:pt x="4017" y="11013"/>
                  <a:pt x="3969" y="11013"/>
                </a:cubicBezTo>
                <a:cubicBezTo>
                  <a:pt x="3902" y="11013"/>
                  <a:pt x="3856" y="10998"/>
                  <a:pt x="3795" y="10988"/>
                </a:cubicBezTo>
                <a:cubicBezTo>
                  <a:pt x="3739" y="10979"/>
                  <a:pt x="3710" y="10956"/>
                  <a:pt x="3696" y="10914"/>
                </a:cubicBezTo>
              </a:path>
              <a:path w="2209" h="1043">
                <a:moveTo>
                  <a:pt x="4366" y="10567"/>
                </a:moveTo>
                <a:cubicBezTo>
                  <a:pt x="4366" y="10672"/>
                  <a:pt x="4346" y="10744"/>
                  <a:pt x="4341" y="10840"/>
                </a:cubicBezTo>
                <a:cubicBezTo>
                  <a:pt x="4340" y="10854"/>
                  <a:pt x="4341" y="11019"/>
                  <a:pt x="4341" y="10889"/>
                </a:cubicBezTo>
                <a:cubicBezTo>
                  <a:pt x="4341" y="10881"/>
                  <a:pt x="4341" y="10872"/>
                  <a:pt x="4341" y="10864"/>
                </a:cubicBezTo>
              </a:path>
              <a:path w="2209" h="1043">
                <a:moveTo>
                  <a:pt x="4390" y="10195"/>
                </a:moveTo>
                <a:cubicBezTo>
                  <a:pt x="4390" y="10178"/>
                  <a:pt x="4390" y="10162"/>
                  <a:pt x="4390" y="10145"/>
                </a:cubicBezTo>
              </a:path>
              <a:path w="2209" h="1043">
                <a:moveTo>
                  <a:pt x="4589" y="10716"/>
                </a:moveTo>
                <a:cubicBezTo>
                  <a:pt x="4589" y="10857"/>
                  <a:pt x="4558" y="10790"/>
                  <a:pt x="4564" y="10765"/>
                </a:cubicBezTo>
                <a:cubicBezTo>
                  <a:pt x="4575" y="10715"/>
                  <a:pt x="4602" y="10649"/>
                  <a:pt x="4614" y="10592"/>
                </a:cubicBezTo>
                <a:cubicBezTo>
                  <a:pt x="4628" y="10525"/>
                  <a:pt x="4672" y="10446"/>
                  <a:pt x="4738" y="10418"/>
                </a:cubicBezTo>
                <a:cubicBezTo>
                  <a:pt x="4842" y="10374"/>
                  <a:pt x="4865" y="10451"/>
                  <a:pt x="4911" y="10492"/>
                </a:cubicBezTo>
                <a:cubicBezTo>
                  <a:pt x="4954" y="10531"/>
                  <a:pt x="4975" y="10620"/>
                  <a:pt x="4986" y="10691"/>
                </a:cubicBezTo>
                <a:cubicBezTo>
                  <a:pt x="4988" y="10707"/>
                  <a:pt x="4997" y="10901"/>
                  <a:pt x="4961" y="10889"/>
                </a:cubicBezTo>
                <a:cubicBezTo>
                  <a:pt x="4961" y="10864"/>
                  <a:pt x="4961" y="10856"/>
                  <a:pt x="4961" y="10840"/>
                </a:cubicBezTo>
              </a:path>
              <a:path w="2209" h="1043">
                <a:moveTo>
                  <a:pt x="5358" y="10418"/>
                </a:moveTo>
                <a:cubicBezTo>
                  <a:pt x="5323" y="10519"/>
                  <a:pt x="5232" y="10697"/>
                  <a:pt x="5209" y="10815"/>
                </a:cubicBezTo>
                <a:cubicBezTo>
                  <a:pt x="5209" y="10856"/>
                  <a:pt x="5217" y="10872"/>
                  <a:pt x="5184" y="10864"/>
                </a:cubicBezTo>
                <a:cubicBezTo>
                  <a:pt x="5184" y="10928"/>
                  <a:pt x="5208" y="10795"/>
                  <a:pt x="5209" y="10790"/>
                </a:cubicBezTo>
                <a:cubicBezTo>
                  <a:pt x="5222" y="10715"/>
                  <a:pt x="5221" y="10642"/>
                  <a:pt x="5234" y="10567"/>
                </a:cubicBezTo>
                <a:cubicBezTo>
                  <a:pt x="5252" y="10460"/>
                  <a:pt x="5310" y="10343"/>
                  <a:pt x="5333" y="10269"/>
                </a:cubicBezTo>
                <a:cubicBezTo>
                  <a:pt x="5359" y="10183"/>
                  <a:pt x="5384" y="10126"/>
                  <a:pt x="5432" y="10046"/>
                </a:cubicBezTo>
                <a:cubicBezTo>
                  <a:pt x="5453" y="10011"/>
                  <a:pt x="5500" y="9940"/>
                  <a:pt x="5556" y="9971"/>
                </a:cubicBezTo>
                <a:cubicBezTo>
                  <a:pt x="5609" y="10000"/>
                  <a:pt x="5620" y="10103"/>
                  <a:pt x="5631" y="10145"/>
                </a:cubicBezTo>
                <a:cubicBezTo>
                  <a:pt x="5673" y="10310"/>
                  <a:pt x="5703" y="10481"/>
                  <a:pt x="5755" y="10641"/>
                </a:cubicBezTo>
                <a:cubicBezTo>
                  <a:pt x="5775" y="10702"/>
                  <a:pt x="5798" y="10778"/>
                  <a:pt x="5804" y="10840"/>
                </a:cubicBezTo>
                <a:cubicBezTo>
                  <a:pt x="5804" y="10864"/>
                  <a:pt x="5804" y="10872"/>
                  <a:pt x="5779" y="10864"/>
                </a:cubicBezTo>
              </a:path>
              <a:path w="2209" h="1043">
                <a:moveTo>
                  <a:pt x="5333" y="10492"/>
                </a:moveTo>
                <a:cubicBezTo>
                  <a:pt x="5421" y="10492"/>
                  <a:pt x="5437" y="10461"/>
                  <a:pt x="5507" y="10443"/>
                </a:cubicBezTo>
                <a:cubicBezTo>
                  <a:pt x="5612" y="10416"/>
                  <a:pt x="5748" y="10436"/>
                  <a:pt x="5854" y="10418"/>
                </a:cubicBezTo>
                <a:cubicBezTo>
                  <a:pt x="5871" y="10418"/>
                  <a:pt x="5887" y="10418"/>
                  <a:pt x="5904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00120" y="6037200"/>
            <a:ext cx="1482840" cy="714600"/>
          </a:xfrm>
          <a:custGeom>
            <a:avLst/>
            <a:gdLst/>
            <a:ahLst/>
            <a:rect l="l" t="t" r="r" b="b"/>
            <a:pathLst>
              <a:path w="4119" h="1985">
                <a:moveTo>
                  <a:pt x="4167" y="17214"/>
                </a:moveTo>
                <a:cubicBezTo>
                  <a:pt x="4175" y="17214"/>
                  <a:pt x="4184" y="17214"/>
                  <a:pt x="4192" y="17214"/>
                </a:cubicBezTo>
              </a:path>
              <a:path w="4119" h="1985">
                <a:moveTo>
                  <a:pt x="4614" y="16768"/>
                </a:moveTo>
                <a:cubicBezTo>
                  <a:pt x="4595" y="16897"/>
                  <a:pt x="4593" y="17063"/>
                  <a:pt x="4564" y="17190"/>
                </a:cubicBezTo>
                <a:cubicBezTo>
                  <a:pt x="4550" y="17253"/>
                  <a:pt x="4539" y="17295"/>
                  <a:pt x="4539" y="17363"/>
                </a:cubicBezTo>
                <a:cubicBezTo>
                  <a:pt x="4539" y="17388"/>
                  <a:pt x="4539" y="17396"/>
                  <a:pt x="4564" y="17388"/>
                </a:cubicBezTo>
              </a:path>
              <a:path w="4119" h="1985">
                <a:moveTo>
                  <a:pt x="4787" y="16867"/>
                </a:moveTo>
                <a:cubicBezTo>
                  <a:pt x="4890" y="16775"/>
                  <a:pt x="4884" y="16786"/>
                  <a:pt x="5011" y="16818"/>
                </a:cubicBezTo>
                <a:cubicBezTo>
                  <a:pt x="5055" y="16829"/>
                  <a:pt x="5078" y="16807"/>
                  <a:pt x="5085" y="16867"/>
                </a:cubicBezTo>
                <a:cubicBezTo>
                  <a:pt x="5090" y="16908"/>
                  <a:pt x="5043" y="16947"/>
                  <a:pt x="5035" y="16991"/>
                </a:cubicBezTo>
                <a:cubicBezTo>
                  <a:pt x="5024" y="17053"/>
                  <a:pt x="5028" y="17130"/>
                  <a:pt x="5011" y="17190"/>
                </a:cubicBezTo>
                <a:cubicBezTo>
                  <a:pt x="4988" y="17271"/>
                  <a:pt x="5003" y="17256"/>
                  <a:pt x="5011" y="17338"/>
                </a:cubicBezTo>
                <a:cubicBezTo>
                  <a:pt x="5015" y="17378"/>
                  <a:pt x="5013" y="17344"/>
                  <a:pt x="5035" y="17314"/>
                </a:cubicBezTo>
              </a:path>
              <a:path w="4119" h="1985">
                <a:moveTo>
                  <a:pt x="5259" y="16818"/>
                </a:moveTo>
                <a:cubicBezTo>
                  <a:pt x="5291" y="16860"/>
                  <a:pt x="5267" y="16872"/>
                  <a:pt x="5283" y="16917"/>
                </a:cubicBezTo>
                <a:cubicBezTo>
                  <a:pt x="5312" y="16997"/>
                  <a:pt x="5372" y="17038"/>
                  <a:pt x="5432" y="17090"/>
                </a:cubicBezTo>
                <a:cubicBezTo>
                  <a:pt x="5473" y="17126"/>
                  <a:pt x="5466" y="17121"/>
                  <a:pt x="5507" y="17090"/>
                </a:cubicBezTo>
              </a:path>
              <a:path w="4119" h="1985">
                <a:moveTo>
                  <a:pt x="5631" y="16793"/>
                </a:moveTo>
                <a:cubicBezTo>
                  <a:pt x="5595" y="16864"/>
                  <a:pt x="5566" y="16940"/>
                  <a:pt x="5556" y="17016"/>
                </a:cubicBezTo>
                <a:cubicBezTo>
                  <a:pt x="5545" y="17100"/>
                  <a:pt x="5529" y="17450"/>
                  <a:pt x="5581" y="17363"/>
                </a:cubicBezTo>
              </a:path>
              <a:path w="4119" h="1985">
                <a:moveTo>
                  <a:pt x="5829" y="16892"/>
                </a:moveTo>
                <a:cubicBezTo>
                  <a:pt x="5918" y="16879"/>
                  <a:pt x="5972" y="16855"/>
                  <a:pt x="6028" y="16942"/>
                </a:cubicBezTo>
                <a:cubicBezTo>
                  <a:pt x="6061" y="16994"/>
                  <a:pt x="6084" y="17018"/>
                  <a:pt x="6052" y="17066"/>
                </a:cubicBezTo>
                <a:cubicBezTo>
                  <a:pt x="6010" y="17130"/>
                  <a:pt x="5953" y="17090"/>
                  <a:pt x="5904" y="17115"/>
                </a:cubicBezTo>
                <a:cubicBezTo>
                  <a:pt x="5851" y="17142"/>
                  <a:pt x="5848" y="17140"/>
                  <a:pt x="5904" y="17140"/>
                </a:cubicBezTo>
                <a:cubicBezTo>
                  <a:pt x="5938" y="17140"/>
                  <a:pt x="5978" y="17168"/>
                  <a:pt x="6003" y="17190"/>
                </a:cubicBezTo>
                <a:cubicBezTo>
                  <a:pt x="6030" y="17213"/>
                  <a:pt x="6061" y="17301"/>
                  <a:pt x="6052" y="17338"/>
                </a:cubicBezTo>
                <a:cubicBezTo>
                  <a:pt x="6037" y="17405"/>
                  <a:pt x="6022" y="17410"/>
                  <a:pt x="5978" y="17438"/>
                </a:cubicBezTo>
                <a:cubicBezTo>
                  <a:pt x="5932" y="17468"/>
                  <a:pt x="5913" y="17462"/>
                  <a:pt x="5854" y="17462"/>
                </a:cubicBezTo>
                <a:cubicBezTo>
                  <a:pt x="5803" y="17462"/>
                  <a:pt x="5770" y="17456"/>
                  <a:pt x="5730" y="17438"/>
                </a:cubicBezTo>
              </a:path>
              <a:path w="4119" h="1985">
                <a:moveTo>
                  <a:pt x="5606" y="17835"/>
                </a:moveTo>
                <a:cubicBezTo>
                  <a:pt x="5606" y="17885"/>
                  <a:pt x="5595" y="17893"/>
                  <a:pt x="5581" y="17934"/>
                </a:cubicBezTo>
                <a:cubicBezTo>
                  <a:pt x="5567" y="17976"/>
                  <a:pt x="5581" y="17997"/>
                  <a:pt x="5581" y="17934"/>
                </a:cubicBezTo>
                <a:cubicBezTo>
                  <a:pt x="5581" y="17877"/>
                  <a:pt x="5568" y="17831"/>
                  <a:pt x="5556" y="17785"/>
                </a:cubicBezTo>
                <a:cubicBezTo>
                  <a:pt x="5552" y="17770"/>
                  <a:pt x="5510" y="17719"/>
                  <a:pt x="5482" y="17711"/>
                </a:cubicBezTo>
                <a:cubicBezTo>
                  <a:pt x="5427" y="17696"/>
                  <a:pt x="5331" y="17706"/>
                  <a:pt x="5283" y="17735"/>
                </a:cubicBezTo>
                <a:cubicBezTo>
                  <a:pt x="5224" y="17771"/>
                  <a:pt x="5174" y="17826"/>
                  <a:pt x="5135" y="17884"/>
                </a:cubicBezTo>
                <a:cubicBezTo>
                  <a:pt x="5089" y="17953"/>
                  <a:pt x="5104" y="18017"/>
                  <a:pt x="5110" y="18083"/>
                </a:cubicBezTo>
                <a:cubicBezTo>
                  <a:pt x="5119" y="18187"/>
                  <a:pt x="5148" y="18260"/>
                  <a:pt x="5234" y="18331"/>
                </a:cubicBezTo>
                <a:cubicBezTo>
                  <a:pt x="5293" y="18379"/>
                  <a:pt x="5403" y="18465"/>
                  <a:pt x="5482" y="18479"/>
                </a:cubicBezTo>
                <a:cubicBezTo>
                  <a:pt x="5557" y="18492"/>
                  <a:pt x="5619" y="18473"/>
                  <a:pt x="5680" y="18455"/>
                </a:cubicBezTo>
                <a:cubicBezTo>
                  <a:pt x="5705" y="18448"/>
                  <a:pt x="5765" y="18452"/>
                  <a:pt x="5779" y="18430"/>
                </a:cubicBezTo>
                <a:cubicBezTo>
                  <a:pt x="5796" y="18404"/>
                  <a:pt x="5794" y="18411"/>
                  <a:pt x="5804" y="18380"/>
                </a:cubicBezTo>
              </a:path>
              <a:path w="4119" h="1985">
                <a:moveTo>
                  <a:pt x="6300" y="17983"/>
                </a:moveTo>
                <a:cubicBezTo>
                  <a:pt x="6383" y="17983"/>
                  <a:pt x="6465" y="17983"/>
                  <a:pt x="6548" y="17983"/>
                </a:cubicBezTo>
              </a:path>
              <a:path w="4119" h="1985">
                <a:moveTo>
                  <a:pt x="6400" y="18331"/>
                </a:moveTo>
                <a:cubicBezTo>
                  <a:pt x="6469" y="18351"/>
                  <a:pt x="6503" y="18355"/>
                  <a:pt x="6573" y="18355"/>
                </a:cubicBezTo>
                <a:cubicBezTo>
                  <a:pt x="6647" y="18355"/>
                  <a:pt x="6685" y="18379"/>
                  <a:pt x="6697" y="18306"/>
                </a:cubicBezTo>
              </a:path>
              <a:path w="4119" h="1985">
                <a:moveTo>
                  <a:pt x="7119" y="17959"/>
                </a:moveTo>
                <a:cubicBezTo>
                  <a:pt x="7136" y="18060"/>
                  <a:pt x="7119" y="18148"/>
                  <a:pt x="7119" y="18256"/>
                </a:cubicBezTo>
                <a:cubicBezTo>
                  <a:pt x="7119" y="18429"/>
                  <a:pt x="7119" y="18901"/>
                  <a:pt x="7119" y="18728"/>
                </a:cubicBezTo>
              </a:path>
              <a:path w="4119" h="1985">
                <a:moveTo>
                  <a:pt x="7491" y="18083"/>
                </a:moveTo>
                <a:cubicBezTo>
                  <a:pt x="7491" y="18154"/>
                  <a:pt x="7470" y="18184"/>
                  <a:pt x="7466" y="18256"/>
                </a:cubicBezTo>
                <a:cubicBezTo>
                  <a:pt x="7461" y="18351"/>
                  <a:pt x="7479" y="18417"/>
                  <a:pt x="7516" y="18504"/>
                </a:cubicBezTo>
                <a:cubicBezTo>
                  <a:pt x="7539" y="18558"/>
                  <a:pt x="7585" y="18607"/>
                  <a:pt x="7640" y="18628"/>
                </a:cubicBezTo>
                <a:cubicBezTo>
                  <a:pt x="7703" y="18652"/>
                  <a:pt x="7722" y="18606"/>
                  <a:pt x="7764" y="18579"/>
                </a:cubicBezTo>
                <a:cubicBezTo>
                  <a:pt x="7837" y="18532"/>
                  <a:pt x="7871" y="18459"/>
                  <a:pt x="7913" y="18380"/>
                </a:cubicBezTo>
                <a:cubicBezTo>
                  <a:pt x="7956" y="18299"/>
                  <a:pt x="7938" y="18198"/>
                  <a:pt x="7938" y="18107"/>
                </a:cubicBezTo>
                <a:cubicBezTo>
                  <a:pt x="7938" y="18021"/>
                  <a:pt x="7898" y="17938"/>
                  <a:pt x="7813" y="17909"/>
                </a:cubicBezTo>
                <a:cubicBezTo>
                  <a:pt x="7768" y="17894"/>
                  <a:pt x="7747" y="17923"/>
                  <a:pt x="7714" y="17934"/>
                </a:cubicBezTo>
                <a:cubicBezTo>
                  <a:pt x="7678" y="17946"/>
                  <a:pt x="7675" y="17994"/>
                  <a:pt x="7640" y="18033"/>
                </a:cubicBezTo>
                <a:cubicBezTo>
                  <a:pt x="7613" y="18063"/>
                  <a:pt x="7614" y="18076"/>
                  <a:pt x="7590" y="18107"/>
                </a:cubicBezTo>
              </a:path>
              <a:path w="4119" h="1985">
                <a:moveTo>
                  <a:pt x="8086" y="17959"/>
                </a:moveTo>
                <a:cubicBezTo>
                  <a:pt x="8093" y="18000"/>
                  <a:pt x="8110" y="18035"/>
                  <a:pt x="8161" y="18058"/>
                </a:cubicBezTo>
                <a:cubicBezTo>
                  <a:pt x="8203" y="18077"/>
                  <a:pt x="8231" y="18043"/>
                  <a:pt x="8260" y="18033"/>
                </a:cubicBezTo>
                <a:cubicBezTo>
                  <a:pt x="8268" y="18033"/>
                  <a:pt x="8277" y="18033"/>
                  <a:pt x="8285" y="18033"/>
                </a:cubicBezTo>
                <a:cubicBezTo>
                  <a:pt x="8239" y="17999"/>
                  <a:pt x="8208" y="17974"/>
                  <a:pt x="8161" y="17934"/>
                </a:cubicBezTo>
                <a:cubicBezTo>
                  <a:pt x="8153" y="17926"/>
                  <a:pt x="8144" y="17917"/>
                  <a:pt x="813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7200" y="2813040"/>
            <a:ext cx="322560" cy="29520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695" y="8161"/>
                </a:moveTo>
                <a:cubicBezTo>
                  <a:pt x="675" y="8141"/>
                  <a:pt x="626" y="8089"/>
                  <a:pt x="620" y="8086"/>
                </a:cubicBezTo>
                <a:cubicBezTo>
                  <a:pt x="595" y="8086"/>
                  <a:pt x="587" y="8086"/>
                  <a:pt x="571" y="8086"/>
                </a:cubicBezTo>
                <a:cubicBezTo>
                  <a:pt x="556" y="8159"/>
                  <a:pt x="531" y="8234"/>
                  <a:pt x="521" y="8310"/>
                </a:cubicBezTo>
                <a:cubicBezTo>
                  <a:pt x="514" y="8364"/>
                  <a:pt x="521" y="8429"/>
                  <a:pt x="521" y="8483"/>
                </a:cubicBezTo>
                <a:cubicBezTo>
                  <a:pt x="578" y="8483"/>
                  <a:pt x="590" y="8459"/>
                  <a:pt x="620" y="8409"/>
                </a:cubicBezTo>
                <a:cubicBezTo>
                  <a:pt x="638" y="8379"/>
                  <a:pt x="689" y="8292"/>
                  <a:pt x="695" y="8260"/>
                </a:cubicBezTo>
                <a:cubicBezTo>
                  <a:pt x="695" y="8199"/>
                  <a:pt x="686" y="8184"/>
                  <a:pt x="719" y="8161"/>
                </a:cubicBezTo>
                <a:cubicBezTo>
                  <a:pt x="748" y="8073"/>
                  <a:pt x="775" y="8243"/>
                  <a:pt x="794" y="8285"/>
                </a:cubicBezTo>
                <a:cubicBezTo>
                  <a:pt x="823" y="8349"/>
                  <a:pt x="840" y="8428"/>
                  <a:pt x="868" y="8483"/>
                </a:cubicBezTo>
                <a:cubicBezTo>
                  <a:pt x="894" y="8534"/>
                  <a:pt x="900" y="8686"/>
                  <a:pt x="918" y="8632"/>
                </a:cubicBezTo>
                <a:cubicBezTo>
                  <a:pt x="918" y="8615"/>
                  <a:pt x="918" y="8599"/>
                  <a:pt x="918" y="8582"/>
                </a:cubicBezTo>
              </a:path>
              <a:path w="894" h="820">
                <a:moveTo>
                  <a:pt x="1017" y="8409"/>
                </a:moveTo>
                <a:cubicBezTo>
                  <a:pt x="1009" y="8384"/>
                  <a:pt x="1000" y="8359"/>
                  <a:pt x="992" y="8334"/>
                </a:cubicBezTo>
              </a:path>
              <a:path w="894" h="820">
                <a:moveTo>
                  <a:pt x="967" y="7813"/>
                </a:moveTo>
                <a:cubicBezTo>
                  <a:pt x="972" y="7908"/>
                  <a:pt x="975" y="8078"/>
                  <a:pt x="1042" y="8161"/>
                </a:cubicBezTo>
                <a:cubicBezTo>
                  <a:pt x="1063" y="8187"/>
                  <a:pt x="1182" y="8242"/>
                  <a:pt x="1215" y="8235"/>
                </a:cubicBezTo>
                <a:cubicBezTo>
                  <a:pt x="1240" y="8227"/>
                  <a:pt x="1265" y="8218"/>
                  <a:pt x="1290" y="8210"/>
                </a:cubicBezTo>
              </a:path>
              <a:path w="894" h="820">
                <a:moveTo>
                  <a:pt x="1364" y="8136"/>
                </a:moveTo>
                <a:cubicBezTo>
                  <a:pt x="1404" y="8029"/>
                  <a:pt x="1414" y="8040"/>
                  <a:pt x="1414" y="7962"/>
                </a:cubicBezTo>
                <a:cubicBezTo>
                  <a:pt x="1355" y="7992"/>
                  <a:pt x="1317" y="8067"/>
                  <a:pt x="1290" y="8136"/>
                </a:cubicBezTo>
                <a:cubicBezTo>
                  <a:pt x="1260" y="8212"/>
                  <a:pt x="1265" y="8279"/>
                  <a:pt x="126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7880" y="2205000"/>
            <a:ext cx="314280" cy="3589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885" y="6499"/>
                </a:moveTo>
                <a:cubicBezTo>
                  <a:pt x="1935" y="6432"/>
                  <a:pt x="1888" y="6459"/>
                  <a:pt x="1910" y="6499"/>
                </a:cubicBezTo>
                <a:cubicBezTo>
                  <a:pt x="1936" y="6545"/>
                  <a:pt x="1935" y="6564"/>
                  <a:pt x="1935" y="6623"/>
                </a:cubicBezTo>
                <a:cubicBezTo>
                  <a:pt x="1935" y="6728"/>
                  <a:pt x="1942" y="6830"/>
                  <a:pt x="1960" y="6921"/>
                </a:cubicBezTo>
                <a:cubicBezTo>
                  <a:pt x="1962" y="6929"/>
                  <a:pt x="1970" y="7131"/>
                  <a:pt x="1935" y="7119"/>
                </a:cubicBezTo>
                <a:cubicBezTo>
                  <a:pt x="1932" y="7118"/>
                  <a:pt x="1935" y="7051"/>
                  <a:pt x="1935" y="7045"/>
                </a:cubicBezTo>
              </a:path>
              <a:path w="869" h="993">
                <a:moveTo>
                  <a:pt x="2108" y="6499"/>
                </a:moveTo>
                <a:cubicBezTo>
                  <a:pt x="2092" y="6606"/>
                  <a:pt x="2084" y="6691"/>
                  <a:pt x="2084" y="6796"/>
                </a:cubicBezTo>
                <a:cubicBezTo>
                  <a:pt x="2084" y="6835"/>
                  <a:pt x="2092" y="6925"/>
                  <a:pt x="2133" y="6945"/>
                </a:cubicBezTo>
                <a:cubicBezTo>
                  <a:pt x="2178" y="6967"/>
                  <a:pt x="2206" y="6965"/>
                  <a:pt x="2257" y="6945"/>
                </a:cubicBezTo>
                <a:cubicBezTo>
                  <a:pt x="2327" y="6918"/>
                  <a:pt x="2362" y="6874"/>
                  <a:pt x="2406" y="6821"/>
                </a:cubicBezTo>
                <a:cubicBezTo>
                  <a:pt x="2450" y="6769"/>
                  <a:pt x="2456" y="6740"/>
                  <a:pt x="2456" y="6672"/>
                </a:cubicBezTo>
                <a:cubicBezTo>
                  <a:pt x="2456" y="6596"/>
                  <a:pt x="2452" y="6560"/>
                  <a:pt x="2406" y="6499"/>
                </a:cubicBezTo>
                <a:cubicBezTo>
                  <a:pt x="2363" y="6442"/>
                  <a:pt x="2335" y="6449"/>
                  <a:pt x="2282" y="6424"/>
                </a:cubicBezTo>
                <a:cubicBezTo>
                  <a:pt x="2232" y="6400"/>
                  <a:pt x="2222" y="6400"/>
                  <a:pt x="2158" y="6400"/>
                </a:cubicBezTo>
                <a:cubicBezTo>
                  <a:pt x="2127" y="6400"/>
                  <a:pt x="2116" y="6425"/>
                  <a:pt x="2108" y="6449"/>
                </a:cubicBezTo>
              </a:path>
              <a:path w="869" h="993">
                <a:moveTo>
                  <a:pt x="2604" y="6226"/>
                </a:moveTo>
                <a:cubicBezTo>
                  <a:pt x="2596" y="6243"/>
                  <a:pt x="2588" y="6259"/>
                  <a:pt x="2580" y="6276"/>
                </a:cubicBezTo>
                <a:cubicBezTo>
                  <a:pt x="2641" y="6312"/>
                  <a:pt x="2674" y="6302"/>
                  <a:pt x="2729" y="6251"/>
                </a:cubicBezTo>
                <a:cubicBezTo>
                  <a:pt x="2766" y="6217"/>
                  <a:pt x="2753" y="6173"/>
                  <a:pt x="2753" y="6127"/>
                </a:cubicBezTo>
                <a:cubicBezTo>
                  <a:pt x="2700" y="6127"/>
                  <a:pt x="2671" y="6121"/>
                  <a:pt x="2629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30800" y="1893960"/>
            <a:ext cx="2509560" cy="1062000"/>
          </a:xfrm>
          <a:custGeom>
            <a:avLst/>
            <a:gdLst/>
            <a:ahLst/>
            <a:rect l="l" t="t" r="r" b="b"/>
            <a:pathLst>
              <a:path w="6971" h="2952">
                <a:moveTo>
                  <a:pt x="12030" y="6796"/>
                </a:moveTo>
                <a:cubicBezTo>
                  <a:pt x="12231" y="6789"/>
                  <a:pt x="12424" y="6772"/>
                  <a:pt x="12626" y="6772"/>
                </a:cubicBezTo>
                <a:cubicBezTo>
                  <a:pt x="12915" y="6772"/>
                  <a:pt x="13204" y="6732"/>
                  <a:pt x="13494" y="6722"/>
                </a:cubicBezTo>
                <a:cubicBezTo>
                  <a:pt x="13794" y="6712"/>
                  <a:pt x="14091" y="6730"/>
                  <a:pt x="14387" y="6697"/>
                </a:cubicBezTo>
                <a:cubicBezTo>
                  <a:pt x="14440" y="6691"/>
                  <a:pt x="14552" y="6701"/>
                  <a:pt x="14436" y="6672"/>
                </a:cubicBezTo>
              </a:path>
              <a:path w="6971" h="2952">
                <a:moveTo>
                  <a:pt x="13221" y="7094"/>
                </a:moveTo>
                <a:cubicBezTo>
                  <a:pt x="13180" y="7218"/>
                  <a:pt x="13169" y="7316"/>
                  <a:pt x="13146" y="7441"/>
                </a:cubicBezTo>
                <a:cubicBezTo>
                  <a:pt x="13123" y="7566"/>
                  <a:pt x="13085" y="7689"/>
                  <a:pt x="13072" y="7813"/>
                </a:cubicBezTo>
                <a:cubicBezTo>
                  <a:pt x="13064" y="7889"/>
                  <a:pt x="13047" y="7960"/>
                  <a:pt x="13047" y="8037"/>
                </a:cubicBezTo>
                <a:cubicBezTo>
                  <a:pt x="13047" y="8045"/>
                  <a:pt x="13047" y="8054"/>
                  <a:pt x="13047" y="8062"/>
                </a:cubicBezTo>
                <a:cubicBezTo>
                  <a:pt x="13047" y="7968"/>
                  <a:pt x="13036" y="7875"/>
                  <a:pt x="13072" y="7789"/>
                </a:cubicBezTo>
                <a:cubicBezTo>
                  <a:pt x="13096" y="7732"/>
                  <a:pt x="13136" y="7619"/>
                  <a:pt x="13196" y="7590"/>
                </a:cubicBezTo>
                <a:cubicBezTo>
                  <a:pt x="13267" y="7556"/>
                  <a:pt x="13384" y="7550"/>
                  <a:pt x="13444" y="7615"/>
                </a:cubicBezTo>
                <a:cubicBezTo>
                  <a:pt x="13499" y="7675"/>
                  <a:pt x="13501" y="7718"/>
                  <a:pt x="13469" y="7789"/>
                </a:cubicBezTo>
                <a:cubicBezTo>
                  <a:pt x="13441" y="7851"/>
                  <a:pt x="13358" y="7911"/>
                  <a:pt x="13295" y="7938"/>
                </a:cubicBezTo>
                <a:cubicBezTo>
                  <a:pt x="13213" y="7973"/>
                  <a:pt x="13109" y="7999"/>
                  <a:pt x="13022" y="8012"/>
                </a:cubicBezTo>
                <a:cubicBezTo>
                  <a:pt x="12959" y="8021"/>
                  <a:pt x="12901" y="7998"/>
                  <a:pt x="12874" y="7987"/>
                </a:cubicBezTo>
                <a:cubicBezTo>
                  <a:pt x="12846" y="7987"/>
                  <a:pt x="12840" y="7985"/>
                  <a:pt x="12874" y="7962"/>
                </a:cubicBezTo>
              </a:path>
              <a:path w="6971" h="2952">
                <a:moveTo>
                  <a:pt x="14932" y="6573"/>
                </a:moveTo>
                <a:cubicBezTo>
                  <a:pt x="14997" y="6573"/>
                  <a:pt x="15043" y="6552"/>
                  <a:pt x="15106" y="6548"/>
                </a:cubicBezTo>
                <a:cubicBezTo>
                  <a:pt x="15130" y="6547"/>
                  <a:pt x="15261" y="6538"/>
                  <a:pt x="15280" y="6524"/>
                </a:cubicBezTo>
                <a:cubicBezTo>
                  <a:pt x="15280" y="6516"/>
                  <a:pt x="15280" y="6507"/>
                  <a:pt x="15280" y="6499"/>
                </a:cubicBezTo>
              </a:path>
              <a:path w="6971" h="2952">
                <a:moveTo>
                  <a:pt x="14883" y="6722"/>
                </a:moveTo>
                <a:cubicBezTo>
                  <a:pt x="14896" y="6762"/>
                  <a:pt x="14931" y="6747"/>
                  <a:pt x="14982" y="6747"/>
                </a:cubicBezTo>
                <a:cubicBezTo>
                  <a:pt x="15048" y="6747"/>
                  <a:pt x="15114" y="6747"/>
                  <a:pt x="15180" y="6747"/>
                </a:cubicBezTo>
                <a:cubicBezTo>
                  <a:pt x="15168" y="6708"/>
                  <a:pt x="15180" y="6709"/>
                  <a:pt x="15156" y="6697"/>
                </a:cubicBezTo>
              </a:path>
              <a:path w="6971" h="2952">
                <a:moveTo>
                  <a:pt x="16570" y="5804"/>
                </a:moveTo>
                <a:cubicBezTo>
                  <a:pt x="16474" y="5828"/>
                  <a:pt x="16403" y="5848"/>
                  <a:pt x="16321" y="5904"/>
                </a:cubicBezTo>
                <a:cubicBezTo>
                  <a:pt x="16260" y="5946"/>
                  <a:pt x="16240" y="5983"/>
                  <a:pt x="16247" y="6028"/>
                </a:cubicBezTo>
                <a:cubicBezTo>
                  <a:pt x="16261" y="6122"/>
                  <a:pt x="16331" y="6169"/>
                  <a:pt x="16396" y="6226"/>
                </a:cubicBezTo>
                <a:cubicBezTo>
                  <a:pt x="16441" y="6265"/>
                  <a:pt x="16498" y="6345"/>
                  <a:pt x="16520" y="6400"/>
                </a:cubicBezTo>
                <a:cubicBezTo>
                  <a:pt x="16540" y="6450"/>
                  <a:pt x="16500" y="6461"/>
                  <a:pt x="16470" y="6474"/>
                </a:cubicBezTo>
                <a:cubicBezTo>
                  <a:pt x="16408" y="6501"/>
                  <a:pt x="16365" y="6499"/>
                  <a:pt x="16297" y="6499"/>
                </a:cubicBezTo>
                <a:cubicBezTo>
                  <a:pt x="16210" y="6499"/>
                  <a:pt x="16184" y="6478"/>
                  <a:pt x="16173" y="6400"/>
                </a:cubicBezTo>
              </a:path>
              <a:path w="6971" h="2952">
                <a:moveTo>
                  <a:pt x="16768" y="5953"/>
                </a:moveTo>
                <a:cubicBezTo>
                  <a:pt x="16781" y="6026"/>
                  <a:pt x="16821" y="6173"/>
                  <a:pt x="16793" y="6251"/>
                </a:cubicBezTo>
                <a:cubicBezTo>
                  <a:pt x="16792" y="6254"/>
                  <a:pt x="16760" y="6394"/>
                  <a:pt x="16793" y="6350"/>
                </a:cubicBezTo>
                <a:cubicBezTo>
                  <a:pt x="16793" y="6342"/>
                  <a:pt x="16793" y="6333"/>
                  <a:pt x="16793" y="6325"/>
                </a:cubicBezTo>
              </a:path>
              <a:path w="6971" h="2952">
                <a:moveTo>
                  <a:pt x="16917" y="5631"/>
                </a:moveTo>
                <a:cubicBezTo>
                  <a:pt x="16942" y="5606"/>
                  <a:pt x="16950" y="5598"/>
                  <a:pt x="16966" y="5581"/>
                </a:cubicBezTo>
              </a:path>
              <a:path w="6971" h="2952">
                <a:moveTo>
                  <a:pt x="17190" y="6152"/>
                </a:moveTo>
                <a:cubicBezTo>
                  <a:pt x="17171" y="6218"/>
                  <a:pt x="17194" y="6307"/>
                  <a:pt x="17140" y="6350"/>
                </a:cubicBezTo>
                <a:cubicBezTo>
                  <a:pt x="17132" y="6350"/>
                  <a:pt x="17123" y="6350"/>
                  <a:pt x="17115" y="6350"/>
                </a:cubicBezTo>
                <a:cubicBezTo>
                  <a:pt x="17115" y="6283"/>
                  <a:pt x="17110" y="6231"/>
                  <a:pt x="17140" y="6176"/>
                </a:cubicBezTo>
                <a:cubicBezTo>
                  <a:pt x="17174" y="6114"/>
                  <a:pt x="17212" y="6023"/>
                  <a:pt x="17264" y="5978"/>
                </a:cubicBezTo>
                <a:cubicBezTo>
                  <a:pt x="17314" y="5935"/>
                  <a:pt x="17374" y="5907"/>
                  <a:pt x="17438" y="5904"/>
                </a:cubicBezTo>
                <a:cubicBezTo>
                  <a:pt x="17507" y="5900"/>
                  <a:pt x="17567" y="5960"/>
                  <a:pt x="17587" y="6028"/>
                </a:cubicBezTo>
                <a:cubicBezTo>
                  <a:pt x="17610" y="6107"/>
                  <a:pt x="17630" y="6219"/>
                  <a:pt x="17636" y="6300"/>
                </a:cubicBezTo>
                <a:cubicBezTo>
                  <a:pt x="17640" y="6358"/>
                  <a:pt x="17559" y="6423"/>
                  <a:pt x="17611" y="6449"/>
                </a:cubicBezTo>
                <a:cubicBezTo>
                  <a:pt x="17636" y="6449"/>
                  <a:pt x="17644" y="6449"/>
                  <a:pt x="17636" y="6424"/>
                </a:cubicBezTo>
              </a:path>
              <a:path w="6971" h="2952">
                <a:moveTo>
                  <a:pt x="18107" y="5556"/>
                </a:moveTo>
                <a:cubicBezTo>
                  <a:pt x="18178" y="5464"/>
                  <a:pt x="18193" y="5416"/>
                  <a:pt x="18306" y="5407"/>
                </a:cubicBezTo>
                <a:cubicBezTo>
                  <a:pt x="18347" y="5404"/>
                  <a:pt x="18378" y="5445"/>
                  <a:pt x="18380" y="5482"/>
                </a:cubicBezTo>
                <a:cubicBezTo>
                  <a:pt x="18384" y="5565"/>
                  <a:pt x="18345" y="5681"/>
                  <a:pt x="18306" y="5755"/>
                </a:cubicBezTo>
                <a:cubicBezTo>
                  <a:pt x="18253" y="5856"/>
                  <a:pt x="18169" y="5941"/>
                  <a:pt x="18132" y="6052"/>
                </a:cubicBezTo>
                <a:cubicBezTo>
                  <a:pt x="18099" y="6150"/>
                  <a:pt x="18083" y="6223"/>
                  <a:pt x="18083" y="6325"/>
                </a:cubicBezTo>
                <a:cubicBezTo>
                  <a:pt x="18083" y="6408"/>
                  <a:pt x="18109" y="6400"/>
                  <a:pt x="18182" y="6400"/>
                </a:cubicBezTo>
                <a:cubicBezTo>
                  <a:pt x="18283" y="6400"/>
                  <a:pt x="18389" y="6320"/>
                  <a:pt x="18455" y="6251"/>
                </a:cubicBezTo>
                <a:cubicBezTo>
                  <a:pt x="18463" y="6234"/>
                  <a:pt x="18471" y="6218"/>
                  <a:pt x="18479" y="6201"/>
                </a:cubicBezTo>
              </a:path>
              <a:path w="6971" h="2952">
                <a:moveTo>
                  <a:pt x="18653" y="5581"/>
                </a:moveTo>
                <a:cubicBezTo>
                  <a:pt x="18653" y="5616"/>
                  <a:pt x="18621" y="5781"/>
                  <a:pt x="18703" y="5804"/>
                </a:cubicBezTo>
                <a:cubicBezTo>
                  <a:pt x="18757" y="5820"/>
                  <a:pt x="18811" y="5786"/>
                  <a:pt x="18852" y="5755"/>
                </a:cubicBezTo>
                <a:cubicBezTo>
                  <a:pt x="18904" y="5716"/>
                  <a:pt x="18932" y="5602"/>
                  <a:pt x="18951" y="5556"/>
                </a:cubicBezTo>
              </a:path>
              <a:path w="6971" h="2952">
                <a:moveTo>
                  <a:pt x="19000" y="5259"/>
                </a:moveTo>
                <a:cubicBezTo>
                  <a:pt x="18959" y="5397"/>
                  <a:pt x="18930" y="5511"/>
                  <a:pt x="18926" y="5655"/>
                </a:cubicBezTo>
                <a:cubicBezTo>
                  <a:pt x="18922" y="5798"/>
                  <a:pt x="18901" y="5932"/>
                  <a:pt x="18901" y="6077"/>
                </a:cubicBezTo>
                <a:cubicBezTo>
                  <a:pt x="18901" y="6121"/>
                  <a:pt x="18923" y="6297"/>
                  <a:pt x="18876" y="6300"/>
                </a:cubicBezTo>
                <a:cubicBezTo>
                  <a:pt x="18860" y="6300"/>
                  <a:pt x="18843" y="6300"/>
                  <a:pt x="18827" y="6300"/>
                </a:cubicBezTo>
              </a:path>
              <a:path w="6971" h="2952">
                <a:moveTo>
                  <a:pt x="16197" y="6672"/>
                </a:moveTo>
                <a:cubicBezTo>
                  <a:pt x="16262" y="6696"/>
                  <a:pt x="16351" y="6715"/>
                  <a:pt x="16421" y="6722"/>
                </a:cubicBezTo>
                <a:cubicBezTo>
                  <a:pt x="16781" y="6757"/>
                  <a:pt x="17154" y="6714"/>
                  <a:pt x="17512" y="6697"/>
                </a:cubicBezTo>
                <a:cubicBezTo>
                  <a:pt x="17727" y="6687"/>
                  <a:pt x="17943" y="6683"/>
                  <a:pt x="18157" y="6672"/>
                </a:cubicBezTo>
                <a:cubicBezTo>
                  <a:pt x="18322" y="6664"/>
                  <a:pt x="18491" y="6679"/>
                  <a:pt x="18653" y="6648"/>
                </a:cubicBezTo>
                <a:cubicBezTo>
                  <a:pt x="18721" y="6635"/>
                  <a:pt x="18785" y="6616"/>
                  <a:pt x="18852" y="6598"/>
                </a:cubicBezTo>
                <a:cubicBezTo>
                  <a:pt x="18792" y="6584"/>
                  <a:pt x="18752" y="6573"/>
                  <a:pt x="18678" y="6573"/>
                </a:cubicBezTo>
                <a:cubicBezTo>
                  <a:pt x="18661" y="6573"/>
                  <a:pt x="18645" y="6573"/>
                  <a:pt x="18628" y="6573"/>
                </a:cubicBezTo>
              </a:path>
              <a:path w="6971" h="2952">
                <a:moveTo>
                  <a:pt x="17016" y="7218"/>
                </a:moveTo>
                <a:cubicBezTo>
                  <a:pt x="17112" y="7218"/>
                  <a:pt x="17200" y="7204"/>
                  <a:pt x="17289" y="7193"/>
                </a:cubicBezTo>
                <a:cubicBezTo>
                  <a:pt x="17390" y="7180"/>
                  <a:pt x="17487" y="7158"/>
                  <a:pt x="17587" y="7144"/>
                </a:cubicBezTo>
                <a:cubicBezTo>
                  <a:pt x="17648" y="7136"/>
                  <a:pt x="17701" y="7130"/>
                  <a:pt x="17760" y="7119"/>
                </a:cubicBezTo>
                <a:cubicBezTo>
                  <a:pt x="17768" y="7119"/>
                  <a:pt x="17777" y="7119"/>
                  <a:pt x="17785" y="7119"/>
                </a:cubicBezTo>
                <a:cubicBezTo>
                  <a:pt x="17767" y="7159"/>
                  <a:pt x="17757" y="7198"/>
                  <a:pt x="17735" y="7243"/>
                </a:cubicBezTo>
                <a:cubicBezTo>
                  <a:pt x="17685" y="7345"/>
                  <a:pt x="17668" y="7478"/>
                  <a:pt x="17636" y="7590"/>
                </a:cubicBezTo>
                <a:cubicBezTo>
                  <a:pt x="17607" y="7693"/>
                  <a:pt x="17592" y="7807"/>
                  <a:pt x="17587" y="7913"/>
                </a:cubicBezTo>
                <a:cubicBezTo>
                  <a:pt x="17584" y="7986"/>
                  <a:pt x="17621" y="8135"/>
                  <a:pt x="17611" y="8186"/>
                </a:cubicBezTo>
                <a:cubicBezTo>
                  <a:pt x="17602" y="8234"/>
                  <a:pt x="17600" y="8195"/>
                  <a:pt x="17562" y="8210"/>
                </a:cubicBezTo>
              </a:path>
              <a:path w="6971" h="2952">
                <a:moveTo>
                  <a:pt x="14833" y="6276"/>
                </a:moveTo>
                <a:cubicBezTo>
                  <a:pt x="14905" y="6346"/>
                  <a:pt x="14983" y="6404"/>
                  <a:pt x="15056" y="6474"/>
                </a:cubicBezTo>
                <a:cubicBezTo>
                  <a:pt x="15141" y="6555"/>
                  <a:pt x="15241" y="6619"/>
                  <a:pt x="15329" y="6697"/>
                </a:cubicBezTo>
                <a:cubicBezTo>
                  <a:pt x="15445" y="6800"/>
                  <a:pt x="15553" y="6928"/>
                  <a:pt x="15677" y="7020"/>
                </a:cubicBezTo>
                <a:cubicBezTo>
                  <a:pt x="15699" y="7037"/>
                  <a:pt x="15821" y="7105"/>
                  <a:pt x="15825" y="7119"/>
                </a:cubicBezTo>
                <a:cubicBezTo>
                  <a:pt x="15825" y="7144"/>
                  <a:pt x="15825" y="7152"/>
                  <a:pt x="15801" y="7144"/>
                </a:cubicBezTo>
              </a:path>
              <a:path w="6971" h="2952">
                <a:moveTo>
                  <a:pt x="14511" y="7094"/>
                </a:moveTo>
                <a:cubicBezTo>
                  <a:pt x="14622" y="6992"/>
                  <a:pt x="14730" y="6901"/>
                  <a:pt x="14858" y="6821"/>
                </a:cubicBezTo>
                <a:cubicBezTo>
                  <a:pt x="15028" y="6714"/>
                  <a:pt x="15206" y="6626"/>
                  <a:pt x="15379" y="6524"/>
                </a:cubicBezTo>
                <a:cubicBezTo>
                  <a:pt x="15507" y="6449"/>
                  <a:pt x="15659" y="6392"/>
                  <a:pt x="15776" y="6300"/>
                </a:cubicBezTo>
                <a:cubicBezTo>
                  <a:pt x="15827" y="6260"/>
                  <a:pt x="15979" y="6212"/>
                  <a:pt x="15925" y="6176"/>
                </a:cubicBezTo>
                <a:cubicBezTo>
                  <a:pt x="15898" y="6158"/>
                  <a:pt x="15841" y="6195"/>
                  <a:pt x="15825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8080" y="1973160"/>
            <a:ext cx="1027080" cy="376200"/>
          </a:xfrm>
          <a:custGeom>
            <a:avLst/>
            <a:gdLst/>
            <a:ahLst/>
            <a:rect l="l" t="t" r="r" b="b"/>
            <a:pathLst>
              <a:path w="2853" h="1043">
                <a:moveTo>
                  <a:pt x="12551" y="5904"/>
                </a:moveTo>
                <a:cubicBezTo>
                  <a:pt x="12486" y="5847"/>
                  <a:pt x="12481" y="5851"/>
                  <a:pt x="12402" y="5879"/>
                </a:cubicBezTo>
                <a:cubicBezTo>
                  <a:pt x="12346" y="5899"/>
                  <a:pt x="12274" y="5940"/>
                  <a:pt x="12229" y="5978"/>
                </a:cubicBezTo>
                <a:cubicBezTo>
                  <a:pt x="12186" y="6013"/>
                  <a:pt x="12147" y="6043"/>
                  <a:pt x="12105" y="6077"/>
                </a:cubicBezTo>
                <a:cubicBezTo>
                  <a:pt x="12119" y="6136"/>
                  <a:pt x="12172" y="6154"/>
                  <a:pt x="12229" y="6176"/>
                </a:cubicBezTo>
                <a:cubicBezTo>
                  <a:pt x="12322" y="6212"/>
                  <a:pt x="12436" y="6219"/>
                  <a:pt x="12502" y="6300"/>
                </a:cubicBezTo>
                <a:cubicBezTo>
                  <a:pt x="12534" y="6339"/>
                  <a:pt x="12551" y="6376"/>
                  <a:pt x="12551" y="6424"/>
                </a:cubicBezTo>
                <a:cubicBezTo>
                  <a:pt x="12473" y="6469"/>
                  <a:pt x="12437" y="6475"/>
                  <a:pt x="12353" y="6499"/>
                </a:cubicBezTo>
                <a:cubicBezTo>
                  <a:pt x="12294" y="6516"/>
                  <a:pt x="12194" y="6549"/>
                  <a:pt x="12129" y="6524"/>
                </a:cubicBezTo>
                <a:cubicBezTo>
                  <a:pt x="12098" y="6512"/>
                  <a:pt x="12086" y="6474"/>
                  <a:pt x="12080" y="6449"/>
                </a:cubicBezTo>
              </a:path>
              <a:path w="2853" h="1043">
                <a:moveTo>
                  <a:pt x="12799" y="6102"/>
                </a:moveTo>
                <a:cubicBezTo>
                  <a:pt x="12794" y="6224"/>
                  <a:pt x="12774" y="6332"/>
                  <a:pt x="12774" y="6449"/>
                </a:cubicBezTo>
                <a:cubicBezTo>
                  <a:pt x="12774" y="6474"/>
                  <a:pt x="12774" y="6482"/>
                  <a:pt x="12774" y="6499"/>
                </a:cubicBezTo>
                <a:cubicBezTo>
                  <a:pt x="12735" y="6486"/>
                  <a:pt x="12750" y="6479"/>
                  <a:pt x="12750" y="6424"/>
                </a:cubicBezTo>
              </a:path>
              <a:path w="2853" h="1043">
                <a:moveTo>
                  <a:pt x="12849" y="5730"/>
                </a:moveTo>
                <a:cubicBezTo>
                  <a:pt x="12890" y="5688"/>
                  <a:pt x="12898" y="5680"/>
                  <a:pt x="12923" y="5655"/>
                </a:cubicBezTo>
              </a:path>
              <a:path w="2853" h="1043">
                <a:moveTo>
                  <a:pt x="13072" y="6127"/>
                </a:moveTo>
                <a:cubicBezTo>
                  <a:pt x="13057" y="6254"/>
                  <a:pt x="13047" y="6326"/>
                  <a:pt x="13022" y="6424"/>
                </a:cubicBezTo>
                <a:cubicBezTo>
                  <a:pt x="13022" y="6369"/>
                  <a:pt x="13044" y="6331"/>
                  <a:pt x="13047" y="6276"/>
                </a:cubicBezTo>
                <a:cubicBezTo>
                  <a:pt x="13052" y="6180"/>
                  <a:pt x="13054" y="6117"/>
                  <a:pt x="13097" y="6028"/>
                </a:cubicBezTo>
                <a:cubicBezTo>
                  <a:pt x="13137" y="5944"/>
                  <a:pt x="13148" y="5909"/>
                  <a:pt x="13246" y="5904"/>
                </a:cubicBezTo>
                <a:cubicBezTo>
                  <a:pt x="13340" y="5899"/>
                  <a:pt x="13361" y="5979"/>
                  <a:pt x="13395" y="6052"/>
                </a:cubicBezTo>
                <a:cubicBezTo>
                  <a:pt x="13435" y="6138"/>
                  <a:pt x="13439" y="6255"/>
                  <a:pt x="13444" y="6350"/>
                </a:cubicBezTo>
                <a:cubicBezTo>
                  <a:pt x="13445" y="6370"/>
                  <a:pt x="13428" y="6480"/>
                  <a:pt x="13444" y="6449"/>
                </a:cubicBezTo>
                <a:cubicBezTo>
                  <a:pt x="13444" y="6424"/>
                  <a:pt x="13444" y="6416"/>
                  <a:pt x="13444" y="6400"/>
                </a:cubicBezTo>
              </a:path>
              <a:path w="2853" h="1043">
                <a:moveTo>
                  <a:pt x="13816" y="5631"/>
                </a:moveTo>
                <a:cubicBezTo>
                  <a:pt x="13816" y="5760"/>
                  <a:pt x="13804" y="5877"/>
                  <a:pt x="13791" y="6003"/>
                </a:cubicBezTo>
                <a:cubicBezTo>
                  <a:pt x="13780" y="6113"/>
                  <a:pt x="13759" y="6215"/>
                  <a:pt x="13742" y="6325"/>
                </a:cubicBezTo>
                <a:cubicBezTo>
                  <a:pt x="13742" y="6350"/>
                  <a:pt x="13742" y="6358"/>
                  <a:pt x="13742" y="6375"/>
                </a:cubicBezTo>
                <a:cubicBezTo>
                  <a:pt x="13702" y="6362"/>
                  <a:pt x="13717" y="6356"/>
                  <a:pt x="13717" y="6300"/>
                </a:cubicBezTo>
              </a:path>
              <a:path w="2853" h="1043">
                <a:moveTo>
                  <a:pt x="14039" y="5730"/>
                </a:moveTo>
                <a:cubicBezTo>
                  <a:pt x="14019" y="5818"/>
                  <a:pt x="13990" y="5890"/>
                  <a:pt x="13990" y="5978"/>
                </a:cubicBezTo>
                <a:cubicBezTo>
                  <a:pt x="13990" y="6032"/>
                  <a:pt x="14043" y="6043"/>
                  <a:pt x="14089" y="6028"/>
                </a:cubicBezTo>
                <a:cubicBezTo>
                  <a:pt x="14169" y="6001"/>
                  <a:pt x="14223" y="5961"/>
                  <a:pt x="14288" y="5904"/>
                </a:cubicBezTo>
              </a:path>
              <a:path w="2853" h="1043">
                <a:moveTo>
                  <a:pt x="14312" y="5507"/>
                </a:moveTo>
                <a:cubicBezTo>
                  <a:pt x="14277" y="5671"/>
                  <a:pt x="14248" y="5841"/>
                  <a:pt x="14213" y="6003"/>
                </a:cubicBezTo>
                <a:cubicBezTo>
                  <a:pt x="14193" y="6094"/>
                  <a:pt x="14163" y="6157"/>
                  <a:pt x="14163" y="6251"/>
                </a:cubicBezTo>
                <a:cubicBezTo>
                  <a:pt x="14163" y="6291"/>
                  <a:pt x="14142" y="6329"/>
                  <a:pt x="14163" y="6300"/>
                </a:cubicBezTo>
                <a:cubicBezTo>
                  <a:pt x="14192" y="6272"/>
                  <a:pt x="14200" y="6259"/>
                  <a:pt x="14188" y="6226"/>
                </a:cubicBezTo>
              </a:path>
              <a:path w="2853" h="1043">
                <a:moveTo>
                  <a:pt x="14635" y="5482"/>
                </a:moveTo>
                <a:cubicBezTo>
                  <a:pt x="14605" y="5648"/>
                  <a:pt x="14560" y="5793"/>
                  <a:pt x="14511" y="5953"/>
                </a:cubicBezTo>
                <a:cubicBezTo>
                  <a:pt x="14478" y="6061"/>
                  <a:pt x="14486" y="6165"/>
                  <a:pt x="14486" y="6276"/>
                </a:cubicBezTo>
                <a:cubicBezTo>
                  <a:pt x="14486" y="6358"/>
                  <a:pt x="14506" y="6393"/>
                  <a:pt x="14585" y="6400"/>
                </a:cubicBezTo>
                <a:cubicBezTo>
                  <a:pt x="14673" y="6407"/>
                  <a:pt x="14720" y="6382"/>
                  <a:pt x="14784" y="6325"/>
                </a:cubicBezTo>
                <a:cubicBezTo>
                  <a:pt x="14852" y="6264"/>
                  <a:pt x="14937" y="6151"/>
                  <a:pt x="14932" y="6052"/>
                </a:cubicBezTo>
                <a:cubicBezTo>
                  <a:pt x="14908" y="6028"/>
                  <a:pt x="14899" y="6019"/>
                  <a:pt x="14883" y="6003"/>
                </a:cubicBezTo>
                <a:cubicBezTo>
                  <a:pt x="14806" y="6032"/>
                  <a:pt x="14723" y="6036"/>
                  <a:pt x="14660" y="6102"/>
                </a:cubicBezTo>
                <a:cubicBezTo>
                  <a:pt x="14611" y="6153"/>
                  <a:pt x="14538" y="6241"/>
                  <a:pt x="14511" y="6300"/>
                </a:cubicBezTo>
                <a:cubicBezTo>
                  <a:pt x="14493" y="6339"/>
                  <a:pt x="14482" y="6393"/>
                  <a:pt x="14461" y="6424"/>
                </a:cubicBezTo>
                <a:cubicBezTo>
                  <a:pt x="14453" y="6432"/>
                  <a:pt x="14444" y="6441"/>
                  <a:pt x="14436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27720" y="3187800"/>
            <a:ext cx="1527120" cy="492120"/>
          </a:xfrm>
          <a:custGeom>
            <a:avLst/>
            <a:gdLst/>
            <a:ahLst/>
            <a:rect l="l" t="t" r="r" b="b"/>
            <a:pathLst>
              <a:path w="4243" h="1366">
                <a:moveTo>
                  <a:pt x="12576" y="9079"/>
                </a:moveTo>
                <a:cubicBezTo>
                  <a:pt x="12652" y="9062"/>
                  <a:pt x="12619" y="9068"/>
                  <a:pt x="12700" y="9029"/>
                </a:cubicBezTo>
                <a:cubicBezTo>
                  <a:pt x="12785" y="8988"/>
                  <a:pt x="12906" y="8948"/>
                  <a:pt x="12998" y="8930"/>
                </a:cubicBezTo>
                <a:cubicBezTo>
                  <a:pt x="13070" y="8916"/>
                  <a:pt x="13144" y="8838"/>
                  <a:pt x="13221" y="8855"/>
                </a:cubicBezTo>
                <a:cubicBezTo>
                  <a:pt x="13312" y="8875"/>
                  <a:pt x="13254" y="8936"/>
                  <a:pt x="13246" y="9004"/>
                </a:cubicBezTo>
                <a:cubicBezTo>
                  <a:pt x="13232" y="9128"/>
                  <a:pt x="13201" y="9253"/>
                  <a:pt x="13196" y="9376"/>
                </a:cubicBezTo>
                <a:cubicBezTo>
                  <a:pt x="13191" y="9511"/>
                  <a:pt x="13182" y="9643"/>
                  <a:pt x="13171" y="9773"/>
                </a:cubicBezTo>
                <a:cubicBezTo>
                  <a:pt x="13163" y="9867"/>
                  <a:pt x="13157" y="9958"/>
                  <a:pt x="13146" y="10046"/>
                </a:cubicBezTo>
                <a:cubicBezTo>
                  <a:pt x="13141" y="10084"/>
                  <a:pt x="13124" y="10187"/>
                  <a:pt x="13122" y="10195"/>
                </a:cubicBezTo>
                <a:cubicBezTo>
                  <a:pt x="13122" y="10203"/>
                  <a:pt x="13122" y="10212"/>
                  <a:pt x="13122" y="10220"/>
                </a:cubicBezTo>
                <a:cubicBezTo>
                  <a:pt x="13183" y="10189"/>
                  <a:pt x="13200" y="10177"/>
                  <a:pt x="13246" y="10120"/>
                </a:cubicBezTo>
              </a:path>
              <a:path w="4243" h="1366">
                <a:moveTo>
                  <a:pt x="13667" y="9599"/>
                </a:moveTo>
                <a:cubicBezTo>
                  <a:pt x="13630" y="9684"/>
                  <a:pt x="13618" y="9662"/>
                  <a:pt x="13618" y="9748"/>
                </a:cubicBezTo>
              </a:path>
              <a:path w="4243" h="1366">
                <a:moveTo>
                  <a:pt x="14263" y="9302"/>
                </a:moveTo>
                <a:cubicBezTo>
                  <a:pt x="14209" y="9302"/>
                  <a:pt x="14178" y="9291"/>
                  <a:pt x="14139" y="9327"/>
                </a:cubicBezTo>
                <a:cubicBezTo>
                  <a:pt x="14072" y="9388"/>
                  <a:pt x="14029" y="9399"/>
                  <a:pt x="14015" y="9500"/>
                </a:cubicBezTo>
                <a:cubicBezTo>
                  <a:pt x="14015" y="9508"/>
                  <a:pt x="14015" y="9517"/>
                  <a:pt x="14015" y="9525"/>
                </a:cubicBezTo>
                <a:cubicBezTo>
                  <a:pt x="14092" y="9525"/>
                  <a:pt x="14198" y="9503"/>
                  <a:pt x="14263" y="9550"/>
                </a:cubicBezTo>
                <a:cubicBezTo>
                  <a:pt x="14309" y="9583"/>
                  <a:pt x="14374" y="9609"/>
                  <a:pt x="14362" y="9674"/>
                </a:cubicBezTo>
                <a:cubicBezTo>
                  <a:pt x="14345" y="9764"/>
                  <a:pt x="14266" y="9782"/>
                  <a:pt x="14213" y="9847"/>
                </a:cubicBezTo>
                <a:cubicBezTo>
                  <a:pt x="14191" y="9874"/>
                  <a:pt x="14103" y="9996"/>
                  <a:pt x="14064" y="9996"/>
                </a:cubicBezTo>
                <a:cubicBezTo>
                  <a:pt x="14064" y="9988"/>
                  <a:pt x="14064" y="9979"/>
                  <a:pt x="14064" y="9971"/>
                </a:cubicBezTo>
              </a:path>
              <a:path w="4243" h="1366">
                <a:moveTo>
                  <a:pt x="14560" y="9550"/>
                </a:moveTo>
                <a:cubicBezTo>
                  <a:pt x="14566" y="9651"/>
                  <a:pt x="14594" y="9753"/>
                  <a:pt x="14560" y="9847"/>
                </a:cubicBezTo>
                <a:cubicBezTo>
                  <a:pt x="14510" y="9983"/>
                  <a:pt x="14576" y="9807"/>
                  <a:pt x="14585" y="9773"/>
                </a:cubicBezTo>
              </a:path>
              <a:path w="4243" h="1366">
                <a:moveTo>
                  <a:pt x="14709" y="9153"/>
                </a:moveTo>
                <a:cubicBezTo>
                  <a:pt x="14732" y="9176"/>
                  <a:pt x="14740" y="9187"/>
                  <a:pt x="14734" y="9153"/>
                </a:cubicBezTo>
              </a:path>
              <a:path w="4243" h="1366">
                <a:moveTo>
                  <a:pt x="14932" y="9897"/>
                </a:moveTo>
                <a:cubicBezTo>
                  <a:pt x="14903" y="9877"/>
                  <a:pt x="14910" y="9818"/>
                  <a:pt x="14932" y="9773"/>
                </a:cubicBezTo>
                <a:cubicBezTo>
                  <a:pt x="14973" y="9691"/>
                  <a:pt x="15001" y="9581"/>
                  <a:pt x="15056" y="9500"/>
                </a:cubicBezTo>
                <a:cubicBezTo>
                  <a:pt x="15091" y="9449"/>
                  <a:pt x="15123" y="9451"/>
                  <a:pt x="15180" y="9451"/>
                </a:cubicBezTo>
                <a:cubicBezTo>
                  <a:pt x="15235" y="9451"/>
                  <a:pt x="15235" y="9454"/>
                  <a:pt x="15255" y="9500"/>
                </a:cubicBezTo>
                <a:cubicBezTo>
                  <a:pt x="15282" y="9563"/>
                  <a:pt x="15280" y="9606"/>
                  <a:pt x="15280" y="9674"/>
                </a:cubicBezTo>
                <a:cubicBezTo>
                  <a:pt x="15280" y="9726"/>
                  <a:pt x="15226" y="9840"/>
                  <a:pt x="15280" y="9847"/>
                </a:cubicBezTo>
                <a:cubicBezTo>
                  <a:pt x="15288" y="9847"/>
                  <a:pt x="15296" y="9847"/>
                  <a:pt x="15304" y="9847"/>
                </a:cubicBezTo>
              </a:path>
              <a:path w="4243" h="1366">
                <a:moveTo>
                  <a:pt x="15726" y="9079"/>
                </a:moveTo>
                <a:cubicBezTo>
                  <a:pt x="15726" y="9200"/>
                  <a:pt x="15732" y="9335"/>
                  <a:pt x="15701" y="9451"/>
                </a:cubicBezTo>
                <a:cubicBezTo>
                  <a:pt x="15680" y="9528"/>
                  <a:pt x="15677" y="9590"/>
                  <a:pt x="15677" y="9674"/>
                </a:cubicBezTo>
                <a:cubicBezTo>
                  <a:pt x="15677" y="9747"/>
                  <a:pt x="15664" y="9789"/>
                  <a:pt x="15652" y="9847"/>
                </a:cubicBezTo>
                <a:cubicBezTo>
                  <a:pt x="15637" y="9920"/>
                  <a:pt x="15667" y="9909"/>
                  <a:pt x="15677" y="9847"/>
                </a:cubicBezTo>
              </a:path>
              <a:path w="4243" h="1366">
                <a:moveTo>
                  <a:pt x="16049" y="9079"/>
                </a:moveTo>
                <a:cubicBezTo>
                  <a:pt x="16019" y="9154"/>
                  <a:pt x="16010" y="9230"/>
                  <a:pt x="15974" y="9302"/>
                </a:cubicBezTo>
                <a:cubicBezTo>
                  <a:pt x="15958" y="9334"/>
                  <a:pt x="15876" y="9412"/>
                  <a:pt x="15949" y="9451"/>
                </a:cubicBezTo>
                <a:cubicBezTo>
                  <a:pt x="16014" y="9487"/>
                  <a:pt x="16056" y="9422"/>
                  <a:pt x="16098" y="9401"/>
                </a:cubicBezTo>
                <a:cubicBezTo>
                  <a:pt x="16163" y="9368"/>
                  <a:pt x="16188" y="9380"/>
                  <a:pt x="16247" y="9327"/>
                </a:cubicBezTo>
                <a:cubicBezTo>
                  <a:pt x="16255" y="9319"/>
                  <a:pt x="16264" y="9310"/>
                  <a:pt x="16272" y="9302"/>
                </a:cubicBezTo>
              </a:path>
              <a:path w="4243" h="1366">
                <a:moveTo>
                  <a:pt x="16247" y="9079"/>
                </a:moveTo>
                <a:cubicBezTo>
                  <a:pt x="16224" y="9198"/>
                  <a:pt x="16204" y="9336"/>
                  <a:pt x="16173" y="9451"/>
                </a:cubicBezTo>
                <a:cubicBezTo>
                  <a:pt x="16151" y="9530"/>
                  <a:pt x="16137" y="9627"/>
                  <a:pt x="16123" y="9699"/>
                </a:cubicBezTo>
                <a:cubicBezTo>
                  <a:pt x="16112" y="9754"/>
                  <a:pt x="16098" y="9787"/>
                  <a:pt x="16098" y="9847"/>
                </a:cubicBezTo>
                <a:cubicBezTo>
                  <a:pt x="16098" y="9950"/>
                  <a:pt x="16116" y="9845"/>
                  <a:pt x="16123" y="9823"/>
                </a:cubicBezTo>
                <a:cubicBezTo>
                  <a:pt x="16140" y="9773"/>
                  <a:pt x="16156" y="9724"/>
                  <a:pt x="16173" y="9674"/>
                </a:cubicBezTo>
              </a:path>
              <a:path w="4243" h="1366">
                <a:moveTo>
                  <a:pt x="16594" y="9004"/>
                </a:moveTo>
                <a:cubicBezTo>
                  <a:pt x="16587" y="9117"/>
                  <a:pt x="16560" y="9217"/>
                  <a:pt x="16545" y="9327"/>
                </a:cubicBezTo>
                <a:cubicBezTo>
                  <a:pt x="16532" y="9420"/>
                  <a:pt x="16520" y="9503"/>
                  <a:pt x="16520" y="9599"/>
                </a:cubicBezTo>
                <a:cubicBezTo>
                  <a:pt x="16520" y="9653"/>
                  <a:pt x="16538" y="9729"/>
                  <a:pt x="16594" y="9748"/>
                </a:cubicBezTo>
                <a:cubicBezTo>
                  <a:pt x="16656" y="9769"/>
                  <a:pt x="16702" y="9737"/>
                  <a:pt x="16743" y="9699"/>
                </a:cubicBezTo>
                <a:cubicBezTo>
                  <a:pt x="16790" y="9656"/>
                  <a:pt x="16809" y="9575"/>
                  <a:pt x="16818" y="9525"/>
                </a:cubicBezTo>
                <a:cubicBezTo>
                  <a:pt x="16832" y="9453"/>
                  <a:pt x="16803" y="9453"/>
                  <a:pt x="16768" y="9401"/>
                </a:cubicBezTo>
                <a:cubicBezTo>
                  <a:pt x="16699" y="9470"/>
                  <a:pt x="16643" y="9512"/>
                  <a:pt x="16619" y="9599"/>
                </a:cubicBezTo>
                <a:cubicBezTo>
                  <a:pt x="16614" y="9618"/>
                  <a:pt x="16567" y="9746"/>
                  <a:pt x="16594" y="9773"/>
                </a:cubicBezTo>
                <a:cubicBezTo>
                  <a:pt x="16613" y="9792"/>
                  <a:pt x="16619" y="9806"/>
                  <a:pt x="1664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32680" y="3276720"/>
            <a:ext cx="125280" cy="1252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7338" y="9153"/>
                </a:moveTo>
                <a:cubicBezTo>
                  <a:pt x="17454" y="9153"/>
                  <a:pt x="17456" y="9135"/>
                  <a:pt x="17537" y="9103"/>
                </a:cubicBezTo>
                <a:cubicBezTo>
                  <a:pt x="17554" y="9103"/>
                  <a:pt x="17570" y="9103"/>
                  <a:pt x="17587" y="9103"/>
                </a:cubicBezTo>
              </a:path>
              <a:path w="348" h="349">
                <a:moveTo>
                  <a:pt x="17314" y="9451"/>
                </a:moveTo>
                <a:cubicBezTo>
                  <a:pt x="17454" y="9451"/>
                  <a:pt x="17435" y="9407"/>
                  <a:pt x="17562" y="9376"/>
                </a:cubicBezTo>
                <a:cubicBezTo>
                  <a:pt x="17618" y="9376"/>
                  <a:pt x="17639" y="9371"/>
                  <a:pt x="17661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35800" y="3241800"/>
            <a:ext cx="171360" cy="330120"/>
          </a:xfrm>
          <a:custGeom>
            <a:avLst/>
            <a:gdLst/>
            <a:ahLst/>
            <a:rect l="l" t="t" r="r" b="b"/>
            <a:pathLst>
              <a:path w="472" h="919">
                <a:moveTo>
                  <a:pt x="18331" y="9004"/>
                </a:moveTo>
                <a:cubicBezTo>
                  <a:pt x="18292" y="9186"/>
                  <a:pt x="18256" y="9320"/>
                  <a:pt x="18256" y="9500"/>
                </a:cubicBezTo>
                <a:cubicBezTo>
                  <a:pt x="18256" y="9597"/>
                  <a:pt x="18231" y="9676"/>
                  <a:pt x="18231" y="9773"/>
                </a:cubicBezTo>
                <a:cubicBezTo>
                  <a:pt x="18231" y="9831"/>
                  <a:pt x="18227" y="9907"/>
                  <a:pt x="18182" y="9922"/>
                </a:cubicBezTo>
                <a:cubicBezTo>
                  <a:pt x="18163" y="9827"/>
                  <a:pt x="18169" y="9772"/>
                  <a:pt x="18182" y="9674"/>
                </a:cubicBezTo>
                <a:cubicBezTo>
                  <a:pt x="18190" y="9612"/>
                  <a:pt x="18211" y="9550"/>
                  <a:pt x="18256" y="9500"/>
                </a:cubicBezTo>
                <a:cubicBezTo>
                  <a:pt x="18292" y="9459"/>
                  <a:pt x="18432" y="9407"/>
                  <a:pt x="18479" y="9401"/>
                </a:cubicBezTo>
                <a:cubicBezTo>
                  <a:pt x="18522" y="9395"/>
                  <a:pt x="18569" y="9432"/>
                  <a:pt x="18604" y="9451"/>
                </a:cubicBezTo>
                <a:cubicBezTo>
                  <a:pt x="18647" y="9474"/>
                  <a:pt x="18628" y="9558"/>
                  <a:pt x="18628" y="9599"/>
                </a:cubicBezTo>
                <a:cubicBezTo>
                  <a:pt x="18628" y="9699"/>
                  <a:pt x="18537" y="9687"/>
                  <a:pt x="18479" y="9748"/>
                </a:cubicBezTo>
                <a:cubicBezTo>
                  <a:pt x="18408" y="9823"/>
                  <a:pt x="18390" y="9839"/>
                  <a:pt x="18281" y="9847"/>
                </a:cubicBezTo>
                <a:cubicBezTo>
                  <a:pt x="18185" y="9854"/>
                  <a:pt x="18225" y="9949"/>
                  <a:pt x="18157" y="9847"/>
                </a:cubicBezTo>
                <a:cubicBezTo>
                  <a:pt x="18166" y="9820"/>
                  <a:pt x="18201" y="9810"/>
                  <a:pt x="18231" y="9773"/>
                </a:cubicBezTo>
                <a:cubicBezTo>
                  <a:pt x="18275" y="9719"/>
                  <a:pt x="18269" y="9753"/>
                  <a:pt x="18331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187800"/>
            <a:ext cx="1224000" cy="536400"/>
          </a:xfrm>
          <a:custGeom>
            <a:avLst/>
            <a:gdLst/>
            <a:ahLst/>
            <a:rect l="l" t="t" r="r" b="b"/>
            <a:pathLst>
              <a:path w="3399" h="1490">
                <a:moveTo>
                  <a:pt x="19100" y="9376"/>
                </a:moveTo>
                <a:cubicBezTo>
                  <a:pt x="19060" y="9389"/>
                  <a:pt x="19021" y="9480"/>
                  <a:pt x="19050" y="9451"/>
                </a:cubicBezTo>
                <a:cubicBezTo>
                  <a:pt x="19058" y="9434"/>
                  <a:pt x="19067" y="9418"/>
                  <a:pt x="19075" y="9401"/>
                </a:cubicBezTo>
              </a:path>
              <a:path w="3399" h="1490">
                <a:moveTo>
                  <a:pt x="19819" y="9153"/>
                </a:moveTo>
                <a:cubicBezTo>
                  <a:pt x="19737" y="9167"/>
                  <a:pt x="19703" y="9201"/>
                  <a:pt x="19645" y="9252"/>
                </a:cubicBezTo>
                <a:cubicBezTo>
                  <a:pt x="19615" y="9278"/>
                  <a:pt x="19459" y="9319"/>
                  <a:pt x="19472" y="9376"/>
                </a:cubicBezTo>
                <a:cubicBezTo>
                  <a:pt x="19504" y="9520"/>
                  <a:pt x="19562" y="9398"/>
                  <a:pt x="19621" y="9475"/>
                </a:cubicBezTo>
                <a:cubicBezTo>
                  <a:pt x="19665" y="9532"/>
                  <a:pt x="19707" y="9598"/>
                  <a:pt x="19695" y="9674"/>
                </a:cubicBezTo>
                <a:cubicBezTo>
                  <a:pt x="19682" y="9760"/>
                  <a:pt x="19632" y="9832"/>
                  <a:pt x="19546" y="9847"/>
                </a:cubicBezTo>
                <a:cubicBezTo>
                  <a:pt x="19527" y="9850"/>
                  <a:pt x="19406" y="9919"/>
                  <a:pt x="19397" y="9897"/>
                </a:cubicBezTo>
                <a:cubicBezTo>
                  <a:pt x="19397" y="9852"/>
                  <a:pt x="19393" y="9839"/>
                  <a:pt x="19422" y="9823"/>
                </a:cubicBezTo>
              </a:path>
              <a:path w="3399" h="1490">
                <a:moveTo>
                  <a:pt x="19918" y="9550"/>
                </a:moveTo>
                <a:cubicBezTo>
                  <a:pt x="19886" y="9641"/>
                  <a:pt x="19859" y="9769"/>
                  <a:pt x="19819" y="9847"/>
                </a:cubicBezTo>
              </a:path>
              <a:path w="3399" h="1490">
                <a:moveTo>
                  <a:pt x="20067" y="9004"/>
                </a:moveTo>
                <a:lnTo>
                  <a:pt x="20067" y="9004"/>
                </a:lnTo>
              </a:path>
              <a:path w="3399" h="1490">
                <a:moveTo>
                  <a:pt x="20117" y="9674"/>
                </a:moveTo>
                <a:cubicBezTo>
                  <a:pt x="20090" y="9764"/>
                  <a:pt x="20078" y="9754"/>
                  <a:pt x="20067" y="9823"/>
                </a:cubicBezTo>
                <a:cubicBezTo>
                  <a:pt x="20067" y="9756"/>
                  <a:pt x="20076" y="9687"/>
                  <a:pt x="20092" y="9624"/>
                </a:cubicBezTo>
                <a:cubicBezTo>
                  <a:pt x="20114" y="9536"/>
                  <a:pt x="20181" y="9466"/>
                  <a:pt x="20241" y="9401"/>
                </a:cubicBezTo>
                <a:cubicBezTo>
                  <a:pt x="20279" y="9359"/>
                  <a:pt x="20309" y="9273"/>
                  <a:pt x="20389" y="9302"/>
                </a:cubicBezTo>
                <a:cubicBezTo>
                  <a:pt x="20437" y="9320"/>
                  <a:pt x="20462" y="9411"/>
                  <a:pt x="20464" y="9451"/>
                </a:cubicBezTo>
                <a:cubicBezTo>
                  <a:pt x="20472" y="9582"/>
                  <a:pt x="20463" y="9698"/>
                  <a:pt x="20439" y="9823"/>
                </a:cubicBezTo>
                <a:cubicBezTo>
                  <a:pt x="20427" y="9884"/>
                  <a:pt x="20449" y="9958"/>
                  <a:pt x="20464" y="9823"/>
                </a:cubicBezTo>
              </a:path>
              <a:path w="3399" h="1490">
                <a:moveTo>
                  <a:pt x="20960" y="9227"/>
                </a:moveTo>
                <a:cubicBezTo>
                  <a:pt x="20890" y="9298"/>
                  <a:pt x="20868" y="9319"/>
                  <a:pt x="20836" y="9376"/>
                </a:cubicBezTo>
                <a:cubicBezTo>
                  <a:pt x="20861" y="9321"/>
                  <a:pt x="20875" y="9277"/>
                  <a:pt x="20910" y="9227"/>
                </a:cubicBezTo>
                <a:cubicBezTo>
                  <a:pt x="20937" y="9189"/>
                  <a:pt x="20990" y="9150"/>
                  <a:pt x="21034" y="9103"/>
                </a:cubicBezTo>
                <a:cubicBezTo>
                  <a:pt x="21076" y="9058"/>
                  <a:pt x="21149" y="9079"/>
                  <a:pt x="21208" y="9079"/>
                </a:cubicBezTo>
                <a:cubicBezTo>
                  <a:pt x="21267" y="9079"/>
                  <a:pt x="21320" y="9076"/>
                  <a:pt x="21332" y="9153"/>
                </a:cubicBezTo>
                <a:cubicBezTo>
                  <a:pt x="21354" y="9298"/>
                  <a:pt x="21288" y="9378"/>
                  <a:pt x="21233" y="9475"/>
                </a:cubicBezTo>
                <a:cubicBezTo>
                  <a:pt x="21172" y="9583"/>
                  <a:pt x="21107" y="9670"/>
                  <a:pt x="21034" y="9773"/>
                </a:cubicBezTo>
                <a:cubicBezTo>
                  <a:pt x="20976" y="9856"/>
                  <a:pt x="20894" y="9924"/>
                  <a:pt x="20836" y="9996"/>
                </a:cubicBezTo>
                <a:cubicBezTo>
                  <a:pt x="20828" y="10013"/>
                  <a:pt x="20819" y="10029"/>
                  <a:pt x="20811" y="10046"/>
                </a:cubicBezTo>
                <a:cubicBezTo>
                  <a:pt x="20869" y="10046"/>
                  <a:pt x="20877" y="10046"/>
                  <a:pt x="20935" y="10046"/>
                </a:cubicBezTo>
                <a:cubicBezTo>
                  <a:pt x="21012" y="10046"/>
                  <a:pt x="21055" y="9984"/>
                  <a:pt x="21134" y="9971"/>
                </a:cubicBezTo>
                <a:cubicBezTo>
                  <a:pt x="21228" y="9955"/>
                  <a:pt x="21288" y="9918"/>
                  <a:pt x="21382" y="9897"/>
                </a:cubicBezTo>
                <a:cubicBezTo>
                  <a:pt x="21502" y="9870"/>
                  <a:pt x="21503" y="9874"/>
                  <a:pt x="21605" y="9773"/>
                </a:cubicBezTo>
              </a:path>
              <a:path w="3399" h="1490">
                <a:moveTo>
                  <a:pt x="21803" y="9252"/>
                </a:moveTo>
                <a:cubicBezTo>
                  <a:pt x="21756" y="9339"/>
                  <a:pt x="21754" y="9358"/>
                  <a:pt x="21754" y="9451"/>
                </a:cubicBezTo>
                <a:cubicBezTo>
                  <a:pt x="21754" y="9513"/>
                  <a:pt x="21783" y="9494"/>
                  <a:pt x="21803" y="9525"/>
                </a:cubicBezTo>
                <a:cubicBezTo>
                  <a:pt x="21836" y="9575"/>
                  <a:pt x="21913" y="9545"/>
                  <a:pt x="21977" y="9525"/>
                </a:cubicBezTo>
                <a:cubicBezTo>
                  <a:pt x="22097" y="9488"/>
                  <a:pt x="22161" y="9447"/>
                  <a:pt x="22250" y="9376"/>
                </a:cubicBezTo>
                <a:cubicBezTo>
                  <a:pt x="22387" y="9267"/>
                  <a:pt x="22339" y="9342"/>
                  <a:pt x="22448" y="9153"/>
                </a:cubicBezTo>
              </a:path>
              <a:path w="3399" h="1490">
                <a:moveTo>
                  <a:pt x="22448" y="8855"/>
                </a:moveTo>
                <a:cubicBezTo>
                  <a:pt x="22370" y="8983"/>
                  <a:pt x="22312" y="9084"/>
                  <a:pt x="22275" y="9227"/>
                </a:cubicBezTo>
                <a:cubicBezTo>
                  <a:pt x="22234" y="9383"/>
                  <a:pt x="22193" y="9522"/>
                  <a:pt x="22151" y="9674"/>
                </a:cubicBezTo>
                <a:cubicBezTo>
                  <a:pt x="22119" y="9791"/>
                  <a:pt x="22066" y="9926"/>
                  <a:pt x="22051" y="10046"/>
                </a:cubicBezTo>
                <a:cubicBezTo>
                  <a:pt x="22038" y="10149"/>
                  <a:pt x="22055" y="10246"/>
                  <a:pt x="22076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4840" y="3919680"/>
            <a:ext cx="1071360" cy="1188720"/>
          </a:xfrm>
          <a:custGeom>
            <a:avLst/>
            <a:gdLst/>
            <a:ahLst/>
            <a:rect l="l" t="t" r="r" b="b"/>
            <a:pathLst>
              <a:path w="2978" h="3300">
                <a:moveTo>
                  <a:pt x="13990" y="10889"/>
                </a:moveTo>
                <a:cubicBezTo>
                  <a:pt x="13865" y="10969"/>
                  <a:pt x="13656" y="11068"/>
                  <a:pt x="13568" y="11212"/>
                </a:cubicBezTo>
                <a:cubicBezTo>
                  <a:pt x="13506" y="11314"/>
                  <a:pt x="13685" y="11357"/>
                  <a:pt x="13742" y="11385"/>
                </a:cubicBezTo>
                <a:cubicBezTo>
                  <a:pt x="13864" y="11444"/>
                  <a:pt x="14029" y="11500"/>
                  <a:pt x="14089" y="11633"/>
                </a:cubicBezTo>
                <a:cubicBezTo>
                  <a:pt x="14128" y="11719"/>
                  <a:pt x="14019" y="11785"/>
                  <a:pt x="13965" y="11807"/>
                </a:cubicBezTo>
                <a:cubicBezTo>
                  <a:pt x="13898" y="11834"/>
                  <a:pt x="13763" y="11857"/>
                  <a:pt x="13692" y="11832"/>
                </a:cubicBezTo>
                <a:cubicBezTo>
                  <a:pt x="13611" y="11803"/>
                  <a:pt x="13653" y="11711"/>
                  <a:pt x="13667" y="11658"/>
                </a:cubicBezTo>
              </a:path>
              <a:path w="2978" h="3300">
                <a:moveTo>
                  <a:pt x="14511" y="11534"/>
                </a:moveTo>
                <a:cubicBezTo>
                  <a:pt x="14522" y="11645"/>
                  <a:pt x="14565" y="11911"/>
                  <a:pt x="14486" y="11832"/>
                </a:cubicBezTo>
                <a:cubicBezTo>
                  <a:pt x="14478" y="11815"/>
                  <a:pt x="14469" y="11799"/>
                  <a:pt x="14461" y="11782"/>
                </a:cubicBezTo>
              </a:path>
              <a:path w="2978" h="3300">
                <a:moveTo>
                  <a:pt x="14486" y="10939"/>
                </a:moveTo>
                <a:cubicBezTo>
                  <a:pt x="14511" y="10955"/>
                  <a:pt x="14535" y="10972"/>
                  <a:pt x="14560" y="10988"/>
                </a:cubicBezTo>
              </a:path>
              <a:path w="2978" h="3300">
                <a:moveTo>
                  <a:pt x="14709" y="11633"/>
                </a:moveTo>
                <a:cubicBezTo>
                  <a:pt x="14748" y="11647"/>
                  <a:pt x="14751" y="11535"/>
                  <a:pt x="14759" y="11460"/>
                </a:cubicBezTo>
                <a:cubicBezTo>
                  <a:pt x="14767" y="11393"/>
                  <a:pt x="14812" y="11200"/>
                  <a:pt x="14932" y="11237"/>
                </a:cubicBezTo>
                <a:cubicBezTo>
                  <a:pt x="15014" y="11263"/>
                  <a:pt x="15119" y="11386"/>
                  <a:pt x="15156" y="11460"/>
                </a:cubicBezTo>
                <a:cubicBezTo>
                  <a:pt x="15189" y="11527"/>
                  <a:pt x="15232" y="11657"/>
                  <a:pt x="15205" y="11733"/>
                </a:cubicBezTo>
                <a:cubicBezTo>
                  <a:pt x="15177" y="11760"/>
                  <a:pt x="15168" y="11764"/>
                  <a:pt x="15180" y="11708"/>
                </a:cubicBezTo>
              </a:path>
              <a:path w="2978" h="3300">
                <a:moveTo>
                  <a:pt x="15429" y="11187"/>
                </a:moveTo>
                <a:cubicBezTo>
                  <a:pt x="15568" y="11249"/>
                  <a:pt x="15645" y="11253"/>
                  <a:pt x="15652" y="11410"/>
                </a:cubicBezTo>
                <a:cubicBezTo>
                  <a:pt x="15656" y="11494"/>
                  <a:pt x="15613" y="11560"/>
                  <a:pt x="15577" y="11633"/>
                </a:cubicBezTo>
                <a:cubicBezTo>
                  <a:pt x="15551" y="11685"/>
                  <a:pt x="15559" y="11761"/>
                  <a:pt x="15627" y="11782"/>
                </a:cubicBezTo>
                <a:cubicBezTo>
                  <a:pt x="15710" y="11808"/>
                  <a:pt x="15783" y="11769"/>
                  <a:pt x="15850" y="11733"/>
                </a:cubicBezTo>
              </a:path>
              <a:path w="2978" h="3300">
                <a:moveTo>
                  <a:pt x="15949" y="11336"/>
                </a:moveTo>
                <a:cubicBezTo>
                  <a:pt x="15931" y="11494"/>
                  <a:pt x="15927" y="11528"/>
                  <a:pt x="16098" y="11559"/>
                </a:cubicBezTo>
                <a:cubicBezTo>
                  <a:pt x="16115" y="11559"/>
                  <a:pt x="16131" y="11559"/>
                  <a:pt x="16148" y="11559"/>
                </a:cubicBezTo>
              </a:path>
              <a:path w="2978" h="3300">
                <a:moveTo>
                  <a:pt x="16371" y="11162"/>
                </a:moveTo>
                <a:cubicBezTo>
                  <a:pt x="16313" y="11400"/>
                  <a:pt x="16240" y="11592"/>
                  <a:pt x="16297" y="11832"/>
                </a:cubicBezTo>
                <a:cubicBezTo>
                  <a:pt x="16321" y="11933"/>
                  <a:pt x="16398" y="11976"/>
                  <a:pt x="16495" y="11981"/>
                </a:cubicBezTo>
                <a:cubicBezTo>
                  <a:pt x="16512" y="11981"/>
                  <a:pt x="16528" y="11981"/>
                  <a:pt x="16545" y="11981"/>
                </a:cubicBezTo>
              </a:path>
              <a:path w="2978" h="3300">
                <a:moveTo>
                  <a:pt x="15131" y="13047"/>
                </a:moveTo>
                <a:cubicBezTo>
                  <a:pt x="15143" y="12968"/>
                  <a:pt x="15167" y="12894"/>
                  <a:pt x="15056" y="12874"/>
                </a:cubicBezTo>
                <a:cubicBezTo>
                  <a:pt x="14925" y="12851"/>
                  <a:pt x="14803" y="12882"/>
                  <a:pt x="14684" y="12923"/>
                </a:cubicBezTo>
                <a:cubicBezTo>
                  <a:pt x="14601" y="12951"/>
                  <a:pt x="14536" y="13001"/>
                  <a:pt x="14486" y="13047"/>
                </a:cubicBezTo>
                <a:cubicBezTo>
                  <a:pt x="14438" y="13092"/>
                  <a:pt x="14462" y="13139"/>
                  <a:pt x="14511" y="13171"/>
                </a:cubicBezTo>
                <a:cubicBezTo>
                  <a:pt x="14587" y="13220"/>
                  <a:pt x="14646" y="13221"/>
                  <a:pt x="14734" y="13221"/>
                </a:cubicBezTo>
                <a:cubicBezTo>
                  <a:pt x="14837" y="13221"/>
                  <a:pt x="14899" y="13138"/>
                  <a:pt x="14957" y="13072"/>
                </a:cubicBezTo>
                <a:cubicBezTo>
                  <a:pt x="15017" y="13004"/>
                  <a:pt x="15039" y="12992"/>
                  <a:pt x="15081" y="12923"/>
                </a:cubicBezTo>
                <a:cubicBezTo>
                  <a:pt x="15048" y="12972"/>
                  <a:pt x="15008" y="13040"/>
                  <a:pt x="14982" y="13097"/>
                </a:cubicBezTo>
                <a:cubicBezTo>
                  <a:pt x="14937" y="13195"/>
                  <a:pt x="14957" y="13314"/>
                  <a:pt x="14957" y="13419"/>
                </a:cubicBezTo>
                <a:cubicBezTo>
                  <a:pt x="14957" y="13529"/>
                  <a:pt x="14962" y="13610"/>
                  <a:pt x="14957" y="13717"/>
                </a:cubicBezTo>
                <a:cubicBezTo>
                  <a:pt x="14955" y="13775"/>
                  <a:pt x="14957" y="13783"/>
                  <a:pt x="14957" y="13841"/>
                </a:cubicBezTo>
              </a:path>
              <a:path w="2978" h="3300">
                <a:moveTo>
                  <a:pt x="15280" y="13791"/>
                </a:moveTo>
                <a:cubicBezTo>
                  <a:pt x="15280" y="13763"/>
                  <a:pt x="15282" y="13753"/>
                  <a:pt x="15304" y="13742"/>
                </a:cubicBezTo>
              </a:path>
              <a:path w="2978" h="3300">
                <a:moveTo>
                  <a:pt x="15825" y="13047"/>
                </a:moveTo>
                <a:cubicBezTo>
                  <a:pt x="15798" y="13194"/>
                  <a:pt x="15741" y="13345"/>
                  <a:pt x="15726" y="13494"/>
                </a:cubicBezTo>
                <a:cubicBezTo>
                  <a:pt x="15713" y="13623"/>
                  <a:pt x="15720" y="13736"/>
                  <a:pt x="15801" y="13841"/>
                </a:cubicBezTo>
                <a:cubicBezTo>
                  <a:pt x="15852" y="13907"/>
                  <a:pt x="15945" y="13937"/>
                  <a:pt x="16024" y="13940"/>
                </a:cubicBezTo>
                <a:cubicBezTo>
                  <a:pt x="16123" y="13944"/>
                  <a:pt x="16197" y="13872"/>
                  <a:pt x="16247" y="13791"/>
                </a:cubicBezTo>
                <a:cubicBezTo>
                  <a:pt x="16298" y="13708"/>
                  <a:pt x="16263" y="13694"/>
                  <a:pt x="16197" y="13667"/>
                </a:cubicBezTo>
                <a:cubicBezTo>
                  <a:pt x="16126" y="13638"/>
                  <a:pt x="16021" y="13668"/>
                  <a:pt x="15974" y="13742"/>
                </a:cubicBezTo>
                <a:cubicBezTo>
                  <a:pt x="15897" y="13862"/>
                  <a:pt x="15925" y="14058"/>
                  <a:pt x="15925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30960" y="3214800"/>
            <a:ext cx="1403280" cy="1884240"/>
          </a:xfrm>
          <a:custGeom>
            <a:avLst/>
            <a:gdLst/>
            <a:ahLst/>
            <a:rect l="l" t="t" r="r" b="b"/>
            <a:pathLst>
              <a:path w="3895" h="5234">
                <a:moveTo>
                  <a:pt x="21456" y="8930"/>
                </a:moveTo>
                <a:cubicBezTo>
                  <a:pt x="21453" y="8972"/>
                  <a:pt x="21418" y="9094"/>
                  <a:pt x="21382" y="9178"/>
                </a:cubicBezTo>
                <a:cubicBezTo>
                  <a:pt x="21300" y="9370"/>
                  <a:pt x="21143" y="9536"/>
                  <a:pt x="21010" y="9699"/>
                </a:cubicBezTo>
                <a:cubicBezTo>
                  <a:pt x="20835" y="9913"/>
                  <a:pt x="20631" y="10130"/>
                  <a:pt x="20489" y="10368"/>
                </a:cubicBezTo>
                <a:cubicBezTo>
                  <a:pt x="20325" y="10641"/>
                  <a:pt x="20220" y="10950"/>
                  <a:pt x="20092" y="11237"/>
                </a:cubicBezTo>
                <a:cubicBezTo>
                  <a:pt x="19972" y="11506"/>
                  <a:pt x="19828" y="11757"/>
                  <a:pt x="19670" y="12005"/>
                </a:cubicBezTo>
              </a:path>
              <a:path w="3895" h="5234">
                <a:moveTo>
                  <a:pt x="17587" y="13667"/>
                </a:moveTo>
                <a:cubicBezTo>
                  <a:pt x="17744" y="13632"/>
                  <a:pt x="17873" y="13662"/>
                  <a:pt x="18033" y="13692"/>
                </a:cubicBezTo>
                <a:cubicBezTo>
                  <a:pt x="18074" y="13700"/>
                  <a:pt x="18116" y="13709"/>
                  <a:pt x="18157" y="13717"/>
                </a:cubicBezTo>
              </a:path>
              <a:path w="3895" h="5234">
                <a:moveTo>
                  <a:pt x="17686" y="14064"/>
                </a:moveTo>
                <a:cubicBezTo>
                  <a:pt x="17877" y="14064"/>
                  <a:pt x="17945" y="14075"/>
                  <a:pt x="18107" y="14015"/>
                </a:cubicBezTo>
              </a:path>
              <a:path w="3895" h="5234">
                <a:moveTo>
                  <a:pt x="18628" y="13246"/>
                </a:moveTo>
                <a:cubicBezTo>
                  <a:pt x="18628" y="13439"/>
                  <a:pt x="18608" y="13624"/>
                  <a:pt x="18604" y="13816"/>
                </a:cubicBezTo>
                <a:cubicBezTo>
                  <a:pt x="18602" y="13935"/>
                  <a:pt x="18609" y="14022"/>
                  <a:pt x="18628" y="14139"/>
                </a:cubicBezTo>
                <a:cubicBezTo>
                  <a:pt x="18628" y="14082"/>
                  <a:pt x="18628" y="14072"/>
                  <a:pt x="18628" y="14015"/>
                </a:cubicBezTo>
                <a:cubicBezTo>
                  <a:pt x="18628" y="13885"/>
                  <a:pt x="18658" y="13780"/>
                  <a:pt x="18703" y="13667"/>
                </a:cubicBezTo>
                <a:cubicBezTo>
                  <a:pt x="18744" y="13563"/>
                  <a:pt x="18878" y="13532"/>
                  <a:pt x="18976" y="13618"/>
                </a:cubicBezTo>
                <a:cubicBezTo>
                  <a:pt x="19069" y="13700"/>
                  <a:pt x="19279" y="13905"/>
                  <a:pt x="19248" y="14064"/>
                </a:cubicBezTo>
                <a:cubicBezTo>
                  <a:pt x="19240" y="14081"/>
                  <a:pt x="19232" y="14097"/>
                  <a:pt x="19224" y="14114"/>
                </a:cubicBezTo>
                <a:cubicBezTo>
                  <a:pt x="19125" y="14151"/>
                  <a:pt x="19057" y="14138"/>
                  <a:pt x="18951" y="14114"/>
                </a:cubicBezTo>
                <a:cubicBezTo>
                  <a:pt x="18783" y="14075"/>
                  <a:pt x="18613" y="13981"/>
                  <a:pt x="18455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697200"/>
            <a:ext cx="3232080" cy="795600"/>
          </a:xfrm>
          <a:custGeom>
            <a:avLst/>
            <a:gdLst/>
            <a:ahLst/>
            <a:rect l="l" t="t" r="r" b="b"/>
            <a:pathLst>
              <a:path w="8980" h="2209">
                <a:moveTo>
                  <a:pt x="18281" y="10790"/>
                </a:moveTo>
                <a:cubicBezTo>
                  <a:pt x="18400" y="10790"/>
                  <a:pt x="18512" y="10774"/>
                  <a:pt x="18628" y="10765"/>
                </a:cubicBezTo>
                <a:cubicBezTo>
                  <a:pt x="18943" y="10741"/>
                  <a:pt x="19259" y="10673"/>
                  <a:pt x="19571" y="10641"/>
                </a:cubicBezTo>
                <a:cubicBezTo>
                  <a:pt x="19851" y="10613"/>
                  <a:pt x="20134" y="10541"/>
                  <a:pt x="20414" y="10517"/>
                </a:cubicBezTo>
                <a:cubicBezTo>
                  <a:pt x="20684" y="10494"/>
                  <a:pt x="20961" y="10492"/>
                  <a:pt x="21233" y="10492"/>
                </a:cubicBezTo>
                <a:cubicBezTo>
                  <a:pt x="21381" y="10492"/>
                  <a:pt x="21778" y="10492"/>
                  <a:pt x="21630" y="10492"/>
                </a:cubicBezTo>
                <a:cubicBezTo>
                  <a:pt x="21597" y="10492"/>
                  <a:pt x="21580" y="10492"/>
                  <a:pt x="21555" y="10492"/>
                </a:cubicBezTo>
              </a:path>
              <a:path w="8980" h="2209">
                <a:moveTo>
                  <a:pt x="19496" y="11361"/>
                </a:moveTo>
                <a:cubicBezTo>
                  <a:pt x="19401" y="11449"/>
                  <a:pt x="19322" y="11550"/>
                  <a:pt x="19224" y="11633"/>
                </a:cubicBezTo>
                <a:cubicBezTo>
                  <a:pt x="19196" y="11657"/>
                  <a:pt x="19067" y="11695"/>
                  <a:pt x="19100" y="11757"/>
                </a:cubicBezTo>
                <a:cubicBezTo>
                  <a:pt x="19130" y="11812"/>
                  <a:pt x="19224" y="11850"/>
                  <a:pt x="19273" y="11881"/>
                </a:cubicBezTo>
                <a:cubicBezTo>
                  <a:pt x="19335" y="11920"/>
                  <a:pt x="19438" y="11984"/>
                  <a:pt x="19397" y="12080"/>
                </a:cubicBezTo>
                <a:cubicBezTo>
                  <a:pt x="19354" y="12181"/>
                  <a:pt x="19233" y="12243"/>
                  <a:pt x="19149" y="12303"/>
                </a:cubicBezTo>
                <a:cubicBezTo>
                  <a:pt x="19070" y="12363"/>
                  <a:pt x="19061" y="12388"/>
                  <a:pt x="19000" y="12378"/>
                </a:cubicBezTo>
                <a:cubicBezTo>
                  <a:pt x="18983" y="12361"/>
                  <a:pt x="18995" y="12313"/>
                  <a:pt x="19000" y="12254"/>
                </a:cubicBezTo>
              </a:path>
              <a:path w="8980" h="2209">
                <a:moveTo>
                  <a:pt x="19720" y="11931"/>
                </a:moveTo>
                <a:cubicBezTo>
                  <a:pt x="19715" y="12036"/>
                  <a:pt x="19735" y="12167"/>
                  <a:pt x="19670" y="12254"/>
                </a:cubicBezTo>
              </a:path>
              <a:path w="8980" h="2209">
                <a:moveTo>
                  <a:pt x="19968" y="12129"/>
                </a:moveTo>
                <a:cubicBezTo>
                  <a:pt x="20027" y="12150"/>
                  <a:pt x="19970" y="12050"/>
                  <a:pt x="19968" y="11981"/>
                </a:cubicBezTo>
                <a:cubicBezTo>
                  <a:pt x="19965" y="11867"/>
                  <a:pt x="19944" y="11767"/>
                  <a:pt x="20067" y="11757"/>
                </a:cubicBezTo>
                <a:cubicBezTo>
                  <a:pt x="20109" y="11753"/>
                  <a:pt x="20220" y="11868"/>
                  <a:pt x="20241" y="11906"/>
                </a:cubicBezTo>
                <a:cubicBezTo>
                  <a:pt x="20291" y="11995"/>
                  <a:pt x="20290" y="12105"/>
                  <a:pt x="20290" y="12204"/>
                </a:cubicBezTo>
                <a:cubicBezTo>
                  <a:pt x="20290" y="12254"/>
                  <a:pt x="20290" y="12155"/>
                  <a:pt x="20290" y="12105"/>
                </a:cubicBezTo>
              </a:path>
              <a:path w="8980" h="2209">
                <a:moveTo>
                  <a:pt x="20513" y="11410"/>
                </a:moveTo>
                <a:cubicBezTo>
                  <a:pt x="20600" y="11391"/>
                  <a:pt x="20710" y="11359"/>
                  <a:pt x="20786" y="11435"/>
                </a:cubicBezTo>
                <a:cubicBezTo>
                  <a:pt x="20870" y="11519"/>
                  <a:pt x="20835" y="11626"/>
                  <a:pt x="20786" y="11708"/>
                </a:cubicBezTo>
                <a:cubicBezTo>
                  <a:pt x="20744" y="11779"/>
                  <a:pt x="20588" y="11899"/>
                  <a:pt x="20662" y="11981"/>
                </a:cubicBezTo>
                <a:cubicBezTo>
                  <a:pt x="20732" y="12059"/>
                  <a:pt x="20870" y="12088"/>
                  <a:pt x="20960" y="12030"/>
                </a:cubicBezTo>
                <a:cubicBezTo>
                  <a:pt x="20985" y="12005"/>
                  <a:pt x="21009" y="11981"/>
                  <a:pt x="21034" y="11956"/>
                </a:cubicBezTo>
              </a:path>
              <a:path w="8980" h="2209">
                <a:moveTo>
                  <a:pt x="21357" y="11385"/>
                </a:moveTo>
                <a:cubicBezTo>
                  <a:pt x="21306" y="11488"/>
                  <a:pt x="21283" y="11531"/>
                  <a:pt x="21357" y="11633"/>
                </a:cubicBezTo>
                <a:cubicBezTo>
                  <a:pt x="21407" y="11684"/>
                  <a:pt x="21425" y="11701"/>
                  <a:pt x="21481" y="11683"/>
                </a:cubicBezTo>
              </a:path>
              <a:path w="8980" h="2209">
                <a:moveTo>
                  <a:pt x="21654" y="11336"/>
                </a:moveTo>
                <a:cubicBezTo>
                  <a:pt x="21675" y="11633"/>
                  <a:pt x="21698" y="11890"/>
                  <a:pt x="21630" y="12179"/>
                </a:cubicBezTo>
                <a:cubicBezTo>
                  <a:pt x="21605" y="12278"/>
                  <a:pt x="21580" y="12378"/>
                  <a:pt x="21555" y="12477"/>
                </a:cubicBezTo>
              </a:path>
              <a:path w="8980" h="2209">
                <a:moveTo>
                  <a:pt x="12700" y="10740"/>
                </a:moveTo>
                <a:cubicBezTo>
                  <a:pt x="12982" y="10663"/>
                  <a:pt x="13254" y="10626"/>
                  <a:pt x="13543" y="10592"/>
                </a:cubicBezTo>
                <a:cubicBezTo>
                  <a:pt x="13920" y="10548"/>
                  <a:pt x="14279" y="10496"/>
                  <a:pt x="14660" y="10492"/>
                </a:cubicBezTo>
                <a:cubicBezTo>
                  <a:pt x="15009" y="10489"/>
                  <a:pt x="15353" y="10513"/>
                  <a:pt x="15701" y="10517"/>
                </a:cubicBezTo>
                <a:cubicBezTo>
                  <a:pt x="15755" y="10518"/>
                  <a:pt x="16225" y="10556"/>
                  <a:pt x="16272" y="10492"/>
                </a:cubicBezTo>
                <a:cubicBezTo>
                  <a:pt x="16405" y="10311"/>
                  <a:pt x="16026" y="10292"/>
                  <a:pt x="15949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ge 434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#1-7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With the federal government in the midst of a $700 Billion bailout of the banking industry, What would $700 Billion look like?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Get back Friday’s tests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akes must be done this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e6e3aa"/>
                </a:solidFill>
                <a:latin typeface="Garamond"/>
              </a:rPr>
              <a:t>Chapter Six</a:t>
            </a:r>
            <a:br>
              <a:rPr sz="4000"/>
            </a:b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Topics in Trigonometry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Lesson 6.1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rt one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Review:  How did we “solve” a triangle?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what if we don’t have a right triangle?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The </a:t>
            </a:r>
            <a:r>
              <a:rPr b="1" lang="en-US" sz="4000" spc="-1" strike="noStrike" u="sng">
                <a:solidFill>
                  <a:srgbClr val="e6e3aa"/>
                </a:solidFill>
                <a:uFillTx/>
                <a:latin typeface="Garamond"/>
              </a:rPr>
              <a:t>Law of Sines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can be used to solve </a:t>
            </a: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most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oblique triangles (triangles without a right angle)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1303200" y="4054320"/>
            <a:ext cx="2428920" cy="2606760"/>
          </a:xfrm>
          <a:custGeom>
            <a:avLst/>
            <a:gdLst/>
            <a:ahLst/>
            <a:rect l="l" t="t" r="r" b="b"/>
            <a:pathLst>
              <a:path w="6748" h="7244">
                <a:moveTo>
                  <a:pt x="4118" y="11361"/>
                </a:moveTo>
                <a:cubicBezTo>
                  <a:pt x="4141" y="11384"/>
                  <a:pt x="4166" y="11411"/>
                  <a:pt x="4192" y="11460"/>
                </a:cubicBezTo>
                <a:cubicBezTo>
                  <a:pt x="4238" y="11546"/>
                  <a:pt x="4294" y="11620"/>
                  <a:pt x="4341" y="11708"/>
                </a:cubicBezTo>
                <a:cubicBezTo>
                  <a:pt x="4406" y="11830"/>
                  <a:pt x="4513" y="11958"/>
                  <a:pt x="4614" y="12055"/>
                </a:cubicBezTo>
                <a:cubicBezTo>
                  <a:pt x="4716" y="12152"/>
                  <a:pt x="4819" y="12238"/>
                  <a:pt x="4936" y="12303"/>
                </a:cubicBezTo>
                <a:cubicBezTo>
                  <a:pt x="4953" y="12311"/>
                  <a:pt x="4969" y="12320"/>
                  <a:pt x="4986" y="12328"/>
                </a:cubicBezTo>
              </a:path>
              <a:path w="6748" h="7244">
                <a:moveTo>
                  <a:pt x="4688" y="11336"/>
                </a:moveTo>
                <a:cubicBezTo>
                  <a:pt x="4574" y="11393"/>
                  <a:pt x="4597" y="11425"/>
                  <a:pt x="4539" y="11534"/>
                </a:cubicBezTo>
                <a:cubicBezTo>
                  <a:pt x="4480" y="11645"/>
                  <a:pt x="4394" y="11743"/>
                  <a:pt x="4341" y="11857"/>
                </a:cubicBezTo>
                <a:cubicBezTo>
                  <a:pt x="4304" y="11936"/>
                  <a:pt x="4299" y="11964"/>
                  <a:pt x="4242" y="12030"/>
                </a:cubicBezTo>
              </a:path>
              <a:path w="6748" h="7244">
                <a:moveTo>
                  <a:pt x="3621" y="12427"/>
                </a:moveTo>
                <a:cubicBezTo>
                  <a:pt x="3781" y="12403"/>
                  <a:pt x="3931" y="12402"/>
                  <a:pt x="4093" y="12402"/>
                </a:cubicBezTo>
                <a:cubicBezTo>
                  <a:pt x="4391" y="12402"/>
                  <a:pt x="4688" y="12402"/>
                  <a:pt x="4986" y="12402"/>
                </a:cubicBezTo>
              </a:path>
              <a:path w="6748" h="7244">
                <a:moveTo>
                  <a:pt x="4266" y="12700"/>
                </a:moveTo>
                <a:cubicBezTo>
                  <a:pt x="4326" y="12664"/>
                  <a:pt x="4390" y="12675"/>
                  <a:pt x="4465" y="12675"/>
                </a:cubicBezTo>
                <a:cubicBezTo>
                  <a:pt x="4544" y="12675"/>
                  <a:pt x="4687" y="12712"/>
                  <a:pt x="4713" y="12799"/>
                </a:cubicBezTo>
                <a:cubicBezTo>
                  <a:pt x="4730" y="12855"/>
                  <a:pt x="4705" y="12958"/>
                  <a:pt x="4663" y="12998"/>
                </a:cubicBezTo>
                <a:cubicBezTo>
                  <a:pt x="4587" y="13070"/>
                  <a:pt x="4500" y="13094"/>
                  <a:pt x="4415" y="13122"/>
                </a:cubicBezTo>
                <a:cubicBezTo>
                  <a:pt x="4392" y="13130"/>
                  <a:pt x="4265" y="13159"/>
                  <a:pt x="4341" y="13146"/>
                </a:cubicBezTo>
                <a:cubicBezTo>
                  <a:pt x="4403" y="13136"/>
                  <a:pt x="4460" y="13156"/>
                  <a:pt x="4514" y="13171"/>
                </a:cubicBezTo>
                <a:cubicBezTo>
                  <a:pt x="4609" y="13197"/>
                  <a:pt x="4666" y="13261"/>
                  <a:pt x="4713" y="13345"/>
                </a:cubicBezTo>
                <a:cubicBezTo>
                  <a:pt x="4776" y="13458"/>
                  <a:pt x="4755" y="13549"/>
                  <a:pt x="4688" y="13667"/>
                </a:cubicBezTo>
                <a:cubicBezTo>
                  <a:pt x="4622" y="13782"/>
                  <a:pt x="4507" y="13811"/>
                  <a:pt x="4390" y="13841"/>
                </a:cubicBezTo>
                <a:cubicBezTo>
                  <a:pt x="4273" y="13871"/>
                  <a:pt x="4186" y="13898"/>
                  <a:pt x="4068" y="13866"/>
                </a:cubicBezTo>
                <a:cubicBezTo>
                  <a:pt x="3989" y="13844"/>
                  <a:pt x="3977" y="13759"/>
                  <a:pt x="3969" y="13692"/>
                </a:cubicBezTo>
              </a:path>
              <a:path w="6748" h="7244">
                <a:moveTo>
                  <a:pt x="5457" y="12303"/>
                </a:moveTo>
                <a:cubicBezTo>
                  <a:pt x="5581" y="12283"/>
                  <a:pt x="5751" y="12352"/>
                  <a:pt x="5829" y="12254"/>
                </a:cubicBezTo>
                <a:cubicBezTo>
                  <a:pt x="5829" y="12246"/>
                  <a:pt x="5829" y="12237"/>
                  <a:pt x="5829" y="12229"/>
                </a:cubicBezTo>
              </a:path>
              <a:path w="6748" h="7244">
                <a:moveTo>
                  <a:pt x="5581" y="12551"/>
                </a:moveTo>
                <a:cubicBezTo>
                  <a:pt x="5769" y="12543"/>
                  <a:pt x="5865" y="12552"/>
                  <a:pt x="6003" y="12427"/>
                </a:cubicBezTo>
                <a:cubicBezTo>
                  <a:pt x="6019" y="12411"/>
                  <a:pt x="6036" y="12394"/>
                  <a:pt x="6052" y="12378"/>
                </a:cubicBezTo>
              </a:path>
              <a:path w="6748" h="7244">
                <a:moveTo>
                  <a:pt x="6722" y="11286"/>
                </a:moveTo>
                <a:cubicBezTo>
                  <a:pt x="6697" y="11378"/>
                  <a:pt x="6692" y="11468"/>
                  <a:pt x="6672" y="11559"/>
                </a:cubicBezTo>
                <a:cubicBezTo>
                  <a:pt x="6646" y="11678"/>
                  <a:pt x="6650" y="11785"/>
                  <a:pt x="6672" y="11906"/>
                </a:cubicBezTo>
                <a:cubicBezTo>
                  <a:pt x="6691" y="12012"/>
                  <a:pt x="6701" y="12106"/>
                  <a:pt x="6747" y="12204"/>
                </a:cubicBezTo>
                <a:cubicBezTo>
                  <a:pt x="6785" y="12284"/>
                  <a:pt x="6748" y="12279"/>
                  <a:pt x="6821" y="12303"/>
                </a:cubicBezTo>
              </a:path>
              <a:path w="6748" h="7244">
                <a:moveTo>
                  <a:pt x="7119" y="11361"/>
                </a:moveTo>
                <a:cubicBezTo>
                  <a:pt x="7203" y="11285"/>
                  <a:pt x="7269" y="11232"/>
                  <a:pt x="7392" y="11286"/>
                </a:cubicBezTo>
                <a:cubicBezTo>
                  <a:pt x="7453" y="11313"/>
                  <a:pt x="7487" y="11346"/>
                  <a:pt x="7491" y="11410"/>
                </a:cubicBezTo>
                <a:cubicBezTo>
                  <a:pt x="7495" y="11481"/>
                  <a:pt x="7453" y="11572"/>
                  <a:pt x="7417" y="11633"/>
                </a:cubicBezTo>
                <a:cubicBezTo>
                  <a:pt x="7365" y="11722"/>
                  <a:pt x="7300" y="11798"/>
                  <a:pt x="7243" y="11881"/>
                </a:cubicBezTo>
                <a:cubicBezTo>
                  <a:pt x="7216" y="11921"/>
                  <a:pt x="7184" y="11988"/>
                  <a:pt x="7169" y="12030"/>
                </a:cubicBezTo>
                <a:cubicBezTo>
                  <a:pt x="7154" y="12073"/>
                  <a:pt x="7238" y="12122"/>
                  <a:pt x="7268" y="12129"/>
                </a:cubicBezTo>
                <a:cubicBezTo>
                  <a:pt x="7410" y="12162"/>
                  <a:pt x="7705" y="12158"/>
                  <a:pt x="7838" y="12105"/>
                </a:cubicBezTo>
                <a:cubicBezTo>
                  <a:pt x="7846" y="12097"/>
                  <a:pt x="7855" y="12088"/>
                  <a:pt x="7863" y="12080"/>
                </a:cubicBezTo>
              </a:path>
              <a:path w="6748" h="7244">
                <a:moveTo>
                  <a:pt x="6648" y="12378"/>
                </a:moveTo>
                <a:cubicBezTo>
                  <a:pt x="6859" y="12395"/>
                  <a:pt x="7058" y="12402"/>
                  <a:pt x="7268" y="12402"/>
                </a:cubicBezTo>
                <a:cubicBezTo>
                  <a:pt x="7419" y="12402"/>
                  <a:pt x="7563" y="12378"/>
                  <a:pt x="7714" y="12378"/>
                </a:cubicBezTo>
                <a:cubicBezTo>
                  <a:pt x="7790" y="12378"/>
                  <a:pt x="7816" y="12378"/>
                  <a:pt x="7863" y="12353"/>
                </a:cubicBezTo>
              </a:path>
              <a:path w="6748" h="7244">
                <a:moveTo>
                  <a:pt x="6970" y="12923"/>
                </a:moveTo>
                <a:cubicBezTo>
                  <a:pt x="6970" y="13005"/>
                  <a:pt x="6954" y="13068"/>
                  <a:pt x="6945" y="13146"/>
                </a:cubicBezTo>
                <a:cubicBezTo>
                  <a:pt x="6926" y="13308"/>
                  <a:pt x="6942" y="13485"/>
                  <a:pt x="6970" y="13643"/>
                </a:cubicBezTo>
                <a:cubicBezTo>
                  <a:pt x="6980" y="13700"/>
                  <a:pt x="6993" y="13873"/>
                  <a:pt x="7069" y="13915"/>
                </a:cubicBezTo>
                <a:cubicBezTo>
                  <a:pt x="7077" y="13915"/>
                  <a:pt x="7086" y="13915"/>
                  <a:pt x="7094" y="13915"/>
                </a:cubicBezTo>
              </a:path>
              <a:path w="6748" h="7244">
                <a:moveTo>
                  <a:pt x="7367" y="12923"/>
                </a:moveTo>
                <a:cubicBezTo>
                  <a:pt x="7469" y="12876"/>
                  <a:pt x="7554" y="12827"/>
                  <a:pt x="7665" y="12824"/>
                </a:cubicBezTo>
                <a:cubicBezTo>
                  <a:pt x="7743" y="12822"/>
                  <a:pt x="7817" y="12837"/>
                  <a:pt x="7838" y="12774"/>
                </a:cubicBezTo>
              </a:path>
              <a:path w="6748" h="7244">
                <a:moveTo>
                  <a:pt x="7417" y="12898"/>
                </a:moveTo>
                <a:cubicBezTo>
                  <a:pt x="7366" y="12985"/>
                  <a:pt x="7357" y="12996"/>
                  <a:pt x="7367" y="13072"/>
                </a:cubicBezTo>
                <a:cubicBezTo>
                  <a:pt x="7371" y="13105"/>
                  <a:pt x="7404" y="13203"/>
                  <a:pt x="7441" y="13221"/>
                </a:cubicBezTo>
                <a:cubicBezTo>
                  <a:pt x="7492" y="13247"/>
                  <a:pt x="7558" y="13265"/>
                  <a:pt x="7615" y="13295"/>
                </a:cubicBezTo>
                <a:cubicBezTo>
                  <a:pt x="7704" y="13341"/>
                  <a:pt x="7790" y="13375"/>
                  <a:pt x="7863" y="13444"/>
                </a:cubicBezTo>
                <a:cubicBezTo>
                  <a:pt x="7954" y="13529"/>
                  <a:pt x="8003" y="13625"/>
                  <a:pt x="8037" y="13742"/>
                </a:cubicBezTo>
                <a:cubicBezTo>
                  <a:pt x="8059" y="13818"/>
                  <a:pt x="8130" y="13966"/>
                  <a:pt x="8062" y="14039"/>
                </a:cubicBezTo>
                <a:cubicBezTo>
                  <a:pt x="7990" y="14117"/>
                  <a:pt x="7898" y="14123"/>
                  <a:pt x="7813" y="14114"/>
                </a:cubicBezTo>
                <a:cubicBezTo>
                  <a:pt x="7706" y="14103"/>
                  <a:pt x="7607" y="14076"/>
                  <a:pt x="7516" y="14015"/>
                </a:cubicBezTo>
                <a:cubicBezTo>
                  <a:pt x="7483" y="13990"/>
                  <a:pt x="7450" y="13965"/>
                  <a:pt x="7417" y="13940"/>
                </a:cubicBezTo>
              </a:path>
              <a:path w="6748" h="7244">
                <a:moveTo>
                  <a:pt x="5308" y="12254"/>
                </a:moveTo>
                <a:cubicBezTo>
                  <a:pt x="5560" y="12379"/>
                  <a:pt x="5813" y="12503"/>
                  <a:pt x="6052" y="12650"/>
                </a:cubicBezTo>
                <a:cubicBezTo>
                  <a:pt x="6239" y="12765"/>
                  <a:pt x="6411" y="12908"/>
                  <a:pt x="6598" y="13022"/>
                </a:cubicBezTo>
                <a:cubicBezTo>
                  <a:pt x="6667" y="13064"/>
                  <a:pt x="6731" y="13101"/>
                  <a:pt x="6796" y="13146"/>
                </a:cubicBezTo>
                <a:cubicBezTo>
                  <a:pt x="6819" y="13086"/>
                  <a:pt x="6821" y="13051"/>
                  <a:pt x="6821" y="12973"/>
                </a:cubicBezTo>
              </a:path>
              <a:path w="6748" h="7244">
                <a:moveTo>
                  <a:pt x="6325" y="12005"/>
                </a:moveTo>
                <a:cubicBezTo>
                  <a:pt x="6184" y="12123"/>
                  <a:pt x="6098" y="12242"/>
                  <a:pt x="5978" y="12378"/>
                </a:cubicBezTo>
                <a:cubicBezTo>
                  <a:pt x="5866" y="12504"/>
                  <a:pt x="5744" y="12625"/>
                  <a:pt x="5631" y="12750"/>
                </a:cubicBezTo>
                <a:cubicBezTo>
                  <a:pt x="5539" y="12852"/>
                  <a:pt x="5441" y="12948"/>
                  <a:pt x="5358" y="13047"/>
                </a:cubicBezTo>
                <a:cubicBezTo>
                  <a:pt x="5293" y="13124"/>
                  <a:pt x="5247" y="13214"/>
                  <a:pt x="5184" y="13295"/>
                </a:cubicBezTo>
                <a:cubicBezTo>
                  <a:pt x="5155" y="13332"/>
                  <a:pt x="5134" y="13388"/>
                  <a:pt x="5110" y="13419"/>
                </a:cubicBezTo>
                <a:cubicBezTo>
                  <a:pt x="5085" y="13451"/>
                  <a:pt x="5110" y="13463"/>
                  <a:pt x="5085" y="13494"/>
                </a:cubicBezTo>
                <a:cubicBezTo>
                  <a:pt x="5077" y="13494"/>
                  <a:pt x="5068" y="13494"/>
                  <a:pt x="5060" y="13494"/>
                </a:cubicBezTo>
              </a:path>
              <a:path w="6748" h="7244">
                <a:moveTo>
                  <a:pt x="4589" y="14486"/>
                </a:moveTo>
                <a:cubicBezTo>
                  <a:pt x="4575" y="14557"/>
                  <a:pt x="4564" y="14606"/>
                  <a:pt x="4564" y="14684"/>
                </a:cubicBezTo>
                <a:cubicBezTo>
                  <a:pt x="4564" y="14757"/>
                  <a:pt x="4567" y="14840"/>
                  <a:pt x="4589" y="14908"/>
                </a:cubicBezTo>
                <a:cubicBezTo>
                  <a:pt x="4599" y="14938"/>
                  <a:pt x="4617" y="15064"/>
                  <a:pt x="4638" y="15081"/>
                </a:cubicBezTo>
                <a:cubicBezTo>
                  <a:pt x="4673" y="15081"/>
                  <a:pt x="4686" y="15072"/>
                  <a:pt x="4688" y="15032"/>
                </a:cubicBezTo>
              </a:path>
              <a:path w="6748" h="7244">
                <a:moveTo>
                  <a:pt x="4986" y="14436"/>
                </a:moveTo>
                <a:cubicBezTo>
                  <a:pt x="5097" y="14409"/>
                  <a:pt x="5323" y="14451"/>
                  <a:pt x="5308" y="14337"/>
                </a:cubicBezTo>
                <a:cubicBezTo>
                  <a:pt x="5300" y="14329"/>
                  <a:pt x="5291" y="14320"/>
                  <a:pt x="5283" y="14312"/>
                </a:cubicBezTo>
              </a:path>
              <a:path w="6748" h="7244">
                <a:moveTo>
                  <a:pt x="4862" y="14436"/>
                </a:moveTo>
                <a:cubicBezTo>
                  <a:pt x="4864" y="14471"/>
                  <a:pt x="4853" y="14642"/>
                  <a:pt x="4911" y="14660"/>
                </a:cubicBezTo>
                <a:cubicBezTo>
                  <a:pt x="4969" y="14678"/>
                  <a:pt x="5030" y="14690"/>
                  <a:pt x="5085" y="14709"/>
                </a:cubicBezTo>
                <a:cubicBezTo>
                  <a:pt x="5133" y="14726"/>
                  <a:pt x="5219" y="14777"/>
                  <a:pt x="5259" y="14808"/>
                </a:cubicBezTo>
                <a:cubicBezTo>
                  <a:pt x="5319" y="14854"/>
                  <a:pt x="5346" y="14911"/>
                  <a:pt x="5358" y="14982"/>
                </a:cubicBezTo>
                <a:cubicBezTo>
                  <a:pt x="5368" y="15039"/>
                  <a:pt x="5354" y="15116"/>
                  <a:pt x="5308" y="15156"/>
                </a:cubicBezTo>
                <a:cubicBezTo>
                  <a:pt x="5256" y="15200"/>
                  <a:pt x="5180" y="15243"/>
                  <a:pt x="5110" y="15230"/>
                </a:cubicBezTo>
                <a:cubicBezTo>
                  <a:pt x="5064" y="15221"/>
                  <a:pt x="4994" y="15161"/>
                  <a:pt x="4961" y="15131"/>
                </a:cubicBezTo>
                <a:cubicBezTo>
                  <a:pt x="4931" y="15101"/>
                  <a:pt x="4920" y="15087"/>
                  <a:pt x="4911" y="15056"/>
                </a:cubicBezTo>
              </a:path>
              <a:path w="6748" h="7244">
                <a:moveTo>
                  <a:pt x="5631" y="14784"/>
                </a:moveTo>
                <a:cubicBezTo>
                  <a:pt x="5776" y="14981"/>
                  <a:pt x="5886" y="15135"/>
                  <a:pt x="6077" y="15304"/>
                </a:cubicBezTo>
                <a:cubicBezTo>
                  <a:pt x="6154" y="15356"/>
                  <a:pt x="6182" y="15372"/>
                  <a:pt x="6251" y="15354"/>
                </a:cubicBezTo>
              </a:path>
              <a:path w="6748" h="7244">
                <a:moveTo>
                  <a:pt x="6028" y="14709"/>
                </a:moveTo>
                <a:cubicBezTo>
                  <a:pt x="5926" y="14796"/>
                  <a:pt x="5865" y="14881"/>
                  <a:pt x="5779" y="14982"/>
                </a:cubicBezTo>
                <a:cubicBezTo>
                  <a:pt x="5708" y="15066"/>
                  <a:pt x="5697" y="15162"/>
                  <a:pt x="5655" y="15255"/>
                </a:cubicBezTo>
                <a:cubicBezTo>
                  <a:pt x="5634" y="15302"/>
                  <a:pt x="5631" y="15304"/>
                  <a:pt x="5680" y="15280"/>
                </a:cubicBezTo>
              </a:path>
              <a:path w="6748" h="7244">
                <a:moveTo>
                  <a:pt x="6424" y="14808"/>
                </a:moveTo>
                <a:cubicBezTo>
                  <a:pt x="6474" y="14808"/>
                  <a:pt x="6523" y="14808"/>
                  <a:pt x="6573" y="14808"/>
                </a:cubicBezTo>
              </a:path>
              <a:path w="6748" h="7244">
                <a:moveTo>
                  <a:pt x="6400" y="15007"/>
                </a:moveTo>
                <a:cubicBezTo>
                  <a:pt x="6529" y="15030"/>
                  <a:pt x="6597" y="15039"/>
                  <a:pt x="6722" y="15007"/>
                </a:cubicBezTo>
              </a:path>
              <a:path w="6748" h="7244">
                <a:moveTo>
                  <a:pt x="7045" y="14585"/>
                </a:moveTo>
                <a:cubicBezTo>
                  <a:pt x="7120" y="14576"/>
                  <a:pt x="7273" y="14546"/>
                  <a:pt x="7342" y="14610"/>
                </a:cubicBezTo>
                <a:cubicBezTo>
                  <a:pt x="7355" y="14623"/>
                  <a:pt x="7423" y="14713"/>
                  <a:pt x="7417" y="14734"/>
                </a:cubicBezTo>
                <a:cubicBezTo>
                  <a:pt x="7397" y="14804"/>
                  <a:pt x="7326" y="14850"/>
                  <a:pt x="7268" y="14883"/>
                </a:cubicBezTo>
                <a:cubicBezTo>
                  <a:pt x="7217" y="14911"/>
                  <a:pt x="7079" y="14999"/>
                  <a:pt x="7119" y="14957"/>
                </a:cubicBezTo>
                <a:cubicBezTo>
                  <a:pt x="7142" y="14933"/>
                  <a:pt x="7183" y="14919"/>
                  <a:pt x="7218" y="14932"/>
                </a:cubicBezTo>
                <a:cubicBezTo>
                  <a:pt x="7288" y="14957"/>
                  <a:pt x="7328" y="14965"/>
                  <a:pt x="7367" y="15032"/>
                </a:cubicBezTo>
                <a:cubicBezTo>
                  <a:pt x="7413" y="15109"/>
                  <a:pt x="7443" y="15140"/>
                  <a:pt x="7417" y="15230"/>
                </a:cubicBezTo>
                <a:cubicBezTo>
                  <a:pt x="7386" y="15335"/>
                  <a:pt x="7351" y="15349"/>
                  <a:pt x="7268" y="15379"/>
                </a:cubicBezTo>
                <a:cubicBezTo>
                  <a:pt x="7234" y="15391"/>
                  <a:pt x="7160" y="15427"/>
                  <a:pt x="7119" y="15404"/>
                </a:cubicBezTo>
                <a:cubicBezTo>
                  <a:pt x="7067" y="15375"/>
                  <a:pt x="7052" y="15331"/>
                  <a:pt x="7045" y="15280"/>
                </a:cubicBezTo>
              </a:path>
              <a:path w="6748" h="7244">
                <a:moveTo>
                  <a:pt x="7987" y="14585"/>
                </a:moveTo>
                <a:cubicBezTo>
                  <a:pt x="7979" y="14642"/>
                  <a:pt x="7957" y="14703"/>
                  <a:pt x="7938" y="14759"/>
                </a:cubicBezTo>
                <a:cubicBezTo>
                  <a:pt x="7915" y="14828"/>
                  <a:pt x="7876" y="14906"/>
                  <a:pt x="7888" y="14982"/>
                </a:cubicBezTo>
                <a:cubicBezTo>
                  <a:pt x="7900" y="15062"/>
                  <a:pt x="7953" y="15158"/>
                  <a:pt x="7987" y="15230"/>
                </a:cubicBezTo>
                <a:cubicBezTo>
                  <a:pt x="8027" y="15314"/>
                  <a:pt x="8092" y="15351"/>
                  <a:pt x="8161" y="15404"/>
                </a:cubicBezTo>
                <a:cubicBezTo>
                  <a:pt x="8208" y="15441"/>
                  <a:pt x="8263" y="15443"/>
                  <a:pt x="8310" y="15404"/>
                </a:cubicBezTo>
                <a:cubicBezTo>
                  <a:pt x="8360" y="15363"/>
                  <a:pt x="8382" y="15291"/>
                  <a:pt x="8384" y="15230"/>
                </a:cubicBezTo>
                <a:cubicBezTo>
                  <a:pt x="8386" y="15181"/>
                  <a:pt x="8381" y="15032"/>
                  <a:pt x="8310" y="15007"/>
                </a:cubicBezTo>
                <a:cubicBezTo>
                  <a:pt x="8255" y="14987"/>
                  <a:pt x="8198" y="15021"/>
                  <a:pt x="8161" y="15056"/>
                </a:cubicBezTo>
                <a:cubicBezTo>
                  <a:pt x="8087" y="15124"/>
                  <a:pt x="8072" y="15207"/>
                  <a:pt x="8062" y="15304"/>
                </a:cubicBezTo>
                <a:cubicBezTo>
                  <a:pt x="8055" y="15369"/>
                  <a:pt x="8062" y="15438"/>
                  <a:pt x="8062" y="15503"/>
                </a:cubicBezTo>
              </a:path>
              <a:path w="6748" h="7244">
                <a:moveTo>
                  <a:pt x="4589" y="15354"/>
                </a:moveTo>
                <a:cubicBezTo>
                  <a:pt x="4627" y="15331"/>
                  <a:pt x="4690" y="15292"/>
                  <a:pt x="4738" y="15280"/>
                </a:cubicBezTo>
                <a:cubicBezTo>
                  <a:pt x="4899" y="15241"/>
                  <a:pt x="5045" y="15230"/>
                  <a:pt x="5209" y="15230"/>
                </a:cubicBezTo>
                <a:cubicBezTo>
                  <a:pt x="5419" y="15230"/>
                  <a:pt x="5625" y="15227"/>
                  <a:pt x="5829" y="15255"/>
                </a:cubicBezTo>
                <a:cubicBezTo>
                  <a:pt x="5898" y="15264"/>
                  <a:pt x="5948" y="15239"/>
                  <a:pt x="6003" y="15280"/>
                </a:cubicBezTo>
              </a:path>
              <a:path w="6748" h="7244">
                <a:moveTo>
                  <a:pt x="5060" y="15677"/>
                </a:moveTo>
                <a:cubicBezTo>
                  <a:pt x="5050" y="15824"/>
                  <a:pt x="5052" y="15947"/>
                  <a:pt x="5060" y="16098"/>
                </a:cubicBezTo>
                <a:cubicBezTo>
                  <a:pt x="5063" y="16158"/>
                  <a:pt x="5097" y="16167"/>
                  <a:pt x="5135" y="16148"/>
                </a:cubicBezTo>
              </a:path>
              <a:path w="6748" h="7244">
                <a:moveTo>
                  <a:pt x="5457" y="15677"/>
                </a:moveTo>
                <a:cubicBezTo>
                  <a:pt x="5553" y="15638"/>
                  <a:pt x="5638" y="15633"/>
                  <a:pt x="5730" y="15602"/>
                </a:cubicBezTo>
                <a:cubicBezTo>
                  <a:pt x="5773" y="15580"/>
                  <a:pt x="5784" y="15576"/>
                  <a:pt x="5804" y="15553"/>
                </a:cubicBezTo>
              </a:path>
              <a:path w="6748" h="7244">
                <a:moveTo>
                  <a:pt x="5507" y="15627"/>
                </a:moveTo>
                <a:cubicBezTo>
                  <a:pt x="5462" y="15672"/>
                  <a:pt x="5370" y="15735"/>
                  <a:pt x="5432" y="15801"/>
                </a:cubicBezTo>
                <a:cubicBezTo>
                  <a:pt x="5477" y="15849"/>
                  <a:pt x="5547" y="15909"/>
                  <a:pt x="5606" y="15949"/>
                </a:cubicBezTo>
                <a:cubicBezTo>
                  <a:pt x="5691" y="16006"/>
                  <a:pt x="5733" y="16038"/>
                  <a:pt x="5705" y="16123"/>
                </a:cubicBezTo>
                <a:cubicBezTo>
                  <a:pt x="5688" y="16174"/>
                  <a:pt x="5610" y="16157"/>
                  <a:pt x="5556" y="16173"/>
                </a:cubicBezTo>
                <a:cubicBezTo>
                  <a:pt x="5498" y="16190"/>
                  <a:pt x="5465" y="16208"/>
                  <a:pt x="5407" y="16173"/>
                </a:cubicBezTo>
                <a:cubicBezTo>
                  <a:pt x="5362" y="16146"/>
                  <a:pt x="5423" y="16121"/>
                  <a:pt x="5457" y="16098"/>
                </a:cubicBezTo>
              </a:path>
              <a:path w="6748" h="7244">
                <a:moveTo>
                  <a:pt x="7243" y="15553"/>
                </a:moveTo>
                <a:cubicBezTo>
                  <a:pt x="7385" y="15533"/>
                  <a:pt x="7544" y="15508"/>
                  <a:pt x="7689" y="15528"/>
                </a:cubicBezTo>
                <a:cubicBezTo>
                  <a:pt x="7850" y="15550"/>
                  <a:pt x="7998" y="15622"/>
                  <a:pt x="8161" y="15627"/>
                </a:cubicBezTo>
                <a:cubicBezTo>
                  <a:pt x="8194" y="15627"/>
                  <a:pt x="8227" y="15627"/>
                  <a:pt x="8260" y="15627"/>
                </a:cubicBezTo>
              </a:path>
              <a:path w="6748" h="7244">
                <a:moveTo>
                  <a:pt x="7789" y="15925"/>
                </a:moveTo>
                <a:cubicBezTo>
                  <a:pt x="7753" y="16108"/>
                  <a:pt x="7711" y="16305"/>
                  <a:pt x="7739" y="16495"/>
                </a:cubicBezTo>
                <a:cubicBezTo>
                  <a:pt x="7742" y="16513"/>
                  <a:pt x="7764" y="16606"/>
                  <a:pt x="7789" y="16594"/>
                </a:cubicBezTo>
                <a:cubicBezTo>
                  <a:pt x="7797" y="16586"/>
                  <a:pt x="7805" y="16578"/>
                  <a:pt x="7813" y="16570"/>
                </a:cubicBezTo>
              </a:path>
              <a:path w="6748" h="7244">
                <a:moveTo>
                  <a:pt x="8186" y="15949"/>
                </a:moveTo>
                <a:cubicBezTo>
                  <a:pt x="8274" y="15932"/>
                  <a:pt x="8345" y="15925"/>
                  <a:pt x="8434" y="15925"/>
                </a:cubicBezTo>
              </a:path>
              <a:path w="6748" h="7244">
                <a:moveTo>
                  <a:pt x="8285" y="15850"/>
                </a:moveTo>
                <a:cubicBezTo>
                  <a:pt x="8213" y="15945"/>
                  <a:pt x="8184" y="15935"/>
                  <a:pt x="8235" y="16049"/>
                </a:cubicBezTo>
                <a:cubicBezTo>
                  <a:pt x="8278" y="16144"/>
                  <a:pt x="8336" y="16229"/>
                  <a:pt x="8384" y="16321"/>
                </a:cubicBezTo>
                <a:cubicBezTo>
                  <a:pt x="8431" y="16410"/>
                  <a:pt x="8489" y="16492"/>
                  <a:pt x="8508" y="16594"/>
                </a:cubicBezTo>
                <a:cubicBezTo>
                  <a:pt x="8526" y="16690"/>
                  <a:pt x="8479" y="16776"/>
                  <a:pt x="8409" y="16842"/>
                </a:cubicBezTo>
                <a:cubicBezTo>
                  <a:pt x="8333" y="16914"/>
                  <a:pt x="8240" y="16887"/>
                  <a:pt x="8161" y="16842"/>
                </a:cubicBezTo>
                <a:cubicBezTo>
                  <a:pt x="8067" y="16788"/>
                  <a:pt x="8008" y="16747"/>
                  <a:pt x="7938" y="16669"/>
                </a:cubicBezTo>
              </a:path>
              <a:path w="6748" h="7244">
                <a:moveTo>
                  <a:pt x="4837" y="14461"/>
                </a:moveTo>
                <a:cubicBezTo>
                  <a:pt x="4905" y="14612"/>
                  <a:pt x="4939" y="14774"/>
                  <a:pt x="4986" y="14932"/>
                </a:cubicBezTo>
                <a:cubicBezTo>
                  <a:pt x="5044" y="15128"/>
                  <a:pt x="5121" y="15319"/>
                  <a:pt x="5209" y="15503"/>
                </a:cubicBezTo>
                <a:cubicBezTo>
                  <a:pt x="5318" y="15730"/>
                  <a:pt x="5464" y="15941"/>
                  <a:pt x="5606" y="16148"/>
                </a:cubicBezTo>
              </a:path>
              <a:path w="6748" h="7244">
                <a:moveTo>
                  <a:pt x="5730" y="16966"/>
                </a:moveTo>
                <a:cubicBezTo>
                  <a:pt x="5668" y="17160"/>
                  <a:pt x="5641" y="17340"/>
                  <a:pt x="5606" y="17537"/>
                </a:cubicBezTo>
                <a:cubicBezTo>
                  <a:pt x="5582" y="17673"/>
                  <a:pt x="5577" y="17769"/>
                  <a:pt x="5606" y="17909"/>
                </a:cubicBezTo>
                <a:cubicBezTo>
                  <a:pt x="5614" y="17917"/>
                  <a:pt x="5623" y="17926"/>
                  <a:pt x="5631" y="17934"/>
                </a:cubicBezTo>
                <a:cubicBezTo>
                  <a:pt x="5637" y="17808"/>
                  <a:pt x="5634" y="17686"/>
                  <a:pt x="5655" y="17562"/>
                </a:cubicBezTo>
                <a:cubicBezTo>
                  <a:pt x="5680" y="17415"/>
                  <a:pt x="5715" y="17278"/>
                  <a:pt x="5755" y="17140"/>
                </a:cubicBezTo>
                <a:cubicBezTo>
                  <a:pt x="5819" y="16919"/>
                  <a:pt x="5833" y="16793"/>
                  <a:pt x="6028" y="16669"/>
                </a:cubicBezTo>
                <a:cubicBezTo>
                  <a:pt x="6168" y="16580"/>
                  <a:pt x="6364" y="16578"/>
                  <a:pt x="6524" y="16570"/>
                </a:cubicBezTo>
                <a:cubicBezTo>
                  <a:pt x="6997" y="16545"/>
                  <a:pt x="7492" y="16563"/>
                  <a:pt x="7962" y="16594"/>
                </a:cubicBezTo>
                <a:cubicBezTo>
                  <a:pt x="8319" y="16618"/>
                  <a:pt x="8672" y="16679"/>
                  <a:pt x="9029" y="16694"/>
                </a:cubicBezTo>
                <a:cubicBezTo>
                  <a:pt x="9280" y="16704"/>
                  <a:pt x="9526" y="16681"/>
                  <a:pt x="9773" y="16669"/>
                </a:cubicBezTo>
                <a:cubicBezTo>
                  <a:pt x="9881" y="16664"/>
                  <a:pt x="9993" y="16639"/>
                  <a:pt x="10096" y="16644"/>
                </a:cubicBezTo>
                <a:cubicBezTo>
                  <a:pt x="10199" y="16649"/>
                  <a:pt x="10183" y="16673"/>
                  <a:pt x="10220" y="16768"/>
                </a:cubicBezTo>
                <a:cubicBezTo>
                  <a:pt x="10265" y="16884"/>
                  <a:pt x="10269" y="16995"/>
                  <a:pt x="10294" y="17115"/>
                </a:cubicBezTo>
                <a:cubicBezTo>
                  <a:pt x="10331" y="17296"/>
                  <a:pt x="10326" y="17479"/>
                  <a:pt x="10344" y="17661"/>
                </a:cubicBezTo>
                <a:cubicBezTo>
                  <a:pt x="10371" y="17937"/>
                  <a:pt x="10350" y="18212"/>
                  <a:pt x="10319" y="18479"/>
                </a:cubicBezTo>
                <a:cubicBezTo>
                  <a:pt x="10319" y="18487"/>
                  <a:pt x="10319" y="18496"/>
                  <a:pt x="10319" y="18504"/>
                </a:cubicBezTo>
                <a:cubicBezTo>
                  <a:pt x="10297" y="18496"/>
                  <a:pt x="10275" y="18456"/>
                  <a:pt x="10244" y="18455"/>
                </a:cubicBezTo>
                <a:cubicBezTo>
                  <a:pt x="10197" y="18453"/>
                  <a:pt x="10129" y="18474"/>
                  <a:pt x="10071" y="18479"/>
                </a:cubicBezTo>
                <a:cubicBezTo>
                  <a:pt x="9866" y="18497"/>
                  <a:pt x="9656" y="18500"/>
                  <a:pt x="9451" y="18455"/>
                </a:cubicBezTo>
                <a:cubicBezTo>
                  <a:pt x="9118" y="18382"/>
                  <a:pt x="8793" y="18274"/>
                  <a:pt x="8458" y="18207"/>
                </a:cubicBezTo>
                <a:cubicBezTo>
                  <a:pt x="7965" y="18108"/>
                  <a:pt x="7495" y="18113"/>
                  <a:pt x="6995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1080" y="6153120"/>
            <a:ext cx="507960" cy="312840"/>
          </a:xfrm>
          <a:custGeom>
            <a:avLst/>
            <a:gdLst/>
            <a:ahLst/>
            <a:rect l="l" t="t" r="r" b="b"/>
            <a:pathLst>
              <a:path w="1415" h="870">
                <a:moveTo>
                  <a:pt x="6251" y="17165"/>
                </a:moveTo>
                <a:cubicBezTo>
                  <a:pt x="6347" y="17310"/>
                  <a:pt x="6451" y="17436"/>
                  <a:pt x="6573" y="17562"/>
                </a:cubicBezTo>
                <a:cubicBezTo>
                  <a:pt x="6667" y="17659"/>
                  <a:pt x="6742" y="17756"/>
                  <a:pt x="6871" y="17785"/>
                </a:cubicBezTo>
              </a:path>
              <a:path w="1415" h="870">
                <a:moveTo>
                  <a:pt x="6722" y="17090"/>
                </a:moveTo>
                <a:cubicBezTo>
                  <a:pt x="6631" y="17205"/>
                  <a:pt x="6523" y="17310"/>
                  <a:pt x="6449" y="17438"/>
                </a:cubicBezTo>
                <a:cubicBezTo>
                  <a:pt x="6385" y="17549"/>
                  <a:pt x="6298" y="17708"/>
                  <a:pt x="6276" y="17835"/>
                </a:cubicBezTo>
                <a:cubicBezTo>
                  <a:pt x="6276" y="17901"/>
                  <a:pt x="6276" y="17918"/>
                  <a:pt x="6276" y="17959"/>
                </a:cubicBezTo>
              </a:path>
              <a:path w="1415" h="870">
                <a:moveTo>
                  <a:pt x="7119" y="17289"/>
                </a:moveTo>
                <a:cubicBezTo>
                  <a:pt x="7235" y="17266"/>
                  <a:pt x="7358" y="17251"/>
                  <a:pt x="7466" y="17214"/>
                </a:cubicBezTo>
              </a:path>
              <a:path w="1415" h="870">
                <a:moveTo>
                  <a:pt x="7317" y="17438"/>
                </a:moveTo>
                <a:cubicBezTo>
                  <a:pt x="7449" y="17546"/>
                  <a:pt x="7507" y="17588"/>
                  <a:pt x="7665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2160" y="6170760"/>
            <a:ext cx="447840" cy="428400"/>
          </a:xfrm>
          <a:custGeom>
            <a:avLst/>
            <a:gdLst/>
            <a:ahLst/>
            <a:rect l="l" t="t" r="r" b="b"/>
            <a:pathLst>
              <a:path w="1241" h="1192">
                <a:moveTo>
                  <a:pt x="8558" y="17190"/>
                </a:moveTo>
                <a:cubicBezTo>
                  <a:pt x="8558" y="17237"/>
                  <a:pt x="8538" y="17269"/>
                  <a:pt x="8533" y="17314"/>
                </a:cubicBezTo>
                <a:cubicBezTo>
                  <a:pt x="8527" y="17373"/>
                  <a:pt x="8523" y="17414"/>
                  <a:pt x="8508" y="17462"/>
                </a:cubicBezTo>
                <a:cubicBezTo>
                  <a:pt x="8491" y="17517"/>
                  <a:pt x="8491" y="17639"/>
                  <a:pt x="8533" y="17611"/>
                </a:cubicBezTo>
              </a:path>
              <a:path w="1241" h="1192">
                <a:moveTo>
                  <a:pt x="8806" y="17214"/>
                </a:moveTo>
                <a:cubicBezTo>
                  <a:pt x="8844" y="17203"/>
                  <a:pt x="8935" y="17169"/>
                  <a:pt x="8979" y="17190"/>
                </a:cubicBezTo>
                <a:cubicBezTo>
                  <a:pt x="9028" y="17214"/>
                  <a:pt x="9027" y="17209"/>
                  <a:pt x="9004" y="17239"/>
                </a:cubicBezTo>
                <a:cubicBezTo>
                  <a:pt x="8977" y="17275"/>
                  <a:pt x="8937" y="17306"/>
                  <a:pt x="8905" y="17338"/>
                </a:cubicBezTo>
                <a:cubicBezTo>
                  <a:pt x="8861" y="17382"/>
                  <a:pt x="8833" y="17429"/>
                  <a:pt x="8830" y="17487"/>
                </a:cubicBezTo>
                <a:cubicBezTo>
                  <a:pt x="8827" y="17532"/>
                  <a:pt x="8870" y="17628"/>
                  <a:pt x="8905" y="17661"/>
                </a:cubicBezTo>
                <a:cubicBezTo>
                  <a:pt x="8953" y="17706"/>
                  <a:pt x="9007" y="17700"/>
                  <a:pt x="9054" y="17686"/>
                </a:cubicBezTo>
              </a:path>
              <a:path w="1241" h="1192">
                <a:moveTo>
                  <a:pt x="9376" y="17140"/>
                </a:moveTo>
                <a:cubicBezTo>
                  <a:pt x="9308" y="17264"/>
                  <a:pt x="9215" y="17399"/>
                  <a:pt x="9178" y="17537"/>
                </a:cubicBezTo>
                <a:cubicBezTo>
                  <a:pt x="9138" y="17684"/>
                  <a:pt x="9077" y="17815"/>
                  <a:pt x="9029" y="17959"/>
                </a:cubicBezTo>
                <a:cubicBezTo>
                  <a:pt x="8995" y="18059"/>
                  <a:pt x="8961" y="18177"/>
                  <a:pt x="8954" y="18281"/>
                </a:cubicBezTo>
                <a:cubicBezTo>
                  <a:pt x="8954" y="18289"/>
                  <a:pt x="8954" y="18298"/>
                  <a:pt x="8954" y="18306"/>
                </a:cubicBezTo>
              </a:path>
              <a:path w="1241" h="1192">
                <a:moveTo>
                  <a:pt x="9500" y="17810"/>
                </a:moveTo>
                <a:cubicBezTo>
                  <a:pt x="9598" y="17750"/>
                  <a:pt x="9613" y="17738"/>
                  <a:pt x="9674" y="17711"/>
                </a:cubicBezTo>
              </a:path>
              <a:path w="1241" h="1192">
                <a:moveTo>
                  <a:pt x="9575" y="17611"/>
                </a:moveTo>
                <a:cubicBezTo>
                  <a:pt x="9539" y="17652"/>
                  <a:pt x="9479" y="17705"/>
                  <a:pt x="9475" y="17760"/>
                </a:cubicBezTo>
                <a:cubicBezTo>
                  <a:pt x="9469" y="17844"/>
                  <a:pt x="9485" y="17847"/>
                  <a:pt x="9525" y="17909"/>
                </a:cubicBezTo>
                <a:cubicBezTo>
                  <a:pt x="9558" y="17960"/>
                  <a:pt x="9583" y="18013"/>
                  <a:pt x="9624" y="18058"/>
                </a:cubicBezTo>
                <a:cubicBezTo>
                  <a:pt x="9653" y="18090"/>
                  <a:pt x="9703" y="18086"/>
                  <a:pt x="9723" y="18132"/>
                </a:cubicBezTo>
                <a:cubicBezTo>
                  <a:pt x="9733" y="18156"/>
                  <a:pt x="9763" y="18166"/>
                  <a:pt x="9748" y="18207"/>
                </a:cubicBezTo>
                <a:cubicBezTo>
                  <a:pt x="9721" y="18280"/>
                  <a:pt x="9686" y="18281"/>
                  <a:pt x="9624" y="18306"/>
                </a:cubicBezTo>
                <a:cubicBezTo>
                  <a:pt x="9537" y="18341"/>
                  <a:pt x="9466" y="18325"/>
                  <a:pt x="9376" y="18306"/>
                </a:cubicBezTo>
                <a:cubicBezTo>
                  <a:pt x="9231" y="18276"/>
                  <a:pt x="9112" y="18170"/>
                  <a:pt x="8979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e6e3aa"/>
                </a:solidFill>
                <a:latin typeface="Garamond"/>
              </a:rPr>
              <a:t>Place Important Paper #5 into your binder</a:t>
            </a:r>
            <a:endParaRPr b="1" lang="en-US" sz="5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Law of Sine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 letters are the angles of the triangle and lowercase letters are the sides opposite those ang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used as is or in reciproca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two of the three parts are needed and are solved like a propo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 all solutions, round answers to one decimal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19:25Z</dcterms:created>
  <dc:creator>jnewman</dc:creator>
  <dc:description/>
  <dc:language>en-US</dc:language>
  <cp:lastModifiedBy>abeason</cp:lastModifiedBy>
  <dcterms:modified xsi:type="dcterms:W3CDTF">2009-01-20T18:10:03Z</dcterms:modified>
  <cp:revision>12</cp:revision>
  <dc:subject/>
  <dc:title>Monday, December 17th</dc:title>
</cp:coreProperties>
</file>